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405-67A6-4241-B4BA-EF920B93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759-F2A0-41B0-A5A4-C35F686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BAD-1780-4682-BE06-84B57860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00F-A991-45F3-81A2-42A47AF4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BE8-793E-4468-82DD-EC70A00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B7E-A317-42E8-93B4-16A3CAB0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E32-77FE-406D-B8DF-1D6C3B1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F6D-91EC-4E3E-8EF2-7A8CBAF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BAD-B07D-439B-8A1C-8C4E07C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B91-E10F-4446-AB43-83124295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D7E-3EBF-4A33-8340-71BB8C9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D1B-FEA2-4163-A0F6-738E8C3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9AB6-E445-4F29-B6A9-02CD417E29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stleni.skovstudio.cz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Unipolární tranzistory MES F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tranzistory MESFET vysvětluje jejich význam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a použi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ESFET TRANZI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304920" y="190512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 MESFET se chová podobně jako tranzistor JF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tranzistorů MESFET je řídící hradlo od přenosového kanálu odděleno schottkyho přechodem kov-polovodi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tranzistory vynikají svou rychlostí, jsou schopny pracovat na frekvencích v oblasti až desítek G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MOS s indukovaným kan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35"/>
          <p:cNvSpPr/>
          <p:nvPr/>
        </p:nvSpPr>
        <p:spPr>
          <a:xfrm>
            <a:off x="1828800" y="525780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zistor je možné řídit pouze zvyšováním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ladným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ložením kladného řídícího napětí dojde k vytvoření vyprázdněn oblasti pod řídícím hrad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20" y="5373720"/>
            <a:ext cx="15238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53" name="Skupina 111"/>
          <p:cNvGrpSpPr/>
          <p:nvPr/>
        </p:nvGrpSpPr>
        <p:grpSpPr>
          <a:xfrm>
            <a:off x="4206960" y="2438280"/>
            <a:ext cx="4937040" cy="3182760"/>
            <a:chOff x="4206960" y="2438280"/>
            <a:chExt cx="4937040" cy="3182760"/>
          </a:xfrm>
        </p:grpSpPr>
        <p:grpSp>
          <p:nvGrpSpPr>
            <p:cNvPr id="54" name="Skupina 106"/>
            <p:cNvGrpSpPr/>
            <p:nvPr/>
          </p:nvGrpSpPr>
          <p:grpSpPr>
            <a:xfrm>
              <a:off x="4206960" y="2438280"/>
              <a:ext cx="4937040" cy="3182760"/>
              <a:chOff x="4206960" y="2438280"/>
              <a:chExt cx="4937040" cy="3182760"/>
            </a:xfrm>
          </p:grpSpPr>
          <p:sp>
            <p:nvSpPr>
              <p:cNvPr id="55" name="Přímá spojovací čára 2"/>
              <p:cNvSpPr/>
              <p:nvPr/>
            </p:nvSpPr>
            <p:spPr>
              <a:xfrm>
                <a:off x="4628880" y="511092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Přímá spojovací čára 4"/>
              <p:cNvSpPr/>
              <p:nvPr/>
            </p:nvSpPr>
            <p:spPr>
              <a:xfrm>
                <a:off x="4628880" y="2438280"/>
                <a:ext cx="0" cy="267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ovéPole 17"/>
              <p:cNvSpPr/>
              <p:nvPr/>
            </p:nvSpPr>
            <p:spPr>
              <a:xfrm>
                <a:off x="4206960" y="24382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ovéPole 20"/>
              <p:cNvSpPr/>
              <p:nvPr/>
            </p:nvSpPr>
            <p:spPr>
              <a:xfrm>
                <a:off x="8070480" y="51109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ovéPole 21"/>
              <p:cNvSpPr/>
              <p:nvPr/>
            </p:nvSpPr>
            <p:spPr>
              <a:xfrm>
                <a:off x="8428320" y="34675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Přímá spojovací šipka 25"/>
              <p:cNvCxnSpPr/>
              <p:nvPr/>
            </p:nvCxnSpPr>
            <p:spPr>
              <a:xfrm>
                <a:off x="8427960" y="3467520"/>
                <a:ext cx="1080" cy="4838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61" name="Skupina 45"/>
              <p:cNvGrpSpPr/>
              <p:nvPr/>
            </p:nvGrpSpPr>
            <p:grpSpPr>
              <a:xfrm>
                <a:off x="4628880" y="2693520"/>
                <a:ext cx="3531240" cy="2417040"/>
                <a:chOff x="4628880" y="2693520"/>
                <a:chExt cx="3531240" cy="2417040"/>
              </a:xfrm>
            </p:grpSpPr>
            <p:sp>
              <p:nvSpPr>
                <p:cNvPr id="62" name="Volný tvar 46"/>
                <p:cNvSpPr/>
                <p:nvPr/>
              </p:nvSpPr>
              <p:spPr>
                <a:xfrm>
                  <a:off x="4628880" y="2693520"/>
                  <a:ext cx="1472040" cy="24170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2417040"/>
                    <a:gd name="textAreaBottom" fmla="*/ 2417400 h 2417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Přímá spojovací čára 47"/>
                <p:cNvSpPr/>
                <p:nvPr/>
              </p:nvSpPr>
              <p:spPr>
                <a:xfrm>
                  <a:off x="6100920" y="269352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Skupina 48"/>
              <p:cNvGrpSpPr/>
              <p:nvPr/>
            </p:nvGrpSpPr>
            <p:grpSpPr>
              <a:xfrm>
                <a:off x="4628880" y="4817880"/>
                <a:ext cx="3539520" cy="241920"/>
                <a:chOff x="4628880" y="4817880"/>
                <a:chExt cx="3539520" cy="241920"/>
              </a:xfrm>
            </p:grpSpPr>
            <p:sp>
              <p:nvSpPr>
                <p:cNvPr id="65" name="Volný tvar 49"/>
                <p:cNvSpPr/>
                <p:nvPr/>
              </p:nvSpPr>
              <p:spPr>
                <a:xfrm>
                  <a:off x="4628880" y="4817880"/>
                  <a:ext cx="1475280" cy="24192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Přímá spojovací čára 50"/>
                <p:cNvSpPr/>
                <p:nvPr/>
              </p:nvSpPr>
              <p:spPr>
                <a:xfrm>
                  <a:off x="6104160" y="4817880"/>
                  <a:ext cx="206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Skupina 51"/>
              <p:cNvGrpSpPr/>
              <p:nvPr/>
            </p:nvGrpSpPr>
            <p:grpSpPr>
              <a:xfrm>
                <a:off x="4628880" y="4165200"/>
                <a:ext cx="3539520" cy="945360"/>
                <a:chOff x="4628880" y="4165200"/>
                <a:chExt cx="3539520" cy="945360"/>
              </a:xfrm>
            </p:grpSpPr>
            <p:sp>
              <p:nvSpPr>
                <p:cNvPr id="68" name="Volný tvar 52"/>
                <p:cNvSpPr/>
                <p:nvPr/>
              </p:nvSpPr>
              <p:spPr>
                <a:xfrm>
                  <a:off x="4628880" y="4165200"/>
                  <a:ext cx="1475280" cy="94536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5360"/>
                    <a:gd name="textAreaBottom" fmla="*/ 945720 h 94536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Přímá spojovací čára 53"/>
                <p:cNvSpPr/>
                <p:nvPr/>
              </p:nvSpPr>
              <p:spPr>
                <a:xfrm>
                  <a:off x="6104160" y="4165200"/>
                  <a:ext cx="206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Skupina 54"/>
              <p:cNvGrpSpPr/>
              <p:nvPr/>
            </p:nvGrpSpPr>
            <p:grpSpPr>
              <a:xfrm>
                <a:off x="4628880" y="3440160"/>
                <a:ext cx="3531240" cy="1670400"/>
                <a:chOff x="4628880" y="3440160"/>
                <a:chExt cx="3531240" cy="1670400"/>
              </a:xfrm>
            </p:grpSpPr>
            <p:sp>
              <p:nvSpPr>
                <p:cNvPr id="71" name="Volný tvar 55"/>
                <p:cNvSpPr/>
                <p:nvPr/>
              </p:nvSpPr>
              <p:spPr>
                <a:xfrm>
                  <a:off x="4628880" y="3440160"/>
                  <a:ext cx="1472040" cy="16704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670400"/>
                    <a:gd name="textAreaBottom" fmla="*/ 1670760 h 16704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Přímá spojovací čára 56"/>
                <p:cNvSpPr/>
                <p:nvPr/>
              </p:nvSpPr>
              <p:spPr>
                <a:xfrm>
                  <a:off x="6100920" y="344016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" name="TextovéPole 107"/>
            <p:cNvSpPr/>
            <p:nvPr/>
          </p:nvSpPr>
          <p:spPr>
            <a:xfrm>
              <a:off x="7859520" y="27151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108"/>
            <p:cNvSpPr/>
            <p:nvPr/>
          </p:nvSpPr>
          <p:spPr>
            <a:xfrm>
              <a:off x="7859520" y="34387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109"/>
            <p:cNvSpPr/>
            <p:nvPr/>
          </p:nvSpPr>
          <p:spPr>
            <a:xfrm>
              <a:off x="7859520" y="416520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ovéPole 110"/>
            <p:cNvSpPr/>
            <p:nvPr/>
          </p:nvSpPr>
          <p:spPr>
            <a:xfrm>
              <a:off x="7859520" y="47415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3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Skupina 79"/>
          <p:cNvGrpSpPr/>
          <p:nvPr/>
        </p:nvGrpSpPr>
        <p:grpSpPr>
          <a:xfrm>
            <a:off x="304920" y="2362320"/>
            <a:ext cx="3733560" cy="2863800"/>
            <a:chOff x="304920" y="2362320"/>
            <a:chExt cx="3733560" cy="2863800"/>
          </a:xfrm>
        </p:grpSpPr>
        <p:sp>
          <p:nvSpPr>
            <p:cNvPr id="78" name="Obdélník 78"/>
            <p:cNvSpPr/>
            <p:nvPr/>
          </p:nvSpPr>
          <p:spPr>
            <a:xfrm>
              <a:off x="304920" y="3384720"/>
              <a:ext cx="3733560" cy="184140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Pole 108"/>
            <p:cNvSpPr/>
            <p:nvPr/>
          </p:nvSpPr>
          <p:spPr>
            <a:xfrm>
              <a:off x="179064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bdélník 82"/>
            <p:cNvSpPr/>
            <p:nvPr/>
          </p:nvSpPr>
          <p:spPr>
            <a:xfrm>
              <a:off x="3124080" y="320040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bdélník 83"/>
            <p:cNvSpPr/>
            <p:nvPr/>
          </p:nvSpPr>
          <p:spPr>
            <a:xfrm>
              <a:off x="799920" y="320040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bdélník 84"/>
            <p:cNvSpPr/>
            <p:nvPr/>
          </p:nvSpPr>
          <p:spPr>
            <a:xfrm>
              <a:off x="1905120" y="319572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Přímá spojovací čára 95"/>
            <p:cNvSpPr/>
            <p:nvPr/>
          </p:nvSpPr>
          <p:spPr>
            <a:xfrm flipV="1">
              <a:off x="1047600" y="25142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Elipsa 153"/>
            <p:cNvSpPr/>
            <p:nvPr/>
          </p:nvSpPr>
          <p:spPr>
            <a:xfrm>
              <a:off x="97164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římá spojovací čára 97"/>
            <p:cNvSpPr/>
            <p:nvPr/>
          </p:nvSpPr>
          <p:spPr>
            <a:xfrm flipV="1">
              <a:off x="3390840" y="25142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Elipsa 153"/>
            <p:cNvSpPr/>
            <p:nvPr/>
          </p:nvSpPr>
          <p:spPr>
            <a:xfrm>
              <a:off x="331488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ovací čára 99"/>
            <p:cNvSpPr/>
            <p:nvPr/>
          </p:nvSpPr>
          <p:spPr>
            <a:xfrm flipV="1">
              <a:off x="2171880" y="2514240"/>
              <a:ext cx="0" cy="68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Elipsa 153"/>
            <p:cNvSpPr/>
            <p:nvPr/>
          </p:nvSpPr>
          <p:spPr>
            <a:xfrm>
              <a:off x="209556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ovéPole 105"/>
            <p:cNvSpPr/>
            <p:nvPr/>
          </p:nvSpPr>
          <p:spPr>
            <a:xfrm>
              <a:off x="64764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ovéPole 109"/>
            <p:cNvSpPr/>
            <p:nvPr/>
          </p:nvSpPr>
          <p:spPr>
            <a:xfrm>
              <a:off x="300996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ovéPole 111"/>
            <p:cNvSpPr/>
            <p:nvPr/>
          </p:nvSpPr>
          <p:spPr>
            <a:xfrm>
              <a:off x="304920" y="448164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emi-izolační substrá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ovéPole 112"/>
            <p:cNvSpPr/>
            <p:nvPr/>
          </p:nvSpPr>
          <p:spPr>
            <a:xfrm>
              <a:off x="799920" y="337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ovéPole 113"/>
            <p:cNvSpPr/>
            <p:nvPr/>
          </p:nvSpPr>
          <p:spPr>
            <a:xfrm>
              <a:off x="3124080" y="3387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délník 26"/>
            <p:cNvSpPr/>
            <p:nvPr/>
          </p:nvSpPr>
          <p:spPr>
            <a:xfrm>
              <a:off x="734760" y="3387600"/>
              <a:ext cx="674640" cy="506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délník 26"/>
            <p:cNvSpPr/>
            <p:nvPr/>
          </p:nvSpPr>
          <p:spPr>
            <a:xfrm>
              <a:off x="3078000" y="3387600"/>
              <a:ext cx="674640" cy="506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bdélník 26"/>
            <p:cNvSpPr/>
            <p:nvPr/>
          </p:nvSpPr>
          <p:spPr>
            <a:xfrm>
              <a:off x="1409760" y="3387600"/>
              <a:ext cx="1668240" cy="506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ovéPole 8"/>
            <p:cNvSpPr/>
            <p:nvPr/>
          </p:nvSpPr>
          <p:spPr>
            <a:xfrm>
              <a:off x="3200400" y="3379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ovéPole 8"/>
            <p:cNvSpPr/>
            <p:nvPr/>
          </p:nvSpPr>
          <p:spPr>
            <a:xfrm>
              <a:off x="857160" y="3379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Pole 10"/>
            <p:cNvSpPr/>
            <p:nvPr/>
          </p:nvSpPr>
          <p:spPr>
            <a:xfrm>
              <a:off x="1866960" y="341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ovéPole 102"/>
          <p:cNvSpPr/>
          <p:nvPr/>
        </p:nvSpPr>
        <p:spPr>
          <a:xfrm>
            <a:off x="152280" y="167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hmický konta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03"/>
          <p:cNvSpPr/>
          <p:nvPr/>
        </p:nvSpPr>
        <p:spPr>
          <a:xfrm>
            <a:off x="281952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Schottkyho konta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Přímá spojovací šipka 105"/>
          <p:cNvCxnSpPr>
            <a:stCxn id="100" idx="2"/>
            <a:endCxn id="81" idx="2"/>
          </p:cNvCxnSpPr>
          <p:nvPr/>
        </p:nvCxnSpPr>
        <p:spPr>
          <a:xfrm flipH="1">
            <a:off x="1065960" y="2138400"/>
            <a:ext cx="343800" cy="124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Přímá spojovací šipka 107"/>
          <p:cNvCxnSpPr>
            <a:stCxn id="100" idx="2"/>
            <a:endCxn id="80" idx="2"/>
          </p:cNvCxnSpPr>
          <p:nvPr/>
        </p:nvCxnSpPr>
        <p:spPr>
          <a:xfrm>
            <a:off x="1409400" y="2138400"/>
            <a:ext cx="1981800" cy="124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Přímá spojovací šipka 109"/>
          <p:cNvCxnSpPr>
            <a:endCxn id="82" idx="2"/>
          </p:cNvCxnSpPr>
          <p:nvPr/>
        </p:nvCxnSpPr>
        <p:spPr>
          <a:xfrm flipH="1">
            <a:off x="2171520" y="1980720"/>
            <a:ext cx="1028880" cy="13993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2"/>
          <p:cNvSpPr/>
          <p:nvPr/>
        </p:nvSpPr>
        <p:spPr>
          <a:xfrm>
            <a:off x="228600" y="1295280"/>
            <a:ext cx="89154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je od přenosového kanálu odděleno řídící hradlo u MES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ttkyho přechodem (kov-polovodi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obně jako který typ tranzistoru se chová MES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ová se podobně jako JF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používáme MES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umí pracovat v oblasti velmi vysokých frekve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457200" y="14479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MESFET využívají na řídícím hradle schottkyho přechod kov polovodi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ou pracovat s frekvencemi až 10ky G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1371600"/>
            <a:ext cx="80010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líč k elektroni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[online]. 2012 [cit. 2014-6-2]. Dostupné z: 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leni.skovstudio.c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21:55:3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