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538-416F-4189-8D57-009DF1E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1B5-04E4-4595-B381-575D882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7A3-ADF2-4203-8A40-4EE67B36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40B-75DD-4B9C-9667-40BEE5C9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E6F-688B-45DA-A2FB-EDA38AC0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C12-1CF0-489F-AB23-2E1559D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6C3-8FF5-4392-B4EC-37B6DDF7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95E-6C12-478B-86F0-FEBEF258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ADC-8BE7-406B-8088-9E021658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9B5-95CB-4680-AA02-8FECA9C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250-CFA8-4434-8300-4B28368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94B-44C8-4A82-83DE-AC1C939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8457-81FA-4F95-8C5C-C15E26475D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Třídy zesilovač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ět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zesilova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"/>
          <p:cNvSpPr/>
          <p:nvPr/>
        </p:nvSpPr>
        <p:spPr>
          <a:xfrm>
            <a:off x="457200" y="16002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třída má automatické řízení velikosti napětí napájecího zdroje v závislosti na velikosti požadovaného výstupního napě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"/>
          <p:cNvSpPr/>
          <p:nvPr/>
        </p:nvSpPr>
        <p:spPr>
          <a:xfrm>
            <a:off x="457200" y="1447920"/>
            <a:ext cx="8305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é třídy zesilovačů mají řízenou velikost napětí napájecího zdro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G a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esilovače které třídy se používají u vysílačů ve vysokofrekvenční techn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esilovač které třídy byste požili jako předzesilova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2"/>
          <p:cNvSpPr/>
          <p:nvPr/>
        </p:nvSpPr>
        <p:spPr>
          <a:xfrm>
            <a:off x="45720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rozdělujeme do tříd podle toho, jak pracují se zesilovaným signá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399240"/>
            <a:ext cx="8534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seznámení se ze třídami zesilovač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ŘÍDY ZESILOVAČ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 se podle způsobu jakým pracují se vstupním signálem rozdělují do tří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y zesilovačů, které si stručně popíšeme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, B, C, AB, D, G,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160020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jediný ze všech zesilovačů zesiluje celou periodu vstupního signálu (kladnou i zápornou půlvln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zkresle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účinnost (50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ná energetická nároč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ají se v předzesilovačí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2"/>
          <p:cNvSpPr/>
          <p:nvPr/>
        </p:nvSpPr>
        <p:spPr>
          <a:xfrm>
            <a:off x="45720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ují půlku jedné periody vstupního signálu (kladnou nebo záporno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ě vykazuje velké zkreslení, proto se používá dvojčinné zapoje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á účinnost (75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ré energetické para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ají se v koncových stupních jako výkonové zesilovače převážně v dvojčinném zapoj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2"/>
          <p:cNvSpPr/>
          <p:nvPr/>
        </p:nvSpPr>
        <p:spPr>
          <a:xfrm>
            <a:off x="457200" y="1600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ují pouze část jedné periody (kladné nebo záporné špič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reslení signálu je ještě větší než u zesilovačů ve třídě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á účinnost (90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ají se převážně ve vysokofrekvenční technice (vysílače). Většinou jsou součástí vícestupňových zesilovač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2"/>
          <p:cNvSpPr/>
          <p:nvPr/>
        </p:nvSpPr>
        <p:spPr>
          <a:xfrm>
            <a:off x="457200" y="16002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zesilovač zesiluje jednu periodu celou a druhou částe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reslení signálu větší než A a menší než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innost je větší než A a menší než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2"/>
          <p:cNvSpPr/>
          <p:nvPr/>
        </p:nvSpPr>
        <p:spPr>
          <a:xfrm>
            <a:off x="457200" y="160020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napětí zesilovače je impulsově modulováno (převedeno z analogového na diskrétní signál – impulsový) a dále jsou impulsy zpracovávány zesilovačem ve třídě C. Tím je zaručena vysoká účinnost zesilovače. Na výstupu zesilovače se impulsu převedou zpět na analogový signál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 použitím dolní  propust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TŘÍDY 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2"/>
          <p:cNvSpPr/>
          <p:nvPr/>
        </p:nvSpPr>
        <p:spPr>
          <a:xfrm>
            <a:off x="457200" y="1600200"/>
            <a:ext cx="853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této třídy se odděleně zpracovávají silné a slabé signály. Zesilovač obsahuje dva zdroje. Většinu času si zesilovač vystačí se slabším zdrojem a výkonový zdroje je dimenzován pouze na krátkodobé špičk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pora elektrické ener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8T22:19:1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