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6D0D-1CA8-4833-A792-E8928BAA7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5BF8-2994-428B-9E37-F62B2248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30F2-271A-474B-85AF-DC67A5D06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DC7D-B4A6-40EA-9323-4AAA8A91F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5A63-FAB5-4BCD-87DB-36F41CDE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A569-804D-4C42-A355-A6BBCCB6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BDDC-5B12-452F-835F-F940170A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125A-778A-4469-8D64-FBBCEDA0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7197-C9EE-460D-A87F-147217B1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EB42-C773-4F22-9B80-1FBEA2F5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0E06-8F18-419B-9731-45212BCC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61EC-1E28-4DD4-A6D4-79D60CFF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823C-156C-4991-82DE-B6A2A95E4EB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ek 4" descr="OPVK_hor_zakladni_logolink_CMYK_cz.tif"/>
          <p:cNvPicPr/>
          <p:nvPr/>
        </p:nvPicPr>
        <p:blipFill>
          <a:blip r:embed="rId1"/>
          <a:stretch/>
        </p:blipFill>
        <p:spPr>
          <a:xfrm>
            <a:off x="533520" y="304920"/>
            <a:ext cx="802008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533520" y="2209680"/>
          <a:ext cx="8001000" cy="3735360"/>
        </p:xfrm>
        <a:graphic>
          <a:graphicData uri="http://schemas.openxmlformats.org/drawingml/2006/table">
            <a:tbl>
              <a:tblPr/>
              <a:tblGrid>
                <a:gridCol w="2535120"/>
                <a:gridCol w="5465880"/>
              </a:tblGrid>
              <a:tr h="4572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ŠKO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řední škola elektrotechnická, Ostrava, Na Jízdárně 30, p.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Z.1.07/1.5.00/34.09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ČÍSLO V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_32_INOVACE_5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NÁZEV V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zistory / Reálná zapojení zesilovač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. Radim Truchl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DATUM VYTVO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erven 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ročník studijního obor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VZDĚLÁVACÍ OBLAST/</a:t>
                      </a:r>
                      <a:br>
                        <a:rPr sz="1400"/>
                      </a:b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KLÍČOVÁ SL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KTRONIKA  - polovodič, tranzistor,  zesilovač, koncový stupe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Text Box 464"/>
          <p:cNvSpPr/>
          <p:nvPr/>
        </p:nvSpPr>
        <p:spPr>
          <a:xfrm>
            <a:off x="533520" y="6172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 prohlašuje, že řádně uvedl všechny použité zdroje.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není uvedeno jinak, použitý materiál je z vlastních zdrojů aut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304920" y="399240"/>
            <a:ext cx="85341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ANO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čební materiál je zaměřen na seznámení s reálnými zapojeními zesilovač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04920" y="3363840"/>
            <a:ext cx="8305560" cy="24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METODICKÝ POK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Nejdříve vyučující projde s žáky celou prezentaci, žáci si dělají záp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 sekci otázky žáci odpovídají na otázky, případně vybírají správnou odpověď z nabízených možností. Po kliknutí se objeví správná odpově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Na konci prezentace je shrnutí nejdůležitějších pojm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REÁLNÁ ZAPOJENÍ ZESILOVAČ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0" y="1523880"/>
            <a:ext cx="4886280" cy="4381560"/>
          </a:xfrm>
          <a:prstGeom prst="rect">
            <a:avLst/>
          </a:prstGeom>
          <a:ln w="0">
            <a:noFill/>
          </a:ln>
        </p:spPr>
      </p:pic>
      <p:sp>
        <p:nvSpPr>
          <p:cNvPr id="48" name="TextovéPole 5"/>
          <p:cNvSpPr/>
          <p:nvPr/>
        </p:nvSpPr>
        <p:spPr>
          <a:xfrm>
            <a:off x="2209680" y="2590920"/>
            <a:ext cx="609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ovéPole 6"/>
          <p:cNvSpPr/>
          <p:nvPr/>
        </p:nvSpPr>
        <p:spPr>
          <a:xfrm>
            <a:off x="2209680" y="457200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ovéPole 7"/>
          <p:cNvSpPr/>
          <p:nvPr/>
        </p:nvSpPr>
        <p:spPr>
          <a:xfrm>
            <a:off x="990720" y="251460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B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ovéPole 8"/>
          <p:cNvSpPr/>
          <p:nvPr/>
        </p:nvSpPr>
        <p:spPr>
          <a:xfrm>
            <a:off x="990720" y="46483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B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ovéPole 6"/>
          <p:cNvSpPr/>
          <p:nvPr/>
        </p:nvSpPr>
        <p:spPr>
          <a:xfrm>
            <a:off x="2057400" y="320040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ovéPole 5"/>
          <p:cNvSpPr/>
          <p:nvPr/>
        </p:nvSpPr>
        <p:spPr>
          <a:xfrm>
            <a:off x="914400" y="320040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ovéPole 5"/>
          <p:cNvSpPr/>
          <p:nvPr/>
        </p:nvSpPr>
        <p:spPr>
          <a:xfrm>
            <a:off x="3505320" y="457200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ovéPole 57"/>
          <p:cNvSpPr/>
          <p:nvPr/>
        </p:nvSpPr>
        <p:spPr>
          <a:xfrm>
            <a:off x="4648320" y="1447920"/>
            <a:ext cx="449568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kuste odhadno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jaké třídě pracuje zesilovač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řída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 kolika činné je zapojen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čin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zabraňuje střídavé Z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ívka transformátoru nahrazuje odpor R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ovéPole 5"/>
          <p:cNvSpPr/>
          <p:nvPr/>
        </p:nvSpPr>
        <p:spPr>
          <a:xfrm>
            <a:off x="3657600" y="1447920"/>
            <a:ext cx="99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+ U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2286000"/>
            <a:ext cx="4751280" cy="3219480"/>
          </a:xfrm>
          <a:prstGeom prst="rect">
            <a:avLst/>
          </a:prstGeom>
          <a:ln w="0">
            <a:noFill/>
          </a:ln>
        </p:spPr>
      </p:pic>
      <p:sp>
        <p:nvSpPr>
          <p:cNvPr id="58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REÁLNÁ ZAPOJENÍ ZESILOVAČ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ovéPole 5"/>
          <p:cNvSpPr/>
          <p:nvPr/>
        </p:nvSpPr>
        <p:spPr>
          <a:xfrm>
            <a:off x="2514600" y="3886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ovéPole 7"/>
          <p:cNvSpPr/>
          <p:nvPr/>
        </p:nvSpPr>
        <p:spPr>
          <a:xfrm>
            <a:off x="1523880" y="3352680"/>
            <a:ext cx="609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B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ovéPole 8"/>
          <p:cNvSpPr/>
          <p:nvPr/>
        </p:nvSpPr>
        <p:spPr>
          <a:xfrm>
            <a:off x="1523880" y="39625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B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ovéPole 6"/>
          <p:cNvSpPr/>
          <p:nvPr/>
        </p:nvSpPr>
        <p:spPr>
          <a:xfrm>
            <a:off x="1752480" y="251460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ovéPole 5"/>
          <p:cNvSpPr/>
          <p:nvPr/>
        </p:nvSpPr>
        <p:spPr>
          <a:xfrm>
            <a:off x="3962520" y="2590920"/>
            <a:ext cx="990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+ U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ovéPole 6"/>
          <p:cNvSpPr/>
          <p:nvPr/>
        </p:nvSpPr>
        <p:spPr>
          <a:xfrm>
            <a:off x="1752480" y="464832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ovéPole 13"/>
          <p:cNvSpPr/>
          <p:nvPr/>
        </p:nvSpPr>
        <p:spPr>
          <a:xfrm>
            <a:off x="4648320" y="1447920"/>
            <a:ext cx="4495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kuste odhadno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jaké třídě pracuje zesilovač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řída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 kolika činné je zapojen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čin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ansformátory slouží k oddělení napájecího napětí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 užitečného signál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5016600" cy="37339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REÁLNÁ ZAPOJENÍ ZESILOVAČ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ovéPole 5"/>
          <p:cNvSpPr/>
          <p:nvPr/>
        </p:nvSpPr>
        <p:spPr>
          <a:xfrm>
            <a:off x="1905120" y="236232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ovéPole 7"/>
          <p:cNvSpPr/>
          <p:nvPr/>
        </p:nvSpPr>
        <p:spPr>
          <a:xfrm>
            <a:off x="1905120" y="434340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ovéPole 8"/>
          <p:cNvSpPr/>
          <p:nvPr/>
        </p:nvSpPr>
        <p:spPr>
          <a:xfrm>
            <a:off x="685800" y="274320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ovéPole 6"/>
          <p:cNvSpPr/>
          <p:nvPr/>
        </p:nvSpPr>
        <p:spPr>
          <a:xfrm>
            <a:off x="1295280" y="289548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ovéPole 5"/>
          <p:cNvSpPr/>
          <p:nvPr/>
        </p:nvSpPr>
        <p:spPr>
          <a:xfrm>
            <a:off x="3733920" y="1295280"/>
            <a:ext cx="990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+ U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ovéPole 6"/>
          <p:cNvSpPr/>
          <p:nvPr/>
        </p:nvSpPr>
        <p:spPr>
          <a:xfrm>
            <a:off x="2514600" y="228600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ovéPole 13"/>
          <p:cNvSpPr/>
          <p:nvPr/>
        </p:nvSpPr>
        <p:spPr>
          <a:xfrm>
            <a:off x="4648320" y="1447920"/>
            <a:ext cx="4495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kuste odhadno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 kolika činné je zapojen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vojčin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jaké třídě pracuje zesilovač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řída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jaké třídě pracuje zesilovač2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řída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ovéPole 6"/>
          <p:cNvSpPr/>
          <p:nvPr/>
        </p:nvSpPr>
        <p:spPr>
          <a:xfrm>
            <a:off x="2514600" y="350532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ovéPole 8"/>
          <p:cNvSpPr/>
          <p:nvPr/>
        </p:nvSpPr>
        <p:spPr>
          <a:xfrm>
            <a:off x="3429000" y="365760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ovéPole 8"/>
          <p:cNvSpPr/>
          <p:nvPr/>
        </p:nvSpPr>
        <p:spPr>
          <a:xfrm>
            <a:off x="1981080" y="358128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ovéPole 8"/>
          <p:cNvSpPr/>
          <p:nvPr/>
        </p:nvSpPr>
        <p:spPr>
          <a:xfrm>
            <a:off x="2057400" y="312408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ovéPole 8"/>
          <p:cNvSpPr/>
          <p:nvPr/>
        </p:nvSpPr>
        <p:spPr>
          <a:xfrm>
            <a:off x="533520" y="358128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"/>
          <p:cNvSpPr/>
          <p:nvPr/>
        </p:nvSpPr>
        <p:spPr>
          <a:xfrm>
            <a:off x="457200" y="1447920"/>
            <a:ext cx="8305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esilovače jsou elektronické obvod, které zesilují amplitudu vstupního signálu a ke své funkci potřebují externí napáje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esilovače můžeme dělit z mnoha hledisek, které souvisí se zpracovávaným signálem nebo s konstrukcí zesilovač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ovéPole 3"/>
          <p:cNvSpPr/>
          <p:nvPr/>
        </p:nvSpPr>
        <p:spPr>
          <a:xfrm>
            <a:off x="304920" y="38016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ZNAM POUŽIT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685800" y="1371600"/>
            <a:ext cx="8001000" cy="15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DĚK, Miloslav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Elektronika I: [učebnice]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1. vyd. dotisk. České Budějovice: Kopp, 2006, 286 s. ISBN 80-7232-171-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ESL, Jan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Elektronik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2., aktual. a rozšíř. vyd. Praha: BEN - technická literatura, 2004, 143 s. ISBN 80-730-0143-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5T23:31:44Z</dcterms:created>
  <dc:creator>Erda</dc:creator>
  <dc:description/>
  <dc:language>en-US</dc:language>
  <cp:lastModifiedBy>Erda</cp:lastModifiedBy>
  <dcterms:modified xsi:type="dcterms:W3CDTF">2014-10-29T00:40:08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