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547-8DA3-477F-843D-4BE1AB4B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C36-37D5-4532-BBCF-1CEAE020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DF5-6BE1-444D-B90C-1A196298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F06-6D06-43E6-B1C2-822D9E0E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2A6-D2B5-4A9E-B464-FB8FA520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F49-5F42-47AD-8CE3-AB569C6A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D03-E80D-46DD-8139-1032D96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EE4-8338-4A8B-8787-60094F21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A8C-1284-4071-9D51-624407D7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6BB-7C78-4F3B-8BF7-E0F6E2B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6C2-0E64-4BE6-85BC-708893AC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A83-9697-4D70-AF56-A92785A9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C189-094E-455C-9AC8-C9F7C8DBF60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Značení proudy a napětí na bipolárním tranzis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řez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proud, napět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ovéPole 2"/>
          <p:cNvSpPr/>
          <p:nvPr/>
        </p:nvSpPr>
        <p:spPr>
          <a:xfrm>
            <a:off x="457200" y="14479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tranzistoru můžeme vyznačit směr proudu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každé elektrodě, přičemž rozhodující pro určení směru je směr proudu emito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le rozeznáváme napětí mez elektrodami a napětí mez elektrodou a společnou svork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označení proudu a napětí, které se vyskytují na bipolárním tranzistor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Skupina 61"/>
          <p:cNvGrpSpPr/>
          <p:nvPr/>
        </p:nvGrpSpPr>
        <p:grpSpPr>
          <a:xfrm>
            <a:off x="2133720" y="4190760"/>
            <a:ext cx="380880" cy="533520"/>
            <a:chOff x="2133720" y="4190760"/>
            <a:chExt cx="380880" cy="533520"/>
          </a:xfrm>
        </p:grpSpPr>
        <p:cxnSp>
          <p:nvCxnSpPr>
            <p:cNvPr id="47" name="Přímá spojovací šipka 55"/>
            <p:cNvCxnSpPr/>
            <p:nvPr/>
          </p:nvCxnSpPr>
          <p:spPr>
            <a:xfrm>
              <a:off x="2438280" y="4190760"/>
              <a:ext cx="10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" name="TextovéPole 58"/>
            <p:cNvSpPr/>
            <p:nvPr/>
          </p:nvSpPr>
          <p:spPr>
            <a:xfrm>
              <a:off x="2133720" y="426708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OUDY NA BIPOLÁRNÍM TRANZI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2"/>
          <p:cNvSpPr/>
          <p:nvPr/>
        </p:nvSpPr>
        <p:spPr>
          <a:xfrm>
            <a:off x="457200" y="5029200"/>
            <a:ext cx="8305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yž určujeme směry proudu na bipolárním tranzistoru, začínáme proudem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jehož směr je totožný se směrem šipky u emit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Skupina 26"/>
          <p:cNvGrpSpPr/>
          <p:nvPr/>
        </p:nvGrpSpPr>
        <p:grpSpPr>
          <a:xfrm>
            <a:off x="762120" y="2743200"/>
            <a:ext cx="1549440" cy="1983960"/>
            <a:chOff x="762120" y="2743200"/>
            <a:chExt cx="1549440" cy="1983960"/>
          </a:xfrm>
        </p:grpSpPr>
        <p:grpSp>
          <p:nvGrpSpPr>
            <p:cNvPr id="52" name="Skupina 3"/>
            <p:cNvGrpSpPr/>
            <p:nvPr/>
          </p:nvGrpSpPr>
          <p:grpSpPr>
            <a:xfrm>
              <a:off x="762120" y="2883960"/>
              <a:ext cx="1549440" cy="1762920"/>
              <a:chOff x="762120" y="2883960"/>
              <a:chExt cx="1549440" cy="1762920"/>
            </a:xfrm>
          </p:grpSpPr>
          <p:sp>
            <p:nvSpPr>
              <p:cNvPr id="53" name="Elipsa 31"/>
              <p:cNvSpPr/>
              <p:nvPr/>
            </p:nvSpPr>
            <p:spPr>
              <a:xfrm>
                <a:off x="1184760" y="3177720"/>
                <a:ext cx="1126800" cy="1175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Přímá spojovací čára 32"/>
              <p:cNvSpPr/>
              <p:nvPr/>
            </p:nvSpPr>
            <p:spPr>
              <a:xfrm>
                <a:off x="1466280" y="3471480"/>
                <a:ext cx="0" cy="58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Přímá spojovací čára 33"/>
              <p:cNvSpPr/>
              <p:nvPr/>
            </p:nvSpPr>
            <p:spPr>
              <a:xfrm flipV="1">
                <a:off x="1466280" y="3349800"/>
                <a:ext cx="68004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Přímá spojovací čára 34"/>
              <p:cNvSpPr/>
              <p:nvPr/>
            </p:nvSpPr>
            <p:spPr>
              <a:xfrm>
                <a:off x="1466280" y="3765240"/>
                <a:ext cx="68004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Přímá spojovací čára 35"/>
              <p:cNvSpPr/>
              <p:nvPr/>
            </p:nvSpPr>
            <p:spPr>
              <a:xfrm flipH="1">
                <a:off x="1184760" y="3765240"/>
                <a:ext cx="28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Přímá spojovací čára 36"/>
              <p:cNvSpPr/>
              <p:nvPr/>
            </p:nvSpPr>
            <p:spPr>
              <a:xfrm>
                <a:off x="2146680" y="288396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Přímá spojovací čára 37"/>
              <p:cNvSpPr/>
              <p:nvPr/>
            </p:nvSpPr>
            <p:spPr>
              <a:xfrm>
                <a:off x="2146680" y="418104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Přímá spojovací čára 38"/>
              <p:cNvSpPr/>
              <p:nvPr/>
            </p:nvSpPr>
            <p:spPr>
              <a:xfrm flipH="1">
                <a:off x="762120" y="3765240"/>
                <a:ext cx="42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ovéPole 28"/>
            <p:cNvSpPr/>
            <p:nvPr/>
          </p:nvSpPr>
          <p:spPr>
            <a:xfrm>
              <a:off x="832320" y="330732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ovéPole 29"/>
            <p:cNvSpPr/>
            <p:nvPr/>
          </p:nvSpPr>
          <p:spPr>
            <a:xfrm>
              <a:off x="1753200" y="274320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ovéPole 30"/>
            <p:cNvSpPr/>
            <p:nvPr/>
          </p:nvSpPr>
          <p:spPr>
            <a:xfrm>
              <a:off x="1753200" y="426744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Skupina 39"/>
          <p:cNvGrpSpPr/>
          <p:nvPr/>
        </p:nvGrpSpPr>
        <p:grpSpPr>
          <a:xfrm>
            <a:off x="5866920" y="2743200"/>
            <a:ext cx="1551600" cy="1983960"/>
            <a:chOff x="5866920" y="2743200"/>
            <a:chExt cx="1551600" cy="1983960"/>
          </a:xfrm>
        </p:grpSpPr>
        <p:grpSp>
          <p:nvGrpSpPr>
            <p:cNvPr id="65" name="Skupina 138"/>
            <p:cNvGrpSpPr/>
            <p:nvPr/>
          </p:nvGrpSpPr>
          <p:grpSpPr>
            <a:xfrm>
              <a:off x="5866920" y="2883960"/>
              <a:ext cx="1551600" cy="1762920"/>
              <a:chOff x="5866920" y="2883960"/>
              <a:chExt cx="1551600" cy="1762920"/>
            </a:xfrm>
          </p:grpSpPr>
          <p:sp>
            <p:nvSpPr>
              <p:cNvPr id="66" name="Elipsa 44"/>
              <p:cNvSpPr/>
              <p:nvPr/>
            </p:nvSpPr>
            <p:spPr>
              <a:xfrm>
                <a:off x="6290280" y="3177720"/>
                <a:ext cx="1128240" cy="1175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Přímá spojovací čára 45"/>
              <p:cNvSpPr/>
              <p:nvPr/>
            </p:nvSpPr>
            <p:spPr>
              <a:xfrm>
                <a:off x="6572520" y="3471480"/>
                <a:ext cx="0" cy="58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Přímá spojovací čára 46"/>
              <p:cNvSpPr/>
              <p:nvPr/>
            </p:nvSpPr>
            <p:spPr>
              <a:xfrm flipV="1">
                <a:off x="6572520" y="3349800"/>
                <a:ext cx="68076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Přímá spojovací čára 47"/>
              <p:cNvSpPr/>
              <p:nvPr/>
            </p:nvSpPr>
            <p:spPr>
              <a:xfrm>
                <a:off x="6572520" y="3765240"/>
                <a:ext cx="68076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Přímá spojovací čára 48"/>
              <p:cNvSpPr/>
              <p:nvPr/>
            </p:nvSpPr>
            <p:spPr>
              <a:xfrm flipH="1">
                <a:off x="6289920" y="3765240"/>
                <a:ext cx="28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Přímá spojovací čára 49"/>
              <p:cNvSpPr/>
              <p:nvPr/>
            </p:nvSpPr>
            <p:spPr>
              <a:xfrm>
                <a:off x="7253280" y="288396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Přímá spojovací čára 50"/>
              <p:cNvSpPr/>
              <p:nvPr/>
            </p:nvSpPr>
            <p:spPr>
              <a:xfrm>
                <a:off x="7253280" y="418104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Přímá spojovací čára 51"/>
              <p:cNvSpPr/>
              <p:nvPr/>
            </p:nvSpPr>
            <p:spPr>
              <a:xfrm flipH="1">
                <a:off x="5866920" y="3765240"/>
                <a:ext cx="42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TextovéPole 41"/>
            <p:cNvSpPr/>
            <p:nvPr/>
          </p:nvSpPr>
          <p:spPr>
            <a:xfrm>
              <a:off x="5937480" y="330732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ovéPole 42"/>
            <p:cNvSpPr/>
            <p:nvPr/>
          </p:nvSpPr>
          <p:spPr>
            <a:xfrm>
              <a:off x="6858000" y="274320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ovéPole 43"/>
            <p:cNvSpPr/>
            <p:nvPr/>
          </p:nvSpPr>
          <p:spPr>
            <a:xfrm>
              <a:off x="6858000" y="426744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ovéPole 52"/>
          <p:cNvSpPr/>
          <p:nvPr/>
        </p:nvSpPr>
        <p:spPr>
          <a:xfrm>
            <a:off x="6248520" y="1905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53"/>
          <p:cNvSpPr/>
          <p:nvPr/>
        </p:nvSpPr>
        <p:spPr>
          <a:xfrm>
            <a:off x="1143000" y="1905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Skupina 60"/>
          <p:cNvGrpSpPr/>
          <p:nvPr/>
        </p:nvGrpSpPr>
        <p:grpSpPr>
          <a:xfrm>
            <a:off x="7238880" y="4114800"/>
            <a:ext cx="381240" cy="533880"/>
            <a:chOff x="7238880" y="4114800"/>
            <a:chExt cx="381240" cy="533880"/>
          </a:xfrm>
        </p:grpSpPr>
        <p:cxnSp>
          <p:nvCxnSpPr>
            <p:cNvPr id="80" name="Přímá spojovací šipka 56"/>
            <p:cNvCxnSpPr/>
            <p:nvPr/>
          </p:nvCxnSpPr>
          <p:spPr>
            <a:xfrm>
              <a:off x="7543800" y="4114800"/>
              <a:ext cx="1080" cy="53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1" name="TextovéPole 57"/>
            <p:cNvSpPr/>
            <p:nvPr/>
          </p:nvSpPr>
          <p:spPr>
            <a:xfrm>
              <a:off x="7238880" y="419076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ovéPole 59"/>
          <p:cNvSpPr/>
          <p:nvPr/>
        </p:nvSpPr>
        <p:spPr>
          <a:xfrm>
            <a:off x="3048120" y="2286000"/>
            <a:ext cx="266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emit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OUDY NA BIPOLÁRNÍM TRANZI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2"/>
          <p:cNvSpPr/>
          <p:nvPr/>
        </p:nvSpPr>
        <p:spPr>
          <a:xfrm>
            <a:off x="457200" y="5041800"/>
            <a:ext cx="83059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likož se tranzistor chová také jako uzel a plat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sí také  platit: když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chází z tranzistoru,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chází do tranzistoru a naop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52"/>
          <p:cNvSpPr/>
          <p:nvPr/>
        </p:nvSpPr>
        <p:spPr>
          <a:xfrm>
            <a:off x="6248520" y="1905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véPole 53"/>
          <p:cNvSpPr/>
          <p:nvPr/>
        </p:nvSpPr>
        <p:spPr>
          <a:xfrm>
            <a:off x="1143000" y="1905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59"/>
          <p:cNvSpPr/>
          <p:nvPr/>
        </p:nvSpPr>
        <p:spPr>
          <a:xfrm>
            <a:off x="3048120" y="2286000"/>
            <a:ext cx="26668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emit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kolekt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b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Skupina 60"/>
          <p:cNvGrpSpPr/>
          <p:nvPr/>
        </p:nvGrpSpPr>
        <p:grpSpPr>
          <a:xfrm>
            <a:off x="2133720" y="2819160"/>
            <a:ext cx="380880" cy="533520"/>
            <a:chOff x="2133720" y="2819160"/>
            <a:chExt cx="380880" cy="533520"/>
          </a:xfrm>
        </p:grpSpPr>
        <p:cxnSp>
          <p:nvCxnSpPr>
            <p:cNvPr id="89" name="Přímá spojovací šipka 61"/>
            <p:cNvCxnSpPr/>
            <p:nvPr/>
          </p:nvCxnSpPr>
          <p:spPr>
            <a:xfrm>
              <a:off x="2438280" y="2819160"/>
              <a:ext cx="10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" name="TextovéPole 62"/>
            <p:cNvSpPr/>
            <p:nvPr/>
          </p:nvSpPr>
          <p:spPr>
            <a:xfrm>
              <a:off x="2133720" y="289548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Skupina 63"/>
          <p:cNvGrpSpPr/>
          <p:nvPr/>
        </p:nvGrpSpPr>
        <p:grpSpPr>
          <a:xfrm>
            <a:off x="7238880" y="2819160"/>
            <a:ext cx="381240" cy="533520"/>
            <a:chOff x="7238880" y="2819160"/>
            <a:chExt cx="381240" cy="533520"/>
          </a:xfrm>
        </p:grpSpPr>
        <p:cxnSp>
          <p:nvCxnSpPr>
            <p:cNvPr id="92" name="Přímá spojovací šipka 64"/>
            <p:cNvCxnSpPr/>
            <p:nvPr/>
          </p:nvCxnSpPr>
          <p:spPr>
            <a:xfrm>
              <a:off x="7543800" y="2819160"/>
              <a:ext cx="10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93" name="TextovéPole 65"/>
            <p:cNvSpPr/>
            <p:nvPr/>
          </p:nvSpPr>
          <p:spPr>
            <a:xfrm>
              <a:off x="7238880" y="289548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kupina 70"/>
          <p:cNvGrpSpPr/>
          <p:nvPr/>
        </p:nvGrpSpPr>
        <p:grpSpPr>
          <a:xfrm>
            <a:off x="685800" y="3885840"/>
            <a:ext cx="457560" cy="441000"/>
            <a:chOff x="685800" y="3885840"/>
            <a:chExt cx="457560" cy="441000"/>
          </a:xfrm>
        </p:grpSpPr>
        <p:cxnSp>
          <p:nvCxnSpPr>
            <p:cNvPr id="95" name="Přímá spojovací šipka 68"/>
            <p:cNvCxnSpPr/>
            <p:nvPr/>
          </p:nvCxnSpPr>
          <p:spPr>
            <a:xfrm>
              <a:off x="685800" y="3885840"/>
              <a:ext cx="457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" name="TextovéPole 69"/>
            <p:cNvSpPr/>
            <p:nvPr/>
          </p:nvSpPr>
          <p:spPr>
            <a:xfrm>
              <a:off x="685800" y="388620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kupina 71"/>
          <p:cNvGrpSpPr/>
          <p:nvPr/>
        </p:nvGrpSpPr>
        <p:grpSpPr>
          <a:xfrm>
            <a:off x="5791320" y="3885840"/>
            <a:ext cx="457560" cy="441000"/>
            <a:chOff x="5791320" y="3885840"/>
            <a:chExt cx="457560" cy="441000"/>
          </a:xfrm>
        </p:grpSpPr>
        <p:cxnSp>
          <p:nvCxnSpPr>
            <p:cNvPr id="98" name="Přímá spojovací šipka 72"/>
            <p:cNvCxnSpPr/>
            <p:nvPr/>
          </p:nvCxnSpPr>
          <p:spPr>
            <a:xfrm>
              <a:off x="5791320" y="3885840"/>
              <a:ext cx="457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99" name="TextovéPole 73"/>
            <p:cNvSpPr/>
            <p:nvPr/>
          </p:nvSpPr>
          <p:spPr>
            <a:xfrm>
              <a:off x="5791320" y="388620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kupina 74"/>
          <p:cNvGrpSpPr/>
          <p:nvPr/>
        </p:nvGrpSpPr>
        <p:grpSpPr>
          <a:xfrm>
            <a:off x="2133720" y="4190760"/>
            <a:ext cx="380880" cy="533520"/>
            <a:chOff x="2133720" y="4190760"/>
            <a:chExt cx="380880" cy="533520"/>
          </a:xfrm>
        </p:grpSpPr>
        <p:cxnSp>
          <p:nvCxnSpPr>
            <p:cNvPr id="101" name="Přímá spojovací šipka 75"/>
            <p:cNvCxnSpPr/>
            <p:nvPr/>
          </p:nvCxnSpPr>
          <p:spPr>
            <a:xfrm>
              <a:off x="2438280" y="4190760"/>
              <a:ext cx="10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" name="TextovéPole 76"/>
            <p:cNvSpPr/>
            <p:nvPr/>
          </p:nvSpPr>
          <p:spPr>
            <a:xfrm>
              <a:off x="2133720" y="426708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kupina 77"/>
          <p:cNvGrpSpPr/>
          <p:nvPr/>
        </p:nvGrpSpPr>
        <p:grpSpPr>
          <a:xfrm>
            <a:off x="762120" y="2743200"/>
            <a:ext cx="1549440" cy="1983960"/>
            <a:chOff x="762120" y="2743200"/>
            <a:chExt cx="1549440" cy="1983960"/>
          </a:xfrm>
        </p:grpSpPr>
        <p:grpSp>
          <p:nvGrpSpPr>
            <p:cNvPr id="104" name="Skupina 3"/>
            <p:cNvGrpSpPr/>
            <p:nvPr/>
          </p:nvGrpSpPr>
          <p:grpSpPr>
            <a:xfrm>
              <a:off x="762120" y="2883960"/>
              <a:ext cx="1549440" cy="1762920"/>
              <a:chOff x="762120" y="2883960"/>
              <a:chExt cx="1549440" cy="1762920"/>
            </a:xfrm>
          </p:grpSpPr>
          <p:sp>
            <p:nvSpPr>
              <p:cNvPr id="105" name="Elipsa 82"/>
              <p:cNvSpPr/>
              <p:nvPr/>
            </p:nvSpPr>
            <p:spPr>
              <a:xfrm>
                <a:off x="1184760" y="3177720"/>
                <a:ext cx="1126800" cy="1175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Přímá spojovací čára 83"/>
              <p:cNvSpPr/>
              <p:nvPr/>
            </p:nvSpPr>
            <p:spPr>
              <a:xfrm>
                <a:off x="1466280" y="3471480"/>
                <a:ext cx="0" cy="58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Přímá spojovací čára 84"/>
              <p:cNvSpPr/>
              <p:nvPr/>
            </p:nvSpPr>
            <p:spPr>
              <a:xfrm flipV="1">
                <a:off x="1466280" y="3349800"/>
                <a:ext cx="68004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Přímá spojovací čára 85"/>
              <p:cNvSpPr/>
              <p:nvPr/>
            </p:nvSpPr>
            <p:spPr>
              <a:xfrm>
                <a:off x="1466280" y="3765240"/>
                <a:ext cx="68004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Přímá spojovací čára 86"/>
              <p:cNvSpPr/>
              <p:nvPr/>
            </p:nvSpPr>
            <p:spPr>
              <a:xfrm flipH="1">
                <a:off x="1184760" y="3765240"/>
                <a:ext cx="28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Přímá spojovací čára 87"/>
              <p:cNvSpPr/>
              <p:nvPr/>
            </p:nvSpPr>
            <p:spPr>
              <a:xfrm>
                <a:off x="2146680" y="288396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Přímá spojovací čára 88"/>
              <p:cNvSpPr/>
              <p:nvPr/>
            </p:nvSpPr>
            <p:spPr>
              <a:xfrm>
                <a:off x="2146680" y="418104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Přímá spojovací čára 89"/>
              <p:cNvSpPr/>
              <p:nvPr/>
            </p:nvSpPr>
            <p:spPr>
              <a:xfrm flipH="1">
                <a:off x="762120" y="3765240"/>
                <a:ext cx="42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ovéPole 79"/>
            <p:cNvSpPr/>
            <p:nvPr/>
          </p:nvSpPr>
          <p:spPr>
            <a:xfrm>
              <a:off x="832320" y="330732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ovéPole 80"/>
            <p:cNvSpPr/>
            <p:nvPr/>
          </p:nvSpPr>
          <p:spPr>
            <a:xfrm>
              <a:off x="1753200" y="274320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81"/>
            <p:cNvSpPr/>
            <p:nvPr/>
          </p:nvSpPr>
          <p:spPr>
            <a:xfrm>
              <a:off x="1753200" y="426744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Skupina 90"/>
          <p:cNvGrpSpPr/>
          <p:nvPr/>
        </p:nvGrpSpPr>
        <p:grpSpPr>
          <a:xfrm>
            <a:off x="5866920" y="2743200"/>
            <a:ext cx="1551600" cy="1983960"/>
            <a:chOff x="5866920" y="2743200"/>
            <a:chExt cx="1551600" cy="1983960"/>
          </a:xfrm>
        </p:grpSpPr>
        <p:grpSp>
          <p:nvGrpSpPr>
            <p:cNvPr id="117" name="Skupina 138"/>
            <p:cNvGrpSpPr/>
            <p:nvPr/>
          </p:nvGrpSpPr>
          <p:grpSpPr>
            <a:xfrm>
              <a:off x="5866920" y="2883960"/>
              <a:ext cx="1551600" cy="1762920"/>
              <a:chOff x="5866920" y="2883960"/>
              <a:chExt cx="1551600" cy="1762920"/>
            </a:xfrm>
          </p:grpSpPr>
          <p:sp>
            <p:nvSpPr>
              <p:cNvPr id="118" name="Elipsa 95"/>
              <p:cNvSpPr/>
              <p:nvPr/>
            </p:nvSpPr>
            <p:spPr>
              <a:xfrm>
                <a:off x="6290280" y="3177720"/>
                <a:ext cx="1128240" cy="1175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Přímá spojovací čára 96"/>
              <p:cNvSpPr/>
              <p:nvPr/>
            </p:nvSpPr>
            <p:spPr>
              <a:xfrm>
                <a:off x="6572520" y="3471480"/>
                <a:ext cx="0" cy="58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Přímá spojovací čára 97"/>
              <p:cNvSpPr/>
              <p:nvPr/>
            </p:nvSpPr>
            <p:spPr>
              <a:xfrm flipV="1">
                <a:off x="6572520" y="3349800"/>
                <a:ext cx="68076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Přímá spojovací čára 98"/>
              <p:cNvSpPr/>
              <p:nvPr/>
            </p:nvSpPr>
            <p:spPr>
              <a:xfrm>
                <a:off x="6572520" y="3765240"/>
                <a:ext cx="68076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Přímá spojovací čára 99"/>
              <p:cNvSpPr/>
              <p:nvPr/>
            </p:nvSpPr>
            <p:spPr>
              <a:xfrm flipH="1">
                <a:off x="6289920" y="3765240"/>
                <a:ext cx="28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Přímá spojovací čára 100"/>
              <p:cNvSpPr/>
              <p:nvPr/>
            </p:nvSpPr>
            <p:spPr>
              <a:xfrm>
                <a:off x="7253280" y="288396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Přímá spojovací čára 101"/>
              <p:cNvSpPr/>
              <p:nvPr/>
            </p:nvSpPr>
            <p:spPr>
              <a:xfrm>
                <a:off x="7253280" y="418104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Přímá spojovací čára 102"/>
              <p:cNvSpPr/>
              <p:nvPr/>
            </p:nvSpPr>
            <p:spPr>
              <a:xfrm flipH="1">
                <a:off x="5866920" y="3765240"/>
                <a:ext cx="42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ovéPole 92"/>
            <p:cNvSpPr/>
            <p:nvPr/>
          </p:nvSpPr>
          <p:spPr>
            <a:xfrm>
              <a:off x="5937480" y="330732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ovéPole 93"/>
            <p:cNvSpPr/>
            <p:nvPr/>
          </p:nvSpPr>
          <p:spPr>
            <a:xfrm>
              <a:off x="6858000" y="274320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ovéPole 94"/>
            <p:cNvSpPr/>
            <p:nvPr/>
          </p:nvSpPr>
          <p:spPr>
            <a:xfrm>
              <a:off x="6858000" y="426744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Skupina 103"/>
          <p:cNvGrpSpPr/>
          <p:nvPr/>
        </p:nvGrpSpPr>
        <p:grpSpPr>
          <a:xfrm>
            <a:off x="7238880" y="4114800"/>
            <a:ext cx="381240" cy="533880"/>
            <a:chOff x="7238880" y="4114800"/>
            <a:chExt cx="381240" cy="533880"/>
          </a:xfrm>
        </p:grpSpPr>
        <p:cxnSp>
          <p:nvCxnSpPr>
            <p:cNvPr id="130" name="Přímá spojovací šipka 104"/>
            <p:cNvCxnSpPr/>
            <p:nvPr/>
          </p:nvCxnSpPr>
          <p:spPr>
            <a:xfrm>
              <a:off x="7543800" y="4114800"/>
              <a:ext cx="1080" cy="53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31" name="TextovéPole 105"/>
            <p:cNvSpPr/>
            <p:nvPr/>
          </p:nvSpPr>
          <p:spPr>
            <a:xfrm>
              <a:off x="7238880" y="419076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d2d8a"/>
                </a:solidFill>
                <a:latin typeface="Arial"/>
              </a:rPr>
              <a:t>NAPĚTÍ MEZI ELEKTRODAMI BIPOLÁRNÍM TRANZI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"/>
          <p:cNvSpPr/>
          <p:nvPr/>
        </p:nvSpPr>
        <p:spPr>
          <a:xfrm>
            <a:off x="457200" y="51055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d2d8a"/>
                </a:solidFill>
                <a:latin typeface="Arial"/>
              </a:rPr>
              <a:t>Mezi jednotlivými dvojicemi elektrod můžeme definovat napě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52"/>
          <p:cNvSpPr/>
          <p:nvPr/>
        </p:nvSpPr>
        <p:spPr>
          <a:xfrm>
            <a:off x="6248520" y="1905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53"/>
          <p:cNvSpPr/>
          <p:nvPr/>
        </p:nvSpPr>
        <p:spPr>
          <a:xfrm>
            <a:off x="1143000" y="1905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59"/>
          <p:cNvSpPr/>
          <p:nvPr/>
        </p:nvSpPr>
        <p:spPr>
          <a:xfrm>
            <a:off x="3048120" y="2286000"/>
            <a:ext cx="26668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emit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kolekt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b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Skupina 70"/>
          <p:cNvGrpSpPr/>
          <p:nvPr/>
        </p:nvGrpSpPr>
        <p:grpSpPr>
          <a:xfrm>
            <a:off x="685800" y="3885840"/>
            <a:ext cx="457560" cy="441000"/>
            <a:chOff x="685800" y="3885840"/>
            <a:chExt cx="457560" cy="441000"/>
          </a:xfrm>
        </p:grpSpPr>
        <p:cxnSp>
          <p:nvCxnSpPr>
            <p:cNvPr id="138" name="Přímá spojovací šipka 68"/>
            <p:cNvCxnSpPr/>
            <p:nvPr/>
          </p:nvCxnSpPr>
          <p:spPr>
            <a:xfrm>
              <a:off x="685800" y="3885840"/>
              <a:ext cx="457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" name="TextovéPole 69"/>
            <p:cNvSpPr/>
            <p:nvPr/>
          </p:nvSpPr>
          <p:spPr>
            <a:xfrm>
              <a:off x="685800" y="388620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Skupina 71"/>
          <p:cNvGrpSpPr/>
          <p:nvPr/>
        </p:nvGrpSpPr>
        <p:grpSpPr>
          <a:xfrm>
            <a:off x="5791320" y="3885840"/>
            <a:ext cx="457560" cy="441000"/>
            <a:chOff x="5791320" y="3885840"/>
            <a:chExt cx="457560" cy="441000"/>
          </a:xfrm>
        </p:grpSpPr>
        <p:cxnSp>
          <p:nvCxnSpPr>
            <p:cNvPr id="141" name="Přímá spojovací šipka 72"/>
            <p:cNvCxnSpPr/>
            <p:nvPr/>
          </p:nvCxnSpPr>
          <p:spPr>
            <a:xfrm>
              <a:off x="5791320" y="3885840"/>
              <a:ext cx="457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2" name="TextovéPole 73"/>
            <p:cNvSpPr/>
            <p:nvPr/>
          </p:nvSpPr>
          <p:spPr>
            <a:xfrm>
              <a:off x="5791320" y="388620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Skupina 54"/>
          <p:cNvGrpSpPr/>
          <p:nvPr/>
        </p:nvGrpSpPr>
        <p:grpSpPr>
          <a:xfrm>
            <a:off x="2133720" y="2819160"/>
            <a:ext cx="380880" cy="533520"/>
            <a:chOff x="2133720" y="2819160"/>
            <a:chExt cx="380880" cy="533520"/>
          </a:xfrm>
        </p:grpSpPr>
        <p:cxnSp>
          <p:nvCxnSpPr>
            <p:cNvPr id="144" name="Přímá spojovací šipka 60"/>
            <p:cNvCxnSpPr/>
            <p:nvPr/>
          </p:nvCxnSpPr>
          <p:spPr>
            <a:xfrm>
              <a:off x="2438280" y="2819160"/>
              <a:ext cx="10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TextovéPole 63"/>
            <p:cNvSpPr/>
            <p:nvPr/>
          </p:nvSpPr>
          <p:spPr>
            <a:xfrm>
              <a:off x="2133720" y="289548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Skupina 66"/>
          <p:cNvGrpSpPr/>
          <p:nvPr/>
        </p:nvGrpSpPr>
        <p:grpSpPr>
          <a:xfrm>
            <a:off x="7238880" y="2819160"/>
            <a:ext cx="381240" cy="533520"/>
            <a:chOff x="7238880" y="2819160"/>
            <a:chExt cx="381240" cy="533520"/>
          </a:xfrm>
        </p:grpSpPr>
        <p:cxnSp>
          <p:nvCxnSpPr>
            <p:cNvPr id="147" name="Přímá spojovací šipka 67"/>
            <p:cNvCxnSpPr/>
            <p:nvPr/>
          </p:nvCxnSpPr>
          <p:spPr>
            <a:xfrm>
              <a:off x="7543800" y="2819160"/>
              <a:ext cx="10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8" name="TextovéPole 70"/>
            <p:cNvSpPr/>
            <p:nvPr/>
          </p:nvSpPr>
          <p:spPr>
            <a:xfrm>
              <a:off x="7238880" y="289548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Skupina 71"/>
          <p:cNvGrpSpPr/>
          <p:nvPr/>
        </p:nvGrpSpPr>
        <p:grpSpPr>
          <a:xfrm>
            <a:off x="2133720" y="4190760"/>
            <a:ext cx="380880" cy="533520"/>
            <a:chOff x="2133720" y="4190760"/>
            <a:chExt cx="380880" cy="533520"/>
          </a:xfrm>
        </p:grpSpPr>
        <p:cxnSp>
          <p:nvCxnSpPr>
            <p:cNvPr id="150" name="Přímá spojovací šipka 74"/>
            <p:cNvCxnSpPr/>
            <p:nvPr/>
          </p:nvCxnSpPr>
          <p:spPr>
            <a:xfrm>
              <a:off x="2438280" y="4190760"/>
              <a:ext cx="10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TextovéPole 75"/>
            <p:cNvSpPr/>
            <p:nvPr/>
          </p:nvSpPr>
          <p:spPr>
            <a:xfrm>
              <a:off x="2133720" y="426708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Skupina 76"/>
          <p:cNvGrpSpPr/>
          <p:nvPr/>
        </p:nvGrpSpPr>
        <p:grpSpPr>
          <a:xfrm>
            <a:off x="762120" y="2743200"/>
            <a:ext cx="1549440" cy="1983960"/>
            <a:chOff x="762120" y="2743200"/>
            <a:chExt cx="1549440" cy="1983960"/>
          </a:xfrm>
        </p:grpSpPr>
        <p:grpSp>
          <p:nvGrpSpPr>
            <p:cNvPr id="153" name="Skupina 3"/>
            <p:cNvGrpSpPr/>
            <p:nvPr/>
          </p:nvGrpSpPr>
          <p:grpSpPr>
            <a:xfrm>
              <a:off x="762120" y="2883960"/>
              <a:ext cx="1549440" cy="1762920"/>
              <a:chOff x="762120" y="2883960"/>
              <a:chExt cx="1549440" cy="1762920"/>
            </a:xfrm>
          </p:grpSpPr>
          <p:sp>
            <p:nvSpPr>
              <p:cNvPr id="154" name="Elipsa 81"/>
              <p:cNvSpPr/>
              <p:nvPr/>
            </p:nvSpPr>
            <p:spPr>
              <a:xfrm>
                <a:off x="1184760" y="3177720"/>
                <a:ext cx="1126800" cy="1175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Přímá spojovací čára 82"/>
              <p:cNvSpPr/>
              <p:nvPr/>
            </p:nvSpPr>
            <p:spPr>
              <a:xfrm>
                <a:off x="1466280" y="3471480"/>
                <a:ext cx="0" cy="58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Přímá spojovací čára 83"/>
              <p:cNvSpPr/>
              <p:nvPr/>
            </p:nvSpPr>
            <p:spPr>
              <a:xfrm flipV="1">
                <a:off x="1466280" y="3349800"/>
                <a:ext cx="68004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Přímá spojovací čára 84"/>
              <p:cNvSpPr/>
              <p:nvPr/>
            </p:nvSpPr>
            <p:spPr>
              <a:xfrm>
                <a:off x="1466280" y="3765240"/>
                <a:ext cx="68004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Přímá spojovací čára 85"/>
              <p:cNvSpPr/>
              <p:nvPr/>
            </p:nvSpPr>
            <p:spPr>
              <a:xfrm flipH="1">
                <a:off x="1184760" y="3765240"/>
                <a:ext cx="28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Přímá spojovací čára 86"/>
              <p:cNvSpPr/>
              <p:nvPr/>
            </p:nvSpPr>
            <p:spPr>
              <a:xfrm>
                <a:off x="2146680" y="288396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Přímá spojovací čára 87"/>
              <p:cNvSpPr/>
              <p:nvPr/>
            </p:nvSpPr>
            <p:spPr>
              <a:xfrm>
                <a:off x="2146680" y="418104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Přímá spojovací čára 88"/>
              <p:cNvSpPr/>
              <p:nvPr/>
            </p:nvSpPr>
            <p:spPr>
              <a:xfrm flipH="1">
                <a:off x="762120" y="3765240"/>
                <a:ext cx="42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ovéPole 78"/>
            <p:cNvSpPr/>
            <p:nvPr/>
          </p:nvSpPr>
          <p:spPr>
            <a:xfrm>
              <a:off x="832320" y="330732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ovéPole 79"/>
            <p:cNvSpPr/>
            <p:nvPr/>
          </p:nvSpPr>
          <p:spPr>
            <a:xfrm>
              <a:off x="1753200" y="274320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ovéPole 80"/>
            <p:cNvSpPr/>
            <p:nvPr/>
          </p:nvSpPr>
          <p:spPr>
            <a:xfrm>
              <a:off x="1753200" y="426744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Skupina 89"/>
          <p:cNvGrpSpPr/>
          <p:nvPr/>
        </p:nvGrpSpPr>
        <p:grpSpPr>
          <a:xfrm>
            <a:off x="5866920" y="2743200"/>
            <a:ext cx="1551600" cy="1983960"/>
            <a:chOff x="5866920" y="2743200"/>
            <a:chExt cx="1551600" cy="1983960"/>
          </a:xfrm>
        </p:grpSpPr>
        <p:grpSp>
          <p:nvGrpSpPr>
            <p:cNvPr id="166" name="Skupina 138"/>
            <p:cNvGrpSpPr/>
            <p:nvPr/>
          </p:nvGrpSpPr>
          <p:grpSpPr>
            <a:xfrm>
              <a:off x="5866920" y="2883960"/>
              <a:ext cx="1551600" cy="1762920"/>
              <a:chOff x="5866920" y="2883960"/>
              <a:chExt cx="1551600" cy="1762920"/>
            </a:xfrm>
          </p:grpSpPr>
          <p:sp>
            <p:nvSpPr>
              <p:cNvPr id="167" name="Elipsa 94"/>
              <p:cNvSpPr/>
              <p:nvPr/>
            </p:nvSpPr>
            <p:spPr>
              <a:xfrm>
                <a:off x="6290280" y="3177720"/>
                <a:ext cx="1128240" cy="1175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Přímá spojovací čára 95"/>
              <p:cNvSpPr/>
              <p:nvPr/>
            </p:nvSpPr>
            <p:spPr>
              <a:xfrm>
                <a:off x="6572520" y="3471480"/>
                <a:ext cx="0" cy="58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Přímá spojovací čára 96"/>
              <p:cNvSpPr/>
              <p:nvPr/>
            </p:nvSpPr>
            <p:spPr>
              <a:xfrm flipV="1">
                <a:off x="6572520" y="3349800"/>
                <a:ext cx="68076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Přímá spojovací čára 97"/>
              <p:cNvSpPr/>
              <p:nvPr/>
            </p:nvSpPr>
            <p:spPr>
              <a:xfrm>
                <a:off x="6572520" y="3765240"/>
                <a:ext cx="68076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Přímá spojovací čára 98"/>
              <p:cNvSpPr/>
              <p:nvPr/>
            </p:nvSpPr>
            <p:spPr>
              <a:xfrm flipH="1">
                <a:off x="6289920" y="3765240"/>
                <a:ext cx="28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Přímá spojovací čára 99"/>
              <p:cNvSpPr/>
              <p:nvPr/>
            </p:nvSpPr>
            <p:spPr>
              <a:xfrm>
                <a:off x="7253280" y="288396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Přímá spojovací čára 100"/>
              <p:cNvSpPr/>
              <p:nvPr/>
            </p:nvSpPr>
            <p:spPr>
              <a:xfrm>
                <a:off x="7253280" y="418104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Přímá spojovací čára 101"/>
              <p:cNvSpPr/>
              <p:nvPr/>
            </p:nvSpPr>
            <p:spPr>
              <a:xfrm flipH="1">
                <a:off x="5866920" y="3765240"/>
                <a:ext cx="42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ovéPole 91"/>
            <p:cNvSpPr/>
            <p:nvPr/>
          </p:nvSpPr>
          <p:spPr>
            <a:xfrm>
              <a:off x="5937480" y="330732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ovéPole 92"/>
            <p:cNvSpPr/>
            <p:nvPr/>
          </p:nvSpPr>
          <p:spPr>
            <a:xfrm>
              <a:off x="6858000" y="274320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ovéPole 93"/>
            <p:cNvSpPr/>
            <p:nvPr/>
          </p:nvSpPr>
          <p:spPr>
            <a:xfrm>
              <a:off x="6858000" y="426744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Skupina 102"/>
          <p:cNvGrpSpPr/>
          <p:nvPr/>
        </p:nvGrpSpPr>
        <p:grpSpPr>
          <a:xfrm>
            <a:off x="7238880" y="4114800"/>
            <a:ext cx="381240" cy="533880"/>
            <a:chOff x="7238880" y="4114800"/>
            <a:chExt cx="381240" cy="533880"/>
          </a:xfrm>
        </p:grpSpPr>
        <p:cxnSp>
          <p:nvCxnSpPr>
            <p:cNvPr id="179" name="Přímá spojovací šipka 103"/>
            <p:cNvCxnSpPr/>
            <p:nvPr/>
          </p:nvCxnSpPr>
          <p:spPr>
            <a:xfrm>
              <a:off x="7543800" y="4114800"/>
              <a:ext cx="1080" cy="53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80" name="TextovéPole 104"/>
            <p:cNvSpPr/>
            <p:nvPr/>
          </p:nvSpPr>
          <p:spPr>
            <a:xfrm>
              <a:off x="7238880" y="419076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Skupina 113"/>
          <p:cNvGrpSpPr/>
          <p:nvPr/>
        </p:nvGrpSpPr>
        <p:grpSpPr>
          <a:xfrm>
            <a:off x="380880" y="2438280"/>
            <a:ext cx="2667240" cy="2590920"/>
            <a:chOff x="380880" y="2438280"/>
            <a:chExt cx="2667240" cy="2590920"/>
          </a:xfrm>
        </p:grpSpPr>
        <p:sp>
          <p:nvSpPr>
            <p:cNvPr id="182" name="Oblouk 107"/>
            <p:cNvSpPr/>
            <p:nvPr/>
          </p:nvSpPr>
          <p:spPr>
            <a:xfrm>
              <a:off x="456840" y="2438280"/>
              <a:ext cx="2591280" cy="2590920"/>
            </a:xfrm>
            <a:custGeom>
              <a:avLst/>
              <a:gdLst>
                <a:gd name="textAreaLeft" fmla="*/ 24480 w 2591280"/>
                <a:gd name="textAreaRight" fmla="*/ 1305720 w 2591280"/>
                <a:gd name="textAreaTop" fmla="*/ 154764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stroke="0" w="2590800" h="2590800">
                  <a:moveTo>
                    <a:pt x="1305364" y="2590762"/>
                  </a:moveTo>
                  <a:lnTo>
                    <a:pt x="1305364" y="2590762"/>
                  </a:lnTo>
                  <a:arcTo wR="1295400" hR="1295400" stAng="5373557" swAng="4753014"/>
                  <a:lnTo>
                    <a:pt x="1295400" y="1295400"/>
                  </a:lnTo>
                  <a:close/>
                </a:path>
                <a:path fill="none" w="2590800" h="2590800">
                  <a:moveTo>
                    <a:pt x="1305364" y="2590762"/>
                  </a:moveTo>
                  <a:lnTo>
                    <a:pt x="1305364" y="2590762"/>
                  </a:lnTo>
                  <a:arcTo wR="1295400" hR="1295400" stAng="5373557" swAng="4753014"/>
                </a:path>
              </a:pathLst>
            </a:custGeom>
            <a:noFill/>
            <a:ln w="28440">
              <a:solidFill>
                <a:srgbClr val="2d2d8a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ovéPole 108"/>
            <p:cNvSpPr/>
            <p:nvPr/>
          </p:nvSpPr>
          <p:spPr>
            <a:xfrm>
              <a:off x="380880" y="449604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Skupina 112"/>
          <p:cNvGrpSpPr/>
          <p:nvPr/>
        </p:nvGrpSpPr>
        <p:grpSpPr>
          <a:xfrm>
            <a:off x="380880" y="2362320"/>
            <a:ext cx="2667240" cy="2666880"/>
            <a:chOff x="380880" y="2362320"/>
            <a:chExt cx="2667240" cy="2666880"/>
          </a:xfrm>
        </p:grpSpPr>
        <p:sp>
          <p:nvSpPr>
            <p:cNvPr id="185" name="Oblouk 106"/>
            <p:cNvSpPr/>
            <p:nvPr/>
          </p:nvSpPr>
          <p:spPr>
            <a:xfrm>
              <a:off x="456840" y="2438280"/>
              <a:ext cx="2591280" cy="2590920"/>
            </a:xfrm>
            <a:custGeom>
              <a:avLst/>
              <a:gdLst>
                <a:gd name="textAreaLeft" fmla="*/ 18720 w 2591280"/>
                <a:gd name="textAreaRight" fmla="*/ 1352880 w 2591280"/>
                <a:gd name="textAreaTop" fmla="*/ 0 h 2590920"/>
                <a:gd name="textAreaBottom" fmla="*/ 1075680 h 2590920"/>
              </a:gdLst>
              <a:ahLst/>
              <a:rect l="textAreaLeft" t="textAreaTop" r="textAreaRight" b="textAreaBottom"/>
              <a:pathLst>
                <a:path stroke="0" w="2590800" h="2590800">
                  <a:moveTo>
                    <a:pt x="18786" y="1075586"/>
                  </a:moveTo>
                  <a:lnTo>
                    <a:pt x="18786" y="1075586"/>
                  </a:lnTo>
                  <a:arcTo wR="1295400" hR="1295400" stAng="-10213819" swAng="4965855"/>
                  <a:lnTo>
                    <a:pt x="1295400" y="1295400"/>
                  </a:lnTo>
                  <a:close/>
                </a:path>
                <a:path fill="none" w="2590800" h="2590800">
                  <a:moveTo>
                    <a:pt x="18786" y="1075586"/>
                  </a:moveTo>
                  <a:lnTo>
                    <a:pt x="18786" y="1075586"/>
                  </a:lnTo>
                  <a:arcTo wR="1295400" hR="1295400" stAng="-10213819" swAng="4965855"/>
                </a:path>
              </a:pathLst>
            </a:custGeom>
            <a:noFill/>
            <a:ln w="28440">
              <a:solidFill>
                <a:srgbClr val="2d2d8a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ovéPole 109"/>
            <p:cNvSpPr/>
            <p:nvPr/>
          </p:nvSpPr>
          <p:spPr>
            <a:xfrm>
              <a:off x="380880" y="23623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C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Skupina 111"/>
          <p:cNvGrpSpPr/>
          <p:nvPr/>
        </p:nvGrpSpPr>
        <p:grpSpPr>
          <a:xfrm>
            <a:off x="457200" y="2438280"/>
            <a:ext cx="2666880" cy="2590920"/>
            <a:chOff x="457200" y="2438280"/>
            <a:chExt cx="2666880" cy="2590920"/>
          </a:xfrm>
        </p:grpSpPr>
        <p:sp>
          <p:nvSpPr>
            <p:cNvPr id="188" name="Oblouk 105"/>
            <p:cNvSpPr/>
            <p:nvPr/>
          </p:nvSpPr>
          <p:spPr>
            <a:xfrm>
              <a:off x="457200" y="2438280"/>
              <a:ext cx="2590920" cy="2590920"/>
            </a:xfrm>
            <a:custGeom>
              <a:avLst/>
              <a:gdLst>
                <a:gd name="textAreaLeft" fmla="*/ 1845720 w 2590920"/>
                <a:gd name="textAreaRight" fmla="*/ 2591280 w 2590920"/>
                <a:gd name="textAreaTop" fmla="*/ 150480 h 2590920"/>
                <a:gd name="textAreaBottom" fmla="*/ 2468520 h 2590920"/>
              </a:gdLst>
              <a:ahLst/>
              <a:rect l="textAreaLeft" t="textAreaTop" r="textAreaRight" b="textAreaBottom"/>
              <a:pathLst>
                <a:path stroke="0" w="2590800" h="2590800">
                  <a:moveTo>
                    <a:pt x="1901959" y="150783"/>
                  </a:moveTo>
                  <a:lnTo>
                    <a:pt x="1901959" y="150783"/>
                  </a:lnTo>
                  <a:arcTo wR="1295400" hR="1295400" stAng="-3724791" swAng="7616947"/>
                  <a:lnTo>
                    <a:pt x="1295400" y="1295400"/>
                  </a:lnTo>
                  <a:close/>
                </a:path>
                <a:path fill="none" w="2590800" h="2590800">
                  <a:moveTo>
                    <a:pt x="1901959" y="150783"/>
                  </a:moveTo>
                  <a:lnTo>
                    <a:pt x="1901959" y="150783"/>
                  </a:lnTo>
                  <a:arcTo wR="1295400" hR="1295400" stAng="-3724791" swAng="7616947"/>
                </a:path>
              </a:pathLst>
            </a:custGeom>
            <a:noFill/>
            <a:ln w="28440">
              <a:solidFill>
                <a:srgbClr val="2d2d8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ovéPole 110"/>
            <p:cNvSpPr/>
            <p:nvPr/>
          </p:nvSpPr>
          <p:spPr>
            <a:xfrm>
              <a:off x="2514600" y="35812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Skupina 116"/>
          <p:cNvGrpSpPr/>
          <p:nvPr/>
        </p:nvGrpSpPr>
        <p:grpSpPr>
          <a:xfrm>
            <a:off x="5562720" y="2438280"/>
            <a:ext cx="2666880" cy="2590920"/>
            <a:chOff x="5562720" y="2438280"/>
            <a:chExt cx="2666880" cy="2590920"/>
          </a:xfrm>
        </p:grpSpPr>
        <p:sp>
          <p:nvSpPr>
            <p:cNvPr id="191" name="Oblouk 123"/>
            <p:cNvSpPr/>
            <p:nvPr/>
          </p:nvSpPr>
          <p:spPr>
            <a:xfrm>
              <a:off x="5638680" y="2438280"/>
              <a:ext cx="2590920" cy="2590920"/>
            </a:xfrm>
            <a:custGeom>
              <a:avLst/>
              <a:gdLst>
                <a:gd name="textAreaLeft" fmla="*/ 24480 w 2590920"/>
                <a:gd name="textAreaRight" fmla="*/ 1305360 w 2590920"/>
                <a:gd name="textAreaTop" fmla="*/ 154764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stroke="0" w="2590800" h="2590800">
                  <a:moveTo>
                    <a:pt x="1305364" y="2590762"/>
                  </a:moveTo>
                  <a:lnTo>
                    <a:pt x="1305364" y="2590762"/>
                  </a:lnTo>
                  <a:arcTo wR="1295400" hR="1295400" stAng="5373557" swAng="4753014"/>
                  <a:lnTo>
                    <a:pt x="1295400" y="1295400"/>
                  </a:lnTo>
                  <a:close/>
                </a:path>
                <a:path fill="none" w="2590800" h="2590800">
                  <a:moveTo>
                    <a:pt x="1305364" y="2590762"/>
                  </a:moveTo>
                  <a:lnTo>
                    <a:pt x="1305364" y="2590762"/>
                  </a:lnTo>
                  <a:arcTo wR="1295400" hR="1295400" stAng="5373557" swAng="4753014"/>
                </a:path>
              </a:pathLst>
            </a:custGeom>
            <a:noFill/>
            <a:ln w="28440">
              <a:solidFill>
                <a:srgbClr val="2d2d8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ovéPole 124"/>
            <p:cNvSpPr/>
            <p:nvPr/>
          </p:nvSpPr>
          <p:spPr>
            <a:xfrm>
              <a:off x="5562720" y="449604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Skupina 117"/>
          <p:cNvGrpSpPr/>
          <p:nvPr/>
        </p:nvGrpSpPr>
        <p:grpSpPr>
          <a:xfrm>
            <a:off x="5562720" y="2362320"/>
            <a:ext cx="2666880" cy="2666880"/>
            <a:chOff x="5562720" y="2362320"/>
            <a:chExt cx="2666880" cy="2666880"/>
          </a:xfrm>
        </p:grpSpPr>
        <p:sp>
          <p:nvSpPr>
            <p:cNvPr id="194" name="Oblouk 121"/>
            <p:cNvSpPr/>
            <p:nvPr/>
          </p:nvSpPr>
          <p:spPr>
            <a:xfrm>
              <a:off x="5638680" y="2438280"/>
              <a:ext cx="2590920" cy="2590920"/>
            </a:xfrm>
            <a:custGeom>
              <a:avLst/>
              <a:gdLst>
                <a:gd name="textAreaLeft" fmla="*/ 18720 w 2590920"/>
                <a:gd name="textAreaRight" fmla="*/ 1352880 w 2590920"/>
                <a:gd name="textAreaTop" fmla="*/ 0 h 2590920"/>
                <a:gd name="textAreaBottom" fmla="*/ 1075680 h 2590920"/>
              </a:gdLst>
              <a:ahLst/>
              <a:rect l="textAreaLeft" t="textAreaTop" r="textAreaRight" b="textAreaBottom"/>
              <a:pathLst>
                <a:path stroke="0" w="2590800" h="2590800">
                  <a:moveTo>
                    <a:pt x="18786" y="1075586"/>
                  </a:moveTo>
                  <a:lnTo>
                    <a:pt x="18786" y="1075586"/>
                  </a:lnTo>
                  <a:arcTo wR="1295400" hR="1295400" stAng="-10213819" swAng="4965855"/>
                  <a:lnTo>
                    <a:pt x="1295400" y="1295400"/>
                  </a:lnTo>
                  <a:close/>
                </a:path>
                <a:path fill="none" w="2590800" h="2590800">
                  <a:moveTo>
                    <a:pt x="18786" y="1075586"/>
                  </a:moveTo>
                  <a:lnTo>
                    <a:pt x="18786" y="1075586"/>
                  </a:lnTo>
                  <a:arcTo wR="1295400" hR="1295400" stAng="-10213819" swAng="4965855"/>
                </a:path>
              </a:pathLst>
            </a:custGeom>
            <a:noFill/>
            <a:ln w="28440">
              <a:solidFill>
                <a:srgbClr val="2d2d8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ovéPole 122"/>
            <p:cNvSpPr/>
            <p:nvPr/>
          </p:nvSpPr>
          <p:spPr>
            <a:xfrm>
              <a:off x="5562720" y="23623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C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Skupina 118"/>
          <p:cNvGrpSpPr/>
          <p:nvPr/>
        </p:nvGrpSpPr>
        <p:grpSpPr>
          <a:xfrm>
            <a:off x="5638680" y="2438280"/>
            <a:ext cx="2667240" cy="2590920"/>
            <a:chOff x="5638680" y="2438280"/>
            <a:chExt cx="2667240" cy="2590920"/>
          </a:xfrm>
        </p:grpSpPr>
        <p:sp>
          <p:nvSpPr>
            <p:cNvPr id="197" name="Oblouk 119"/>
            <p:cNvSpPr/>
            <p:nvPr/>
          </p:nvSpPr>
          <p:spPr>
            <a:xfrm>
              <a:off x="5638680" y="2438280"/>
              <a:ext cx="2591280" cy="2590920"/>
            </a:xfrm>
            <a:custGeom>
              <a:avLst/>
              <a:gdLst>
                <a:gd name="textAreaLeft" fmla="*/ 1846080 w 2591280"/>
                <a:gd name="textAreaRight" fmla="*/ 2591640 w 2591280"/>
                <a:gd name="textAreaTop" fmla="*/ 150480 h 2590920"/>
                <a:gd name="textAreaBottom" fmla="*/ 2468520 h 2590920"/>
              </a:gdLst>
              <a:ahLst/>
              <a:rect l="textAreaLeft" t="textAreaTop" r="textAreaRight" b="textAreaBottom"/>
              <a:pathLst>
                <a:path stroke="0" w="2590800" h="2590800">
                  <a:moveTo>
                    <a:pt x="1901959" y="150783"/>
                  </a:moveTo>
                  <a:lnTo>
                    <a:pt x="1901959" y="150783"/>
                  </a:lnTo>
                  <a:arcTo wR="1295400" hR="1295400" stAng="-3724791" swAng="7616947"/>
                  <a:lnTo>
                    <a:pt x="1295400" y="1295400"/>
                  </a:lnTo>
                  <a:close/>
                </a:path>
                <a:path fill="none" w="2590800" h="2590800">
                  <a:moveTo>
                    <a:pt x="1901959" y="150783"/>
                  </a:moveTo>
                  <a:lnTo>
                    <a:pt x="1901959" y="150783"/>
                  </a:lnTo>
                  <a:arcTo wR="1295400" hR="1295400" stAng="-3724791" swAng="7616947"/>
                </a:path>
              </a:pathLst>
            </a:custGeom>
            <a:noFill/>
            <a:ln w="28440">
              <a:solidFill>
                <a:srgbClr val="2d2d8a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ovéPole 120"/>
            <p:cNvSpPr/>
            <p:nvPr/>
          </p:nvSpPr>
          <p:spPr>
            <a:xfrm>
              <a:off x="7696440" y="35812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d2d8a"/>
                </a:solidFill>
                <a:latin typeface="Arial"/>
              </a:rPr>
              <a:t>NAPĚTÍ MEZI ELEKTRODAMI BIPOLÁRNÍM TRANZI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2"/>
          <p:cNvSpPr/>
          <p:nvPr/>
        </p:nvSpPr>
        <p:spPr>
          <a:xfrm>
            <a:off x="457200" y="51055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d2d8a"/>
                </a:solidFill>
                <a:latin typeface="Arial"/>
              </a:rPr>
              <a:t>Mezi jednotlivými dvojicemi elektrod můžeme definovat napě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d2d8a"/>
                </a:solidFill>
                <a:latin typeface="Arial"/>
              </a:rPr>
              <a:t>Směry těchto napětí závisí na typu tranzist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ovéPole 52"/>
          <p:cNvSpPr/>
          <p:nvPr/>
        </p:nvSpPr>
        <p:spPr>
          <a:xfrm>
            <a:off x="6248520" y="1905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ovéPole 53"/>
          <p:cNvSpPr/>
          <p:nvPr/>
        </p:nvSpPr>
        <p:spPr>
          <a:xfrm>
            <a:off x="1143000" y="1905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ovéPole 59"/>
          <p:cNvSpPr/>
          <p:nvPr/>
        </p:nvSpPr>
        <p:spPr>
          <a:xfrm>
            <a:off x="3048120" y="2286000"/>
            <a:ext cx="26668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emit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kolekt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b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Skupina 70"/>
          <p:cNvGrpSpPr/>
          <p:nvPr/>
        </p:nvGrpSpPr>
        <p:grpSpPr>
          <a:xfrm>
            <a:off x="685800" y="3885840"/>
            <a:ext cx="457560" cy="441000"/>
            <a:chOff x="685800" y="3885840"/>
            <a:chExt cx="457560" cy="441000"/>
          </a:xfrm>
        </p:grpSpPr>
        <p:cxnSp>
          <p:nvCxnSpPr>
            <p:cNvPr id="205" name="Přímá spojovací šipka 68"/>
            <p:cNvCxnSpPr/>
            <p:nvPr/>
          </p:nvCxnSpPr>
          <p:spPr>
            <a:xfrm>
              <a:off x="685800" y="3885840"/>
              <a:ext cx="457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6" name="TextovéPole 69"/>
            <p:cNvSpPr/>
            <p:nvPr/>
          </p:nvSpPr>
          <p:spPr>
            <a:xfrm>
              <a:off x="685800" y="388620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Skupina 71"/>
          <p:cNvGrpSpPr/>
          <p:nvPr/>
        </p:nvGrpSpPr>
        <p:grpSpPr>
          <a:xfrm>
            <a:off x="5791320" y="3885840"/>
            <a:ext cx="457560" cy="441000"/>
            <a:chOff x="5791320" y="3885840"/>
            <a:chExt cx="457560" cy="441000"/>
          </a:xfrm>
        </p:grpSpPr>
        <p:cxnSp>
          <p:nvCxnSpPr>
            <p:cNvPr id="208" name="Přímá spojovací šipka 72"/>
            <p:cNvCxnSpPr/>
            <p:nvPr/>
          </p:nvCxnSpPr>
          <p:spPr>
            <a:xfrm>
              <a:off x="5791320" y="3885840"/>
              <a:ext cx="457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09" name="TextovéPole 73"/>
            <p:cNvSpPr/>
            <p:nvPr/>
          </p:nvSpPr>
          <p:spPr>
            <a:xfrm>
              <a:off x="5791320" y="388620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Skupina 54"/>
          <p:cNvGrpSpPr/>
          <p:nvPr/>
        </p:nvGrpSpPr>
        <p:grpSpPr>
          <a:xfrm>
            <a:off x="2133720" y="2819160"/>
            <a:ext cx="380880" cy="533520"/>
            <a:chOff x="2133720" y="2819160"/>
            <a:chExt cx="380880" cy="533520"/>
          </a:xfrm>
        </p:grpSpPr>
        <p:cxnSp>
          <p:nvCxnSpPr>
            <p:cNvPr id="211" name="Přímá spojovací šipka 60"/>
            <p:cNvCxnSpPr/>
            <p:nvPr/>
          </p:nvCxnSpPr>
          <p:spPr>
            <a:xfrm>
              <a:off x="2438280" y="2819160"/>
              <a:ext cx="10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" name="TextovéPole 63"/>
            <p:cNvSpPr/>
            <p:nvPr/>
          </p:nvSpPr>
          <p:spPr>
            <a:xfrm>
              <a:off x="2133720" y="289548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Skupina 66"/>
          <p:cNvGrpSpPr/>
          <p:nvPr/>
        </p:nvGrpSpPr>
        <p:grpSpPr>
          <a:xfrm>
            <a:off x="7238880" y="2819160"/>
            <a:ext cx="381240" cy="533520"/>
            <a:chOff x="7238880" y="2819160"/>
            <a:chExt cx="381240" cy="533520"/>
          </a:xfrm>
        </p:grpSpPr>
        <p:cxnSp>
          <p:nvCxnSpPr>
            <p:cNvPr id="214" name="Přímá spojovací šipka 67"/>
            <p:cNvCxnSpPr/>
            <p:nvPr/>
          </p:nvCxnSpPr>
          <p:spPr>
            <a:xfrm>
              <a:off x="7543800" y="2819160"/>
              <a:ext cx="10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15" name="TextovéPole 70"/>
            <p:cNvSpPr/>
            <p:nvPr/>
          </p:nvSpPr>
          <p:spPr>
            <a:xfrm>
              <a:off x="7238880" y="289548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Skupina 71"/>
          <p:cNvGrpSpPr/>
          <p:nvPr/>
        </p:nvGrpSpPr>
        <p:grpSpPr>
          <a:xfrm>
            <a:off x="2133720" y="4190760"/>
            <a:ext cx="380880" cy="533520"/>
            <a:chOff x="2133720" y="4190760"/>
            <a:chExt cx="380880" cy="533520"/>
          </a:xfrm>
        </p:grpSpPr>
        <p:cxnSp>
          <p:nvCxnSpPr>
            <p:cNvPr id="217" name="Přímá spojovací šipka 74"/>
            <p:cNvCxnSpPr/>
            <p:nvPr/>
          </p:nvCxnSpPr>
          <p:spPr>
            <a:xfrm>
              <a:off x="2438280" y="4190760"/>
              <a:ext cx="10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8" name="TextovéPole 75"/>
            <p:cNvSpPr/>
            <p:nvPr/>
          </p:nvSpPr>
          <p:spPr>
            <a:xfrm>
              <a:off x="2133720" y="426708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Skupina 76"/>
          <p:cNvGrpSpPr/>
          <p:nvPr/>
        </p:nvGrpSpPr>
        <p:grpSpPr>
          <a:xfrm>
            <a:off x="762120" y="2743200"/>
            <a:ext cx="1549440" cy="1983960"/>
            <a:chOff x="762120" y="2743200"/>
            <a:chExt cx="1549440" cy="1983960"/>
          </a:xfrm>
        </p:grpSpPr>
        <p:grpSp>
          <p:nvGrpSpPr>
            <p:cNvPr id="220" name="Skupina 3"/>
            <p:cNvGrpSpPr/>
            <p:nvPr/>
          </p:nvGrpSpPr>
          <p:grpSpPr>
            <a:xfrm>
              <a:off x="762120" y="2883960"/>
              <a:ext cx="1549440" cy="1762920"/>
              <a:chOff x="762120" y="2883960"/>
              <a:chExt cx="1549440" cy="1762920"/>
            </a:xfrm>
          </p:grpSpPr>
          <p:sp>
            <p:nvSpPr>
              <p:cNvPr id="221" name="Elipsa 81"/>
              <p:cNvSpPr/>
              <p:nvPr/>
            </p:nvSpPr>
            <p:spPr>
              <a:xfrm>
                <a:off x="1184760" y="3177720"/>
                <a:ext cx="1126800" cy="1175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Přímá spojovací čára 82"/>
              <p:cNvSpPr/>
              <p:nvPr/>
            </p:nvSpPr>
            <p:spPr>
              <a:xfrm>
                <a:off x="1466280" y="3471480"/>
                <a:ext cx="0" cy="58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Přímá spojovací čára 83"/>
              <p:cNvSpPr/>
              <p:nvPr/>
            </p:nvSpPr>
            <p:spPr>
              <a:xfrm flipV="1">
                <a:off x="1466280" y="3349800"/>
                <a:ext cx="68004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Přímá spojovací čára 84"/>
              <p:cNvSpPr/>
              <p:nvPr/>
            </p:nvSpPr>
            <p:spPr>
              <a:xfrm>
                <a:off x="1466280" y="3765240"/>
                <a:ext cx="68004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Přímá spojovací čára 85"/>
              <p:cNvSpPr/>
              <p:nvPr/>
            </p:nvSpPr>
            <p:spPr>
              <a:xfrm flipH="1">
                <a:off x="1184760" y="3765240"/>
                <a:ext cx="28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Přímá spojovací čára 86"/>
              <p:cNvSpPr/>
              <p:nvPr/>
            </p:nvSpPr>
            <p:spPr>
              <a:xfrm>
                <a:off x="2146680" y="288396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Přímá spojovací čára 87"/>
              <p:cNvSpPr/>
              <p:nvPr/>
            </p:nvSpPr>
            <p:spPr>
              <a:xfrm>
                <a:off x="2146680" y="418104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Přímá spojovací čára 88"/>
              <p:cNvSpPr/>
              <p:nvPr/>
            </p:nvSpPr>
            <p:spPr>
              <a:xfrm flipH="1">
                <a:off x="762120" y="3765240"/>
                <a:ext cx="422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ovéPole 78"/>
            <p:cNvSpPr/>
            <p:nvPr/>
          </p:nvSpPr>
          <p:spPr>
            <a:xfrm>
              <a:off x="832320" y="330732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ovéPole 79"/>
            <p:cNvSpPr/>
            <p:nvPr/>
          </p:nvSpPr>
          <p:spPr>
            <a:xfrm>
              <a:off x="1753200" y="274320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ovéPole 80"/>
            <p:cNvSpPr/>
            <p:nvPr/>
          </p:nvSpPr>
          <p:spPr>
            <a:xfrm>
              <a:off x="1753200" y="426744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Skupina 89"/>
          <p:cNvGrpSpPr/>
          <p:nvPr/>
        </p:nvGrpSpPr>
        <p:grpSpPr>
          <a:xfrm>
            <a:off x="5866920" y="2743200"/>
            <a:ext cx="1551600" cy="1983960"/>
            <a:chOff x="5866920" y="2743200"/>
            <a:chExt cx="1551600" cy="1983960"/>
          </a:xfrm>
        </p:grpSpPr>
        <p:grpSp>
          <p:nvGrpSpPr>
            <p:cNvPr id="233" name="Skupina 138"/>
            <p:cNvGrpSpPr/>
            <p:nvPr/>
          </p:nvGrpSpPr>
          <p:grpSpPr>
            <a:xfrm>
              <a:off x="5866920" y="2883960"/>
              <a:ext cx="1551600" cy="1762920"/>
              <a:chOff x="5866920" y="2883960"/>
              <a:chExt cx="1551600" cy="1762920"/>
            </a:xfrm>
          </p:grpSpPr>
          <p:sp>
            <p:nvSpPr>
              <p:cNvPr id="234" name="Elipsa 94"/>
              <p:cNvSpPr/>
              <p:nvPr/>
            </p:nvSpPr>
            <p:spPr>
              <a:xfrm>
                <a:off x="6290280" y="3177720"/>
                <a:ext cx="1128240" cy="11754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Přímá spojovací čára 95"/>
              <p:cNvSpPr/>
              <p:nvPr/>
            </p:nvSpPr>
            <p:spPr>
              <a:xfrm>
                <a:off x="6572520" y="3471480"/>
                <a:ext cx="0" cy="58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Přímá spojovací čára 96"/>
              <p:cNvSpPr/>
              <p:nvPr/>
            </p:nvSpPr>
            <p:spPr>
              <a:xfrm flipV="1">
                <a:off x="6572520" y="3349800"/>
                <a:ext cx="68076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Přímá spojovací čára 97"/>
              <p:cNvSpPr/>
              <p:nvPr/>
            </p:nvSpPr>
            <p:spPr>
              <a:xfrm>
                <a:off x="6572520" y="3765240"/>
                <a:ext cx="68076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Přímá spojovací čára 98"/>
              <p:cNvSpPr/>
              <p:nvPr/>
            </p:nvSpPr>
            <p:spPr>
              <a:xfrm flipH="1">
                <a:off x="6289920" y="3765240"/>
                <a:ext cx="28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Přímá spojovací čára 99"/>
              <p:cNvSpPr/>
              <p:nvPr/>
            </p:nvSpPr>
            <p:spPr>
              <a:xfrm>
                <a:off x="7253280" y="288396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Přímá spojovací čára 100"/>
              <p:cNvSpPr/>
              <p:nvPr/>
            </p:nvSpPr>
            <p:spPr>
              <a:xfrm>
                <a:off x="7253280" y="4181040"/>
                <a:ext cx="0" cy="46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Přímá spojovací čára 101"/>
              <p:cNvSpPr/>
              <p:nvPr/>
            </p:nvSpPr>
            <p:spPr>
              <a:xfrm flipH="1">
                <a:off x="5866920" y="3765240"/>
                <a:ext cx="42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TextovéPole 91"/>
            <p:cNvSpPr/>
            <p:nvPr/>
          </p:nvSpPr>
          <p:spPr>
            <a:xfrm>
              <a:off x="5937480" y="330732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ovéPole 92"/>
            <p:cNvSpPr/>
            <p:nvPr/>
          </p:nvSpPr>
          <p:spPr>
            <a:xfrm>
              <a:off x="6858000" y="274320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ovéPole 93"/>
            <p:cNvSpPr/>
            <p:nvPr/>
          </p:nvSpPr>
          <p:spPr>
            <a:xfrm>
              <a:off x="6858000" y="426744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Skupina 102"/>
          <p:cNvGrpSpPr/>
          <p:nvPr/>
        </p:nvGrpSpPr>
        <p:grpSpPr>
          <a:xfrm>
            <a:off x="7238880" y="4114800"/>
            <a:ext cx="381240" cy="533880"/>
            <a:chOff x="7238880" y="4114800"/>
            <a:chExt cx="381240" cy="533880"/>
          </a:xfrm>
        </p:grpSpPr>
        <p:cxnSp>
          <p:nvCxnSpPr>
            <p:cNvPr id="246" name="Přímá spojovací šipka 103"/>
            <p:cNvCxnSpPr/>
            <p:nvPr/>
          </p:nvCxnSpPr>
          <p:spPr>
            <a:xfrm>
              <a:off x="7543800" y="4114800"/>
              <a:ext cx="1080" cy="53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47" name="TextovéPole 104"/>
            <p:cNvSpPr/>
            <p:nvPr/>
          </p:nvSpPr>
          <p:spPr>
            <a:xfrm>
              <a:off x="7238880" y="419076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Oblouk 107"/>
          <p:cNvSpPr/>
          <p:nvPr/>
        </p:nvSpPr>
        <p:spPr>
          <a:xfrm>
            <a:off x="457200" y="2438280"/>
            <a:ext cx="2590920" cy="2590920"/>
          </a:xfrm>
          <a:custGeom>
            <a:avLst/>
            <a:gdLst>
              <a:gd name="textAreaLeft" fmla="*/ 24480 w 2590920"/>
              <a:gd name="textAreaRight" fmla="*/ 1305360 w 2590920"/>
              <a:gd name="textAreaTop" fmla="*/ 1547640 h 2590920"/>
              <a:gd name="textAreaBottom" fmla="*/ 2591280 h 2590920"/>
            </a:gdLst>
            <a:ahLst/>
            <a:rect l="textAreaLeft" t="textAreaTop" r="textAreaRight" b="textAreaBottom"/>
            <a:pathLst>
              <a:path stroke="0" w="2590800" h="2590800">
                <a:moveTo>
                  <a:pt x="1305364" y="2590762"/>
                </a:moveTo>
                <a:lnTo>
                  <a:pt x="1305364" y="2590762"/>
                </a:lnTo>
                <a:arcTo wR="1295400" hR="1295400" stAng="5373557" swAng="4753014"/>
                <a:lnTo>
                  <a:pt x="1295400" y="1295400"/>
                </a:lnTo>
                <a:close/>
              </a:path>
              <a:path fill="none" w="2590800" h="2590800">
                <a:moveTo>
                  <a:pt x="1305364" y="2590762"/>
                </a:moveTo>
                <a:lnTo>
                  <a:pt x="1305364" y="2590762"/>
                </a:lnTo>
                <a:arcTo wR="1295400" hR="1295400" stAng="5373557" swAng="4753014"/>
              </a:path>
            </a:pathLst>
          </a:custGeom>
          <a:noFill/>
          <a:ln w="28440">
            <a:solidFill>
              <a:srgbClr val="2d2d8a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ovéPole 108"/>
          <p:cNvSpPr/>
          <p:nvPr/>
        </p:nvSpPr>
        <p:spPr>
          <a:xfrm>
            <a:off x="380880" y="449568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2d2d8a"/>
                </a:solidFill>
                <a:latin typeface="Arial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louk 106"/>
          <p:cNvSpPr/>
          <p:nvPr/>
        </p:nvSpPr>
        <p:spPr>
          <a:xfrm>
            <a:off x="457200" y="2438280"/>
            <a:ext cx="2590920" cy="2590920"/>
          </a:xfrm>
          <a:custGeom>
            <a:avLst/>
            <a:gdLst>
              <a:gd name="textAreaLeft" fmla="*/ 18720 w 2590920"/>
              <a:gd name="textAreaRight" fmla="*/ 1352880 w 2590920"/>
              <a:gd name="textAreaTop" fmla="*/ 0 h 2590920"/>
              <a:gd name="textAreaBottom" fmla="*/ 1075680 h 2590920"/>
            </a:gdLst>
            <a:ahLst/>
            <a:rect l="textAreaLeft" t="textAreaTop" r="textAreaRight" b="textAreaBottom"/>
            <a:pathLst>
              <a:path stroke="0" w="2590800" h="2590800">
                <a:moveTo>
                  <a:pt x="18786" y="1075586"/>
                </a:moveTo>
                <a:lnTo>
                  <a:pt x="18786" y="1075586"/>
                </a:lnTo>
                <a:arcTo wR="1295400" hR="1295400" stAng="-10213819" swAng="4965855"/>
                <a:lnTo>
                  <a:pt x="1295400" y="1295400"/>
                </a:lnTo>
                <a:close/>
              </a:path>
              <a:path fill="none" w="2590800" h="2590800">
                <a:moveTo>
                  <a:pt x="18786" y="1075586"/>
                </a:moveTo>
                <a:lnTo>
                  <a:pt x="18786" y="1075586"/>
                </a:lnTo>
                <a:arcTo wR="1295400" hR="1295400" stAng="-10213819" swAng="4965855"/>
              </a:path>
            </a:pathLst>
          </a:custGeom>
          <a:noFill/>
          <a:ln w="28440">
            <a:solidFill>
              <a:srgbClr val="2d2d8a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ovéPole 109"/>
          <p:cNvSpPr/>
          <p:nvPr/>
        </p:nvSpPr>
        <p:spPr>
          <a:xfrm>
            <a:off x="380880" y="23623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2d2d8a"/>
                </a:solidFill>
                <a:latin typeface="Arial"/>
              </a:rPr>
              <a:t>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blouk 105"/>
          <p:cNvSpPr/>
          <p:nvPr/>
        </p:nvSpPr>
        <p:spPr>
          <a:xfrm>
            <a:off x="457200" y="2438280"/>
            <a:ext cx="2590920" cy="2590920"/>
          </a:xfrm>
          <a:custGeom>
            <a:avLst/>
            <a:gdLst>
              <a:gd name="textAreaLeft" fmla="*/ 1845720 w 2590920"/>
              <a:gd name="textAreaRight" fmla="*/ 2591280 w 2590920"/>
              <a:gd name="textAreaTop" fmla="*/ 150480 h 2590920"/>
              <a:gd name="textAreaBottom" fmla="*/ 2468520 h 2590920"/>
            </a:gdLst>
            <a:ahLst/>
            <a:rect l="textAreaLeft" t="textAreaTop" r="textAreaRight" b="textAreaBottom"/>
            <a:pathLst>
              <a:path stroke="0" w="2590800" h="2590800">
                <a:moveTo>
                  <a:pt x="1901959" y="150783"/>
                </a:moveTo>
                <a:lnTo>
                  <a:pt x="1901959" y="150783"/>
                </a:lnTo>
                <a:arcTo wR="1295400" hR="1295400" stAng="-3724791" swAng="7616947"/>
                <a:lnTo>
                  <a:pt x="1295400" y="1295400"/>
                </a:lnTo>
                <a:close/>
              </a:path>
              <a:path fill="none" w="2590800" h="2590800">
                <a:moveTo>
                  <a:pt x="1901959" y="150783"/>
                </a:moveTo>
                <a:lnTo>
                  <a:pt x="1901959" y="150783"/>
                </a:lnTo>
                <a:arcTo wR="1295400" hR="1295400" stAng="-3724791" swAng="7616947"/>
              </a:path>
            </a:pathLst>
          </a:custGeom>
          <a:noFill/>
          <a:ln w="28440">
            <a:solidFill>
              <a:srgbClr val="2d2d8a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ovéPole 110"/>
          <p:cNvSpPr/>
          <p:nvPr/>
        </p:nvSpPr>
        <p:spPr>
          <a:xfrm>
            <a:off x="2514600" y="35812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2d2d8a"/>
                </a:solidFill>
                <a:latin typeface="Arial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louk 123"/>
          <p:cNvSpPr/>
          <p:nvPr/>
        </p:nvSpPr>
        <p:spPr>
          <a:xfrm>
            <a:off x="5638680" y="2438280"/>
            <a:ext cx="2590920" cy="2590920"/>
          </a:xfrm>
          <a:custGeom>
            <a:avLst/>
            <a:gdLst>
              <a:gd name="textAreaLeft" fmla="*/ 24480 w 2590920"/>
              <a:gd name="textAreaRight" fmla="*/ 1305360 w 2590920"/>
              <a:gd name="textAreaTop" fmla="*/ 1547640 h 2590920"/>
              <a:gd name="textAreaBottom" fmla="*/ 2591280 h 2590920"/>
            </a:gdLst>
            <a:ahLst/>
            <a:rect l="textAreaLeft" t="textAreaTop" r="textAreaRight" b="textAreaBottom"/>
            <a:pathLst>
              <a:path stroke="0" w="2590800" h="2590800">
                <a:moveTo>
                  <a:pt x="1305364" y="2590762"/>
                </a:moveTo>
                <a:lnTo>
                  <a:pt x="1305364" y="2590762"/>
                </a:lnTo>
                <a:arcTo wR="1295400" hR="1295400" stAng="5373557" swAng="4753014"/>
                <a:lnTo>
                  <a:pt x="1295400" y="1295400"/>
                </a:lnTo>
                <a:close/>
              </a:path>
              <a:path fill="none" w="2590800" h="2590800">
                <a:moveTo>
                  <a:pt x="1305364" y="2590762"/>
                </a:moveTo>
                <a:lnTo>
                  <a:pt x="1305364" y="2590762"/>
                </a:lnTo>
                <a:arcTo wR="1295400" hR="1295400" stAng="5373557" swAng="4753014"/>
              </a:path>
            </a:pathLst>
          </a:custGeom>
          <a:noFill/>
          <a:ln w="28440">
            <a:solidFill>
              <a:srgbClr val="2d2d8a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ovéPole 124"/>
          <p:cNvSpPr/>
          <p:nvPr/>
        </p:nvSpPr>
        <p:spPr>
          <a:xfrm>
            <a:off x="5562720" y="44956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2d2d8a"/>
                </a:solidFill>
                <a:latin typeface="Arial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louk 121"/>
          <p:cNvSpPr/>
          <p:nvPr/>
        </p:nvSpPr>
        <p:spPr>
          <a:xfrm>
            <a:off x="5638680" y="2438280"/>
            <a:ext cx="2590920" cy="2590920"/>
          </a:xfrm>
          <a:custGeom>
            <a:avLst/>
            <a:gdLst>
              <a:gd name="textAreaLeft" fmla="*/ 18720 w 2590920"/>
              <a:gd name="textAreaRight" fmla="*/ 1352880 w 2590920"/>
              <a:gd name="textAreaTop" fmla="*/ 0 h 2590920"/>
              <a:gd name="textAreaBottom" fmla="*/ 1075680 h 2590920"/>
            </a:gdLst>
            <a:ahLst/>
            <a:rect l="textAreaLeft" t="textAreaTop" r="textAreaRight" b="textAreaBottom"/>
            <a:pathLst>
              <a:path stroke="0" w="2590800" h="2590800">
                <a:moveTo>
                  <a:pt x="18786" y="1075586"/>
                </a:moveTo>
                <a:lnTo>
                  <a:pt x="18786" y="1075586"/>
                </a:lnTo>
                <a:arcTo wR="1295400" hR="1295400" stAng="-10213819" swAng="4965855"/>
                <a:lnTo>
                  <a:pt x="1295400" y="1295400"/>
                </a:lnTo>
                <a:close/>
              </a:path>
              <a:path fill="none" w="2590800" h="2590800">
                <a:moveTo>
                  <a:pt x="18786" y="1075586"/>
                </a:moveTo>
                <a:lnTo>
                  <a:pt x="18786" y="1075586"/>
                </a:lnTo>
                <a:arcTo wR="1295400" hR="1295400" stAng="-10213819" swAng="4965855"/>
              </a:path>
            </a:pathLst>
          </a:custGeom>
          <a:noFill/>
          <a:ln w="28440">
            <a:solidFill>
              <a:srgbClr val="2d2d8a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ovéPole 122"/>
          <p:cNvSpPr/>
          <p:nvPr/>
        </p:nvSpPr>
        <p:spPr>
          <a:xfrm>
            <a:off x="5562720" y="23623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2d2d8a"/>
                </a:solidFill>
                <a:latin typeface="Arial"/>
              </a:rPr>
              <a:t>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louk 119"/>
          <p:cNvSpPr/>
          <p:nvPr/>
        </p:nvSpPr>
        <p:spPr>
          <a:xfrm>
            <a:off x="5638680" y="2438280"/>
            <a:ext cx="2590920" cy="2590920"/>
          </a:xfrm>
          <a:custGeom>
            <a:avLst/>
            <a:gdLst>
              <a:gd name="textAreaLeft" fmla="*/ 1845720 w 2590920"/>
              <a:gd name="textAreaRight" fmla="*/ 2591280 w 2590920"/>
              <a:gd name="textAreaTop" fmla="*/ 150480 h 2590920"/>
              <a:gd name="textAreaBottom" fmla="*/ 2468520 h 2590920"/>
            </a:gdLst>
            <a:ahLst/>
            <a:rect l="textAreaLeft" t="textAreaTop" r="textAreaRight" b="textAreaBottom"/>
            <a:pathLst>
              <a:path stroke="0" w="2590800" h="2590800">
                <a:moveTo>
                  <a:pt x="1901959" y="150783"/>
                </a:moveTo>
                <a:lnTo>
                  <a:pt x="1901959" y="150783"/>
                </a:lnTo>
                <a:arcTo wR="1295400" hR="1295400" stAng="-3724791" swAng="7616947"/>
                <a:lnTo>
                  <a:pt x="1295400" y="1295400"/>
                </a:lnTo>
                <a:close/>
              </a:path>
              <a:path fill="none" w="2590800" h="2590800">
                <a:moveTo>
                  <a:pt x="1901959" y="150783"/>
                </a:moveTo>
                <a:lnTo>
                  <a:pt x="1901959" y="150783"/>
                </a:lnTo>
                <a:arcTo wR="1295400" hR="1295400" stAng="-3724791" swAng="7616947"/>
              </a:path>
            </a:pathLst>
          </a:custGeom>
          <a:noFill/>
          <a:ln w="28440">
            <a:solidFill>
              <a:srgbClr val="2d2d8a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ovéPole 120"/>
          <p:cNvSpPr/>
          <p:nvPr/>
        </p:nvSpPr>
        <p:spPr>
          <a:xfrm>
            <a:off x="7696080" y="358128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2d2d8a"/>
                </a:solidFill>
                <a:latin typeface="Arial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500" autoRev="1" fill="hold"/>
                                        <p:tgtEl>
                                          <p:spTgt spid="2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50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500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500" autoRev="1" fill="hold"/>
                                        <p:tgtEl>
                                          <p:spTgt spid="2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50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50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d2d8a"/>
                </a:solidFill>
                <a:latin typeface="Arial"/>
              </a:rPr>
              <a:t>NAPĚTÍ MEZI ELEKTRODAMI BIPOLÁRNÍM TRANZIST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2"/>
          <p:cNvSpPr/>
          <p:nvPr/>
        </p:nvSpPr>
        <p:spPr>
          <a:xfrm>
            <a:off x="457200" y="51055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d2d8a"/>
                </a:solidFill>
                <a:latin typeface="Arial"/>
              </a:rPr>
              <a:t>Mezi jednotlivými dvojicemi elektrod můžeme definovat napě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d2d8a"/>
                </a:solidFill>
                <a:latin typeface="Arial"/>
              </a:rPr>
              <a:t>Směry těchto napětí závisí na typu tranzist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ovéPole 52"/>
          <p:cNvSpPr/>
          <p:nvPr/>
        </p:nvSpPr>
        <p:spPr>
          <a:xfrm>
            <a:off x="6248520" y="1905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ovéPole 53"/>
          <p:cNvSpPr/>
          <p:nvPr/>
        </p:nvSpPr>
        <p:spPr>
          <a:xfrm>
            <a:off x="1143000" y="1905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ovéPole 59"/>
          <p:cNvSpPr/>
          <p:nvPr/>
        </p:nvSpPr>
        <p:spPr>
          <a:xfrm>
            <a:off x="3048120" y="2286000"/>
            <a:ext cx="35812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emit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kolekt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ud b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2d2d8a"/>
                </a:solidFill>
                <a:latin typeface="Arial"/>
              </a:rPr>
              <a:t>CE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nap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ě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í kolektor-em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cs-CZ" sz="2000" spc="-1" strike="noStrike" baseline="-25000">
                <a:solidFill>
                  <a:srgbClr val="2d2d8a"/>
                </a:solidFill>
                <a:latin typeface="Arial"/>
              </a:rPr>
              <a:t>CB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 – napětí kolektorem-b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U</a:t>
            </a:r>
            <a:r>
              <a:rPr b="0" lang="cs-CZ" sz="2000" spc="-1" strike="noStrike" baseline="-25000">
                <a:solidFill>
                  <a:srgbClr val="2d2d8a"/>
                </a:solidFill>
                <a:latin typeface="Arial"/>
              </a:rPr>
              <a:t>BE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 – napětí báze-em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Skupina 62"/>
          <p:cNvGrpSpPr/>
          <p:nvPr/>
        </p:nvGrpSpPr>
        <p:grpSpPr>
          <a:xfrm>
            <a:off x="380880" y="2362320"/>
            <a:ext cx="2743200" cy="2666880"/>
            <a:chOff x="380880" y="2362320"/>
            <a:chExt cx="2743200" cy="2666880"/>
          </a:xfrm>
        </p:grpSpPr>
        <p:grpSp>
          <p:nvGrpSpPr>
            <p:cNvPr id="266" name="Skupina 70"/>
            <p:cNvGrpSpPr/>
            <p:nvPr/>
          </p:nvGrpSpPr>
          <p:grpSpPr>
            <a:xfrm>
              <a:off x="685440" y="3885840"/>
              <a:ext cx="457560" cy="441000"/>
              <a:chOff x="685440" y="3885840"/>
              <a:chExt cx="457560" cy="441000"/>
            </a:xfrm>
          </p:grpSpPr>
          <p:cxnSp>
            <p:nvCxnSpPr>
              <p:cNvPr id="267" name="Přímá spojovací šipka 68"/>
              <p:cNvCxnSpPr/>
              <p:nvPr/>
            </p:nvCxnSpPr>
            <p:spPr>
              <a:xfrm>
                <a:off x="685440" y="3885840"/>
                <a:ext cx="4579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8" name="TextovéPole 69"/>
              <p:cNvSpPr/>
              <p:nvPr/>
            </p:nvSpPr>
            <p:spPr>
              <a:xfrm>
                <a:off x="685440" y="3886200"/>
                <a:ext cx="3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Skupina 54"/>
            <p:cNvGrpSpPr/>
            <p:nvPr/>
          </p:nvGrpSpPr>
          <p:grpSpPr>
            <a:xfrm>
              <a:off x="2133360" y="2819160"/>
              <a:ext cx="380880" cy="533520"/>
              <a:chOff x="2133360" y="2819160"/>
              <a:chExt cx="380880" cy="533520"/>
            </a:xfrm>
          </p:grpSpPr>
          <p:cxnSp>
            <p:nvCxnSpPr>
              <p:cNvPr id="270" name="Přímá spojovací šipka 60"/>
              <p:cNvCxnSpPr/>
              <p:nvPr/>
            </p:nvCxnSpPr>
            <p:spPr>
              <a:xfrm>
                <a:off x="2437920" y="2819160"/>
                <a:ext cx="108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1" name="TextovéPole 63"/>
              <p:cNvSpPr/>
              <p:nvPr/>
            </p:nvSpPr>
            <p:spPr>
              <a:xfrm>
                <a:off x="2133360" y="289548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Skupina 71"/>
            <p:cNvGrpSpPr/>
            <p:nvPr/>
          </p:nvGrpSpPr>
          <p:grpSpPr>
            <a:xfrm>
              <a:off x="2133360" y="4190760"/>
              <a:ext cx="380880" cy="533520"/>
              <a:chOff x="2133360" y="4190760"/>
              <a:chExt cx="380880" cy="533520"/>
            </a:xfrm>
          </p:grpSpPr>
          <p:cxnSp>
            <p:nvCxnSpPr>
              <p:cNvPr id="273" name="Přímá spojovací šipka 74"/>
              <p:cNvCxnSpPr/>
              <p:nvPr/>
            </p:nvCxnSpPr>
            <p:spPr>
              <a:xfrm>
                <a:off x="2437920" y="4190760"/>
                <a:ext cx="108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4" name="TextovéPole 75"/>
              <p:cNvSpPr/>
              <p:nvPr/>
            </p:nvSpPr>
            <p:spPr>
              <a:xfrm>
                <a:off x="2133360" y="426708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Skupina 76"/>
            <p:cNvGrpSpPr/>
            <p:nvPr/>
          </p:nvGrpSpPr>
          <p:grpSpPr>
            <a:xfrm>
              <a:off x="761400" y="2743200"/>
              <a:ext cx="1549080" cy="1983960"/>
              <a:chOff x="761400" y="2743200"/>
              <a:chExt cx="1549080" cy="1983960"/>
            </a:xfrm>
          </p:grpSpPr>
          <p:grpSp>
            <p:nvGrpSpPr>
              <p:cNvPr id="276" name="Skupina 3"/>
              <p:cNvGrpSpPr/>
              <p:nvPr/>
            </p:nvGrpSpPr>
            <p:grpSpPr>
              <a:xfrm>
                <a:off x="761400" y="2883960"/>
                <a:ext cx="1549080" cy="1762920"/>
                <a:chOff x="761400" y="2883960"/>
                <a:chExt cx="1549080" cy="1762920"/>
              </a:xfrm>
            </p:grpSpPr>
            <p:sp>
              <p:nvSpPr>
                <p:cNvPr id="277" name="Elipsa 81"/>
                <p:cNvSpPr/>
                <p:nvPr/>
              </p:nvSpPr>
              <p:spPr>
                <a:xfrm>
                  <a:off x="1184040" y="3177720"/>
                  <a:ext cx="1126440" cy="11754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Přímá spojovací čára 82"/>
                <p:cNvSpPr/>
                <p:nvPr/>
              </p:nvSpPr>
              <p:spPr>
                <a:xfrm>
                  <a:off x="1465560" y="3471480"/>
                  <a:ext cx="0" cy="587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Přímá spojovací čára 83"/>
                <p:cNvSpPr/>
                <p:nvPr/>
              </p:nvSpPr>
              <p:spPr>
                <a:xfrm flipV="1">
                  <a:off x="1465560" y="3349800"/>
                  <a:ext cx="679680" cy="41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Přímá spojovací čára 84"/>
                <p:cNvSpPr/>
                <p:nvPr/>
              </p:nvSpPr>
              <p:spPr>
                <a:xfrm>
                  <a:off x="1465560" y="3765240"/>
                  <a:ext cx="679680" cy="41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Přímá spojovací čára 85"/>
                <p:cNvSpPr/>
                <p:nvPr/>
              </p:nvSpPr>
              <p:spPr>
                <a:xfrm flipH="1">
                  <a:off x="1184040" y="3765240"/>
                  <a:ext cx="281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Přímá spojovací čára 86"/>
                <p:cNvSpPr/>
                <p:nvPr/>
              </p:nvSpPr>
              <p:spPr>
                <a:xfrm>
                  <a:off x="2145600" y="2883960"/>
                  <a:ext cx="0" cy="46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Přímá spojovací čára 87"/>
                <p:cNvSpPr/>
                <p:nvPr/>
              </p:nvSpPr>
              <p:spPr>
                <a:xfrm>
                  <a:off x="2145600" y="4181040"/>
                  <a:ext cx="0" cy="46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Přímá spojovací čára 88"/>
                <p:cNvSpPr/>
                <p:nvPr/>
              </p:nvSpPr>
              <p:spPr>
                <a:xfrm flipH="1">
                  <a:off x="761400" y="3765240"/>
                  <a:ext cx="422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TextovéPole 78"/>
              <p:cNvSpPr/>
              <p:nvPr/>
            </p:nvSpPr>
            <p:spPr>
              <a:xfrm>
                <a:off x="831960" y="3307320"/>
                <a:ext cx="35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ovéPole 79"/>
              <p:cNvSpPr/>
              <p:nvPr/>
            </p:nvSpPr>
            <p:spPr>
              <a:xfrm>
                <a:off x="1752480" y="2743200"/>
                <a:ext cx="35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ovéPole 80"/>
              <p:cNvSpPr/>
              <p:nvPr/>
            </p:nvSpPr>
            <p:spPr>
              <a:xfrm>
                <a:off x="1752480" y="4267440"/>
                <a:ext cx="35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Oblouk 107"/>
            <p:cNvSpPr/>
            <p:nvPr/>
          </p:nvSpPr>
          <p:spPr>
            <a:xfrm>
              <a:off x="456840" y="2438280"/>
              <a:ext cx="2590920" cy="2590920"/>
            </a:xfrm>
            <a:custGeom>
              <a:avLst/>
              <a:gdLst>
                <a:gd name="textAreaLeft" fmla="*/ 24480 w 2590920"/>
                <a:gd name="textAreaRight" fmla="*/ 1305360 w 2590920"/>
                <a:gd name="textAreaTop" fmla="*/ 154764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stroke="0" w="2590800" h="2590800">
                  <a:moveTo>
                    <a:pt x="1305364" y="2590762"/>
                  </a:moveTo>
                  <a:lnTo>
                    <a:pt x="1305364" y="2590762"/>
                  </a:lnTo>
                  <a:arcTo wR="1295400" hR="1295400" stAng="5373557" swAng="4753014"/>
                  <a:lnTo>
                    <a:pt x="1295400" y="1295400"/>
                  </a:lnTo>
                  <a:close/>
                </a:path>
                <a:path fill="none" w="2590800" h="2590800">
                  <a:moveTo>
                    <a:pt x="1305364" y="2590762"/>
                  </a:moveTo>
                  <a:lnTo>
                    <a:pt x="1305364" y="2590762"/>
                  </a:lnTo>
                  <a:arcTo wR="1295400" hR="1295400" stAng="5373557" swAng="4753014"/>
                </a:path>
              </a:pathLst>
            </a:custGeom>
            <a:noFill/>
            <a:ln w="28440">
              <a:solidFill>
                <a:srgbClr val="2d2d8a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ovéPole 108"/>
            <p:cNvSpPr/>
            <p:nvPr/>
          </p:nvSpPr>
          <p:spPr>
            <a:xfrm>
              <a:off x="380880" y="449604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blouk 106"/>
            <p:cNvSpPr/>
            <p:nvPr/>
          </p:nvSpPr>
          <p:spPr>
            <a:xfrm>
              <a:off x="456840" y="2438280"/>
              <a:ext cx="2590920" cy="2590920"/>
            </a:xfrm>
            <a:custGeom>
              <a:avLst/>
              <a:gdLst>
                <a:gd name="textAreaLeft" fmla="*/ 18720 w 2590920"/>
                <a:gd name="textAreaRight" fmla="*/ 1352880 w 2590920"/>
                <a:gd name="textAreaTop" fmla="*/ 0 h 2590920"/>
                <a:gd name="textAreaBottom" fmla="*/ 1075680 h 2590920"/>
              </a:gdLst>
              <a:ahLst/>
              <a:rect l="textAreaLeft" t="textAreaTop" r="textAreaRight" b="textAreaBottom"/>
              <a:pathLst>
                <a:path stroke="0" w="2590800" h="2590800">
                  <a:moveTo>
                    <a:pt x="18786" y="1075586"/>
                  </a:moveTo>
                  <a:lnTo>
                    <a:pt x="18786" y="1075586"/>
                  </a:lnTo>
                  <a:arcTo wR="1295400" hR="1295400" stAng="-10213819" swAng="4965855"/>
                  <a:lnTo>
                    <a:pt x="1295400" y="1295400"/>
                  </a:lnTo>
                  <a:close/>
                </a:path>
                <a:path fill="none" w="2590800" h="2590800">
                  <a:moveTo>
                    <a:pt x="18786" y="1075586"/>
                  </a:moveTo>
                  <a:lnTo>
                    <a:pt x="18786" y="1075586"/>
                  </a:lnTo>
                  <a:arcTo wR="1295400" hR="1295400" stAng="-10213819" swAng="4965855"/>
                </a:path>
              </a:pathLst>
            </a:custGeom>
            <a:noFill/>
            <a:ln w="28440">
              <a:solidFill>
                <a:srgbClr val="2d2d8a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ovéPole 109"/>
            <p:cNvSpPr/>
            <p:nvPr/>
          </p:nvSpPr>
          <p:spPr>
            <a:xfrm>
              <a:off x="380880" y="23623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C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blouk 105"/>
            <p:cNvSpPr/>
            <p:nvPr/>
          </p:nvSpPr>
          <p:spPr>
            <a:xfrm>
              <a:off x="456840" y="2438280"/>
              <a:ext cx="2590920" cy="2590920"/>
            </a:xfrm>
            <a:custGeom>
              <a:avLst/>
              <a:gdLst>
                <a:gd name="textAreaLeft" fmla="*/ 1845720 w 2590920"/>
                <a:gd name="textAreaRight" fmla="*/ 2591280 w 2590920"/>
                <a:gd name="textAreaTop" fmla="*/ 150480 h 2590920"/>
                <a:gd name="textAreaBottom" fmla="*/ 2468520 h 2590920"/>
              </a:gdLst>
              <a:ahLst/>
              <a:rect l="textAreaLeft" t="textAreaTop" r="textAreaRight" b="textAreaBottom"/>
              <a:pathLst>
                <a:path stroke="0" w="2590800" h="2590800">
                  <a:moveTo>
                    <a:pt x="1901959" y="150783"/>
                  </a:moveTo>
                  <a:lnTo>
                    <a:pt x="1901959" y="150783"/>
                  </a:lnTo>
                  <a:arcTo wR="1295400" hR="1295400" stAng="-3724791" swAng="7616947"/>
                  <a:lnTo>
                    <a:pt x="1295400" y="1295400"/>
                  </a:lnTo>
                  <a:close/>
                </a:path>
                <a:path fill="none" w="2590800" h="2590800">
                  <a:moveTo>
                    <a:pt x="1901959" y="150783"/>
                  </a:moveTo>
                  <a:lnTo>
                    <a:pt x="1901959" y="150783"/>
                  </a:lnTo>
                  <a:arcTo wR="1295400" hR="1295400" stAng="-3724791" swAng="7616947"/>
                </a:path>
              </a:pathLst>
            </a:custGeom>
            <a:noFill/>
            <a:ln w="28440">
              <a:solidFill>
                <a:srgbClr val="2d2d8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ovéPole 110"/>
            <p:cNvSpPr/>
            <p:nvPr/>
          </p:nvSpPr>
          <p:spPr>
            <a:xfrm>
              <a:off x="2514600" y="35812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Skupina 64"/>
          <p:cNvGrpSpPr/>
          <p:nvPr/>
        </p:nvGrpSpPr>
        <p:grpSpPr>
          <a:xfrm>
            <a:off x="5562720" y="2362320"/>
            <a:ext cx="2743200" cy="2666880"/>
            <a:chOff x="5562720" y="2362320"/>
            <a:chExt cx="2743200" cy="2666880"/>
          </a:xfrm>
        </p:grpSpPr>
        <p:grpSp>
          <p:nvGrpSpPr>
            <p:cNvPr id="295" name="Skupina 71"/>
            <p:cNvGrpSpPr/>
            <p:nvPr/>
          </p:nvGrpSpPr>
          <p:grpSpPr>
            <a:xfrm>
              <a:off x="5791320" y="3885840"/>
              <a:ext cx="457560" cy="441000"/>
              <a:chOff x="5791320" y="3885840"/>
              <a:chExt cx="457560" cy="441000"/>
            </a:xfrm>
          </p:grpSpPr>
          <p:cxnSp>
            <p:nvCxnSpPr>
              <p:cNvPr id="296" name="Přímá spojovací šipka 72"/>
              <p:cNvCxnSpPr/>
              <p:nvPr/>
            </p:nvCxnSpPr>
            <p:spPr>
              <a:xfrm>
                <a:off x="5791320" y="3885840"/>
                <a:ext cx="45792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</p:cxnSp>
          <p:sp>
            <p:nvSpPr>
              <p:cNvPr id="297" name="TextovéPole 73"/>
              <p:cNvSpPr/>
              <p:nvPr/>
            </p:nvSpPr>
            <p:spPr>
              <a:xfrm>
                <a:off x="5791320" y="3886200"/>
                <a:ext cx="3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Skupina 66"/>
            <p:cNvGrpSpPr/>
            <p:nvPr/>
          </p:nvGrpSpPr>
          <p:grpSpPr>
            <a:xfrm>
              <a:off x="7239240" y="2819160"/>
              <a:ext cx="380880" cy="533520"/>
              <a:chOff x="7239240" y="2819160"/>
              <a:chExt cx="380880" cy="533520"/>
            </a:xfrm>
          </p:grpSpPr>
          <p:cxnSp>
            <p:nvCxnSpPr>
              <p:cNvPr id="299" name="Přímá spojovací šipka 67"/>
              <p:cNvCxnSpPr/>
              <p:nvPr/>
            </p:nvCxnSpPr>
            <p:spPr>
              <a:xfrm>
                <a:off x="7543800" y="2819160"/>
                <a:ext cx="108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</p:cxnSp>
          <p:sp>
            <p:nvSpPr>
              <p:cNvPr id="300" name="TextovéPole 70"/>
              <p:cNvSpPr/>
              <p:nvPr/>
            </p:nvSpPr>
            <p:spPr>
              <a:xfrm>
                <a:off x="7239240" y="289548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Skupina 89"/>
            <p:cNvGrpSpPr/>
            <p:nvPr/>
          </p:nvGrpSpPr>
          <p:grpSpPr>
            <a:xfrm>
              <a:off x="5866920" y="2743200"/>
              <a:ext cx="1551600" cy="1983960"/>
              <a:chOff x="5866920" y="2743200"/>
              <a:chExt cx="1551600" cy="1983960"/>
            </a:xfrm>
          </p:grpSpPr>
          <p:grpSp>
            <p:nvGrpSpPr>
              <p:cNvPr id="302" name="Skupina 138"/>
              <p:cNvGrpSpPr/>
              <p:nvPr/>
            </p:nvGrpSpPr>
            <p:grpSpPr>
              <a:xfrm>
                <a:off x="5866920" y="2883960"/>
                <a:ext cx="1551600" cy="1762920"/>
                <a:chOff x="5866920" y="2883960"/>
                <a:chExt cx="1551600" cy="1762920"/>
              </a:xfrm>
            </p:grpSpPr>
            <p:sp>
              <p:nvSpPr>
                <p:cNvPr id="303" name="Elipsa 94"/>
                <p:cNvSpPr/>
                <p:nvPr/>
              </p:nvSpPr>
              <p:spPr>
                <a:xfrm>
                  <a:off x="6290280" y="3177720"/>
                  <a:ext cx="1128240" cy="11754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Přímá spojovací čára 95"/>
                <p:cNvSpPr/>
                <p:nvPr/>
              </p:nvSpPr>
              <p:spPr>
                <a:xfrm>
                  <a:off x="6572520" y="3471480"/>
                  <a:ext cx="0" cy="587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Přímá spojovací čára 96"/>
                <p:cNvSpPr/>
                <p:nvPr/>
              </p:nvSpPr>
              <p:spPr>
                <a:xfrm flipV="1">
                  <a:off x="6572520" y="3349800"/>
                  <a:ext cx="680760" cy="41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Přímá spojovací čára 97"/>
                <p:cNvSpPr/>
                <p:nvPr/>
              </p:nvSpPr>
              <p:spPr>
                <a:xfrm>
                  <a:off x="6572520" y="3765240"/>
                  <a:ext cx="680760" cy="41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Přímá spojovací čára 98"/>
                <p:cNvSpPr/>
                <p:nvPr/>
              </p:nvSpPr>
              <p:spPr>
                <a:xfrm flipH="1">
                  <a:off x="6289920" y="3765240"/>
                  <a:ext cx="281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Přímá spojovací čára 99"/>
                <p:cNvSpPr/>
                <p:nvPr/>
              </p:nvSpPr>
              <p:spPr>
                <a:xfrm>
                  <a:off x="7253280" y="2883960"/>
                  <a:ext cx="0" cy="46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Přímá spojovací čára 100"/>
                <p:cNvSpPr/>
                <p:nvPr/>
              </p:nvSpPr>
              <p:spPr>
                <a:xfrm>
                  <a:off x="7253280" y="4181040"/>
                  <a:ext cx="0" cy="46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Přímá spojovací čára 101"/>
                <p:cNvSpPr/>
                <p:nvPr/>
              </p:nvSpPr>
              <p:spPr>
                <a:xfrm flipH="1">
                  <a:off x="5866920" y="3765240"/>
                  <a:ext cx="42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ovéPole 91"/>
              <p:cNvSpPr/>
              <p:nvPr/>
            </p:nvSpPr>
            <p:spPr>
              <a:xfrm>
                <a:off x="5937480" y="3307320"/>
                <a:ext cx="35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ovéPole 92"/>
              <p:cNvSpPr/>
              <p:nvPr/>
            </p:nvSpPr>
            <p:spPr>
              <a:xfrm>
                <a:off x="6858000" y="2743200"/>
                <a:ext cx="35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ovéPole 93"/>
              <p:cNvSpPr/>
              <p:nvPr/>
            </p:nvSpPr>
            <p:spPr>
              <a:xfrm>
                <a:off x="6858000" y="4267440"/>
                <a:ext cx="35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Skupina 102"/>
            <p:cNvGrpSpPr/>
            <p:nvPr/>
          </p:nvGrpSpPr>
          <p:grpSpPr>
            <a:xfrm>
              <a:off x="7239240" y="4114440"/>
              <a:ext cx="380880" cy="533520"/>
              <a:chOff x="7239240" y="4114440"/>
              <a:chExt cx="380880" cy="533520"/>
            </a:xfrm>
          </p:grpSpPr>
          <p:cxnSp>
            <p:nvCxnSpPr>
              <p:cNvPr id="315" name="Přímá spojovací šipka 103"/>
              <p:cNvCxnSpPr/>
              <p:nvPr/>
            </p:nvCxnSpPr>
            <p:spPr>
              <a:xfrm>
                <a:off x="7543800" y="4114440"/>
                <a:ext cx="108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</p:cxnSp>
          <p:sp>
            <p:nvSpPr>
              <p:cNvPr id="316" name="TextovéPole 104"/>
              <p:cNvSpPr/>
              <p:nvPr/>
            </p:nvSpPr>
            <p:spPr>
              <a:xfrm>
                <a:off x="7239240" y="419076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cs-CZ" sz="20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Oblouk 123"/>
            <p:cNvSpPr/>
            <p:nvPr/>
          </p:nvSpPr>
          <p:spPr>
            <a:xfrm>
              <a:off x="5638680" y="2438280"/>
              <a:ext cx="2590920" cy="2590920"/>
            </a:xfrm>
            <a:custGeom>
              <a:avLst/>
              <a:gdLst>
                <a:gd name="textAreaLeft" fmla="*/ 24480 w 2590920"/>
                <a:gd name="textAreaRight" fmla="*/ 1305360 w 2590920"/>
                <a:gd name="textAreaTop" fmla="*/ 154764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stroke="0" w="2590800" h="2590800">
                  <a:moveTo>
                    <a:pt x="1305364" y="2590762"/>
                  </a:moveTo>
                  <a:lnTo>
                    <a:pt x="1305364" y="2590762"/>
                  </a:lnTo>
                  <a:arcTo wR="1295400" hR="1295400" stAng="5373557" swAng="4753014"/>
                  <a:lnTo>
                    <a:pt x="1295400" y="1295400"/>
                  </a:lnTo>
                  <a:close/>
                </a:path>
                <a:path fill="none" w="2590800" h="2590800">
                  <a:moveTo>
                    <a:pt x="1305364" y="2590762"/>
                  </a:moveTo>
                  <a:lnTo>
                    <a:pt x="1305364" y="2590762"/>
                  </a:lnTo>
                  <a:arcTo wR="1295400" hR="1295400" stAng="5373557" swAng="4753014"/>
                </a:path>
              </a:pathLst>
            </a:custGeom>
            <a:noFill/>
            <a:ln w="28440">
              <a:solidFill>
                <a:srgbClr val="2d2d8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ovéPole 124"/>
            <p:cNvSpPr/>
            <p:nvPr/>
          </p:nvSpPr>
          <p:spPr>
            <a:xfrm>
              <a:off x="5562720" y="449604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blouk 121"/>
            <p:cNvSpPr/>
            <p:nvPr/>
          </p:nvSpPr>
          <p:spPr>
            <a:xfrm>
              <a:off x="5638680" y="2438280"/>
              <a:ext cx="2590920" cy="2590920"/>
            </a:xfrm>
            <a:custGeom>
              <a:avLst/>
              <a:gdLst>
                <a:gd name="textAreaLeft" fmla="*/ 18720 w 2590920"/>
                <a:gd name="textAreaRight" fmla="*/ 1352880 w 2590920"/>
                <a:gd name="textAreaTop" fmla="*/ 0 h 2590920"/>
                <a:gd name="textAreaBottom" fmla="*/ 1075680 h 2590920"/>
              </a:gdLst>
              <a:ahLst/>
              <a:rect l="textAreaLeft" t="textAreaTop" r="textAreaRight" b="textAreaBottom"/>
              <a:pathLst>
                <a:path stroke="0" w="2590800" h="2590800">
                  <a:moveTo>
                    <a:pt x="18786" y="1075586"/>
                  </a:moveTo>
                  <a:lnTo>
                    <a:pt x="18786" y="1075586"/>
                  </a:lnTo>
                  <a:arcTo wR="1295400" hR="1295400" stAng="-10213819" swAng="4965855"/>
                  <a:lnTo>
                    <a:pt x="1295400" y="1295400"/>
                  </a:lnTo>
                  <a:close/>
                </a:path>
                <a:path fill="none" w="2590800" h="2590800">
                  <a:moveTo>
                    <a:pt x="18786" y="1075586"/>
                  </a:moveTo>
                  <a:lnTo>
                    <a:pt x="18786" y="1075586"/>
                  </a:lnTo>
                  <a:arcTo wR="1295400" hR="1295400" stAng="-10213819" swAng="4965855"/>
                </a:path>
              </a:pathLst>
            </a:custGeom>
            <a:noFill/>
            <a:ln w="28440">
              <a:solidFill>
                <a:srgbClr val="2d2d8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ovéPole 122"/>
            <p:cNvSpPr/>
            <p:nvPr/>
          </p:nvSpPr>
          <p:spPr>
            <a:xfrm>
              <a:off x="5562720" y="23623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C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blouk 119"/>
            <p:cNvSpPr/>
            <p:nvPr/>
          </p:nvSpPr>
          <p:spPr>
            <a:xfrm>
              <a:off x="5638680" y="2438280"/>
              <a:ext cx="2590920" cy="2590920"/>
            </a:xfrm>
            <a:custGeom>
              <a:avLst/>
              <a:gdLst>
                <a:gd name="textAreaLeft" fmla="*/ 1845720 w 2590920"/>
                <a:gd name="textAreaRight" fmla="*/ 2591280 w 2590920"/>
                <a:gd name="textAreaTop" fmla="*/ 150480 h 2590920"/>
                <a:gd name="textAreaBottom" fmla="*/ 2468520 h 2590920"/>
              </a:gdLst>
              <a:ahLst/>
              <a:rect l="textAreaLeft" t="textAreaTop" r="textAreaRight" b="textAreaBottom"/>
              <a:pathLst>
                <a:path stroke="0" w="2590800" h="2590800">
                  <a:moveTo>
                    <a:pt x="1901959" y="150783"/>
                  </a:moveTo>
                  <a:lnTo>
                    <a:pt x="1901959" y="150783"/>
                  </a:lnTo>
                  <a:arcTo wR="1295400" hR="1295400" stAng="-3724791" swAng="7616947"/>
                  <a:lnTo>
                    <a:pt x="1295400" y="1295400"/>
                  </a:lnTo>
                  <a:close/>
                </a:path>
                <a:path fill="none" w="2590800" h="2590800">
                  <a:moveTo>
                    <a:pt x="1901959" y="150783"/>
                  </a:moveTo>
                  <a:lnTo>
                    <a:pt x="1901959" y="150783"/>
                  </a:lnTo>
                  <a:arcTo wR="1295400" hR="1295400" stAng="-3724791" swAng="7616947"/>
                </a:path>
              </a:pathLst>
            </a:custGeom>
            <a:noFill/>
            <a:ln w="28440">
              <a:solidFill>
                <a:srgbClr val="2d2d8a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ovéPole 120"/>
            <p:cNvSpPr/>
            <p:nvPr/>
          </p:nvSpPr>
          <p:spPr>
            <a:xfrm>
              <a:off x="7696440" y="35812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9167 1.11111E-006 E">
                                      <p:cBhvr>
                                        <p:cTn id="14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05 1.11111E-006 E">
                                      <p:cBhvr>
                                        <p:cTn id="144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05417 -1.85185E-006 E">
                                      <p:cBhvr>
                                        <p:cTn id="14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05417 -1.85185E-006 E">
                                      <p:cBhvr>
                                        <p:cTn id="149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05417 -1.85185E-006 E">
                                      <p:cBhvr>
                                        <p:cTn id="151" dur="2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05417 -1.85185E-006 E">
                                      <p:cBhvr>
                                        <p:cTn id="153" dur="2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05417 -1.85185E-006 E">
                                      <p:cBhvr>
                                        <p:cTn id="168" dur="2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05417 -1.85185E-006 E">
                                      <p:cBhvr>
                                        <p:cTn id="170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05417 -1.85185E-006 E">
                                      <p:cBhvr>
                                        <p:cTn id="172" dur="2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ovéPole 1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APĚTÍ PROTI SPOLEČNÉ SV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ovéPole 2"/>
          <p:cNvSpPr/>
          <p:nvPr/>
        </p:nvSpPr>
        <p:spPr>
          <a:xfrm>
            <a:off x="457200" y="1143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eálných zapojeních také definujeme napětí na elektrodě proti společné sv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Skupina 134"/>
          <p:cNvGrpSpPr/>
          <p:nvPr/>
        </p:nvGrpSpPr>
        <p:grpSpPr>
          <a:xfrm>
            <a:off x="838080" y="2057400"/>
            <a:ext cx="3581640" cy="4121280"/>
            <a:chOff x="838080" y="2057400"/>
            <a:chExt cx="3581640" cy="4121280"/>
          </a:xfrm>
        </p:grpSpPr>
        <p:grpSp>
          <p:nvGrpSpPr>
            <p:cNvPr id="326" name="Skupina 1"/>
            <p:cNvGrpSpPr/>
            <p:nvPr/>
          </p:nvGrpSpPr>
          <p:grpSpPr>
            <a:xfrm>
              <a:off x="2417760" y="4910760"/>
              <a:ext cx="220320" cy="1212480"/>
              <a:chOff x="2417760" y="4910760"/>
              <a:chExt cx="220320" cy="1212480"/>
            </a:xfrm>
          </p:grpSpPr>
          <p:sp>
            <p:nvSpPr>
              <p:cNvPr id="327" name="Obdélník 2"/>
              <p:cNvSpPr/>
              <p:nvPr/>
            </p:nvSpPr>
            <p:spPr>
              <a:xfrm rot="5400000">
                <a:off x="2252160" y="5351400"/>
                <a:ext cx="551160" cy="220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Přímá spojovací čára 3"/>
              <p:cNvSpPr/>
              <p:nvPr/>
            </p:nvSpPr>
            <p:spPr>
              <a:xfrm>
                <a:off x="2527920" y="5737680"/>
                <a:ext cx="0" cy="38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Přímá spojovací čára 4"/>
              <p:cNvSpPr/>
              <p:nvPr/>
            </p:nvSpPr>
            <p:spPr>
              <a:xfrm>
                <a:off x="2527920" y="4910760"/>
                <a:ext cx="0" cy="27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Skupina 5"/>
            <p:cNvGrpSpPr/>
            <p:nvPr/>
          </p:nvGrpSpPr>
          <p:grpSpPr>
            <a:xfrm>
              <a:off x="1334160" y="2264760"/>
              <a:ext cx="220320" cy="1956960"/>
              <a:chOff x="1334160" y="2264760"/>
              <a:chExt cx="220320" cy="1956960"/>
            </a:xfrm>
          </p:grpSpPr>
          <p:sp>
            <p:nvSpPr>
              <p:cNvPr id="331" name="Obdélník 161"/>
              <p:cNvSpPr/>
              <p:nvPr/>
            </p:nvSpPr>
            <p:spPr>
              <a:xfrm rot="5400000">
                <a:off x="1168560" y="2871000"/>
                <a:ext cx="551160" cy="220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Přímá spojovací čára 162"/>
              <p:cNvSpPr/>
              <p:nvPr/>
            </p:nvSpPr>
            <p:spPr>
              <a:xfrm>
                <a:off x="1444320" y="3256920"/>
                <a:ext cx="0" cy="96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Přímá spojovací čára 8"/>
              <p:cNvSpPr/>
              <p:nvPr/>
            </p:nvSpPr>
            <p:spPr>
              <a:xfrm>
                <a:off x="1444320" y="2264760"/>
                <a:ext cx="0" cy="44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Skupina 26"/>
            <p:cNvGrpSpPr/>
            <p:nvPr/>
          </p:nvGrpSpPr>
          <p:grpSpPr>
            <a:xfrm>
              <a:off x="1443960" y="3422520"/>
              <a:ext cx="1213200" cy="1611720"/>
              <a:chOff x="1443960" y="3422520"/>
              <a:chExt cx="1213200" cy="1611720"/>
            </a:xfrm>
          </p:grpSpPr>
          <p:sp>
            <p:nvSpPr>
              <p:cNvPr id="335" name="Elipsa 150"/>
              <p:cNvSpPr/>
              <p:nvPr/>
            </p:nvSpPr>
            <p:spPr>
              <a:xfrm>
                <a:off x="1775160" y="3762360"/>
                <a:ext cx="882000" cy="918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Přímá spojovací čára 151"/>
              <p:cNvSpPr/>
              <p:nvPr/>
            </p:nvSpPr>
            <p:spPr>
              <a:xfrm>
                <a:off x="1995480" y="3992040"/>
                <a:ext cx="0" cy="45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Přímá spojovací čára 152"/>
              <p:cNvSpPr/>
              <p:nvPr/>
            </p:nvSpPr>
            <p:spPr>
              <a:xfrm flipV="1">
                <a:off x="1995480" y="3897000"/>
                <a:ext cx="532440" cy="32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Přímá spojovací čára 153"/>
              <p:cNvSpPr/>
              <p:nvPr/>
            </p:nvSpPr>
            <p:spPr>
              <a:xfrm>
                <a:off x="1995480" y="4221720"/>
                <a:ext cx="532440" cy="32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Přímá spojovací čára 154"/>
              <p:cNvSpPr/>
              <p:nvPr/>
            </p:nvSpPr>
            <p:spPr>
              <a:xfrm flipH="1">
                <a:off x="1775160" y="4221720"/>
                <a:ext cx="220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Přímá spojovací čára 155"/>
              <p:cNvSpPr/>
              <p:nvPr/>
            </p:nvSpPr>
            <p:spPr>
              <a:xfrm>
                <a:off x="2528280" y="3532680"/>
                <a:ext cx="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Přímá spojovací čára 156"/>
              <p:cNvSpPr/>
              <p:nvPr/>
            </p:nvSpPr>
            <p:spPr>
              <a:xfrm>
                <a:off x="2528280" y="4546800"/>
                <a:ext cx="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Přímá spojovací čára 157"/>
              <p:cNvSpPr/>
              <p:nvPr/>
            </p:nvSpPr>
            <p:spPr>
              <a:xfrm flipH="1">
                <a:off x="1443960" y="4221720"/>
                <a:ext cx="33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ovéPole 158"/>
              <p:cNvSpPr/>
              <p:nvPr/>
            </p:nvSpPr>
            <p:spPr>
              <a:xfrm>
                <a:off x="1523520" y="3740040"/>
                <a:ext cx="27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ovéPole 159"/>
              <p:cNvSpPr/>
              <p:nvPr/>
            </p:nvSpPr>
            <p:spPr>
              <a:xfrm>
                <a:off x="2216160" y="3422520"/>
                <a:ext cx="27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ovéPole 160"/>
              <p:cNvSpPr/>
              <p:nvPr/>
            </p:nvSpPr>
            <p:spPr>
              <a:xfrm>
                <a:off x="2216160" y="4635360"/>
                <a:ext cx="27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Elipsa 138"/>
            <p:cNvSpPr/>
            <p:nvPr/>
          </p:nvSpPr>
          <p:spPr>
            <a:xfrm>
              <a:off x="3318840" y="2209680"/>
              <a:ext cx="110160" cy="110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Elipsa 139"/>
            <p:cNvSpPr/>
            <p:nvPr/>
          </p:nvSpPr>
          <p:spPr>
            <a:xfrm>
              <a:off x="838080" y="6068520"/>
              <a:ext cx="110160" cy="110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Přímá spojovací čára 140"/>
            <p:cNvSpPr/>
            <p:nvPr/>
          </p:nvSpPr>
          <p:spPr>
            <a:xfrm flipH="1">
              <a:off x="1444320" y="2264760"/>
              <a:ext cx="18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Skupina 51"/>
            <p:cNvGrpSpPr/>
            <p:nvPr/>
          </p:nvGrpSpPr>
          <p:grpSpPr>
            <a:xfrm>
              <a:off x="2417760" y="2264760"/>
              <a:ext cx="220320" cy="1378080"/>
              <a:chOff x="2417760" y="2264760"/>
              <a:chExt cx="220320" cy="1378080"/>
            </a:xfrm>
          </p:grpSpPr>
          <p:sp>
            <p:nvSpPr>
              <p:cNvPr id="350" name="Obdélník 147"/>
              <p:cNvSpPr/>
              <p:nvPr/>
            </p:nvSpPr>
            <p:spPr>
              <a:xfrm rot="5400000">
                <a:off x="2252160" y="2871000"/>
                <a:ext cx="551160" cy="220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Přímá spojovací čára 148"/>
              <p:cNvSpPr/>
              <p:nvPr/>
            </p:nvSpPr>
            <p:spPr>
              <a:xfrm>
                <a:off x="2527920" y="3256920"/>
                <a:ext cx="0" cy="38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Přímá spojovací čára 149"/>
              <p:cNvSpPr/>
              <p:nvPr/>
            </p:nvSpPr>
            <p:spPr>
              <a:xfrm>
                <a:off x="2527920" y="2264760"/>
                <a:ext cx="0" cy="44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Elipsa 142"/>
            <p:cNvSpPr/>
            <p:nvPr/>
          </p:nvSpPr>
          <p:spPr>
            <a:xfrm>
              <a:off x="3318840" y="6068520"/>
              <a:ext cx="110160" cy="110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Přímá spojovací čára 143"/>
            <p:cNvSpPr/>
            <p:nvPr/>
          </p:nvSpPr>
          <p:spPr>
            <a:xfrm flipH="1">
              <a:off x="947880" y="6123600"/>
              <a:ext cx="237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ovéPole 144"/>
            <p:cNvSpPr/>
            <p:nvPr/>
          </p:nvSpPr>
          <p:spPr>
            <a:xfrm>
              <a:off x="1981080" y="526428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ovéPole 145"/>
            <p:cNvSpPr/>
            <p:nvPr/>
          </p:nvSpPr>
          <p:spPr>
            <a:xfrm>
              <a:off x="1904760" y="28256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ovéPole 146"/>
            <p:cNvSpPr/>
            <p:nvPr/>
          </p:nvSpPr>
          <p:spPr>
            <a:xfrm>
              <a:off x="838080" y="28256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Elipsa 167"/>
            <p:cNvSpPr/>
            <p:nvPr/>
          </p:nvSpPr>
          <p:spPr>
            <a:xfrm>
              <a:off x="2469960" y="2219040"/>
              <a:ext cx="110160" cy="110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ovéPole 169"/>
            <p:cNvSpPr/>
            <p:nvPr/>
          </p:nvSpPr>
          <p:spPr>
            <a:xfrm>
              <a:off x="3581640" y="20574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Elipsa 168"/>
          <p:cNvSpPr/>
          <p:nvPr/>
        </p:nvSpPr>
        <p:spPr>
          <a:xfrm>
            <a:off x="2476440" y="6048360"/>
            <a:ext cx="109440" cy="1094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ovéPole 170"/>
          <p:cNvSpPr/>
          <p:nvPr/>
        </p:nvSpPr>
        <p:spPr>
          <a:xfrm>
            <a:off x="9144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ečná svor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Přímá spojovací šipka 172"/>
          <p:cNvCxnSpPr/>
          <p:nvPr/>
        </p:nvCxnSpPr>
        <p:spPr>
          <a:xfrm>
            <a:off x="1676160" y="4419360"/>
            <a:ext cx="1080" cy="152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Přímá spojovací šipka 174"/>
          <p:cNvCxnSpPr/>
          <p:nvPr/>
        </p:nvCxnSpPr>
        <p:spPr>
          <a:xfrm>
            <a:off x="2895120" y="4648320"/>
            <a:ext cx="1080" cy="129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Přímá spojovací šipka 176"/>
          <p:cNvCxnSpPr/>
          <p:nvPr/>
        </p:nvCxnSpPr>
        <p:spPr>
          <a:xfrm>
            <a:off x="3504960" y="4038480"/>
            <a:ext cx="1080" cy="190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Přímá spojovací čára 178"/>
          <p:cNvSpPr/>
          <p:nvPr/>
        </p:nvSpPr>
        <p:spPr>
          <a:xfrm>
            <a:off x="26668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římá spojovací čára 179"/>
          <p:cNvSpPr/>
          <p:nvPr/>
        </p:nvSpPr>
        <p:spPr>
          <a:xfrm>
            <a:off x="26668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ovéPole 183"/>
          <p:cNvSpPr/>
          <p:nvPr/>
        </p:nvSpPr>
        <p:spPr>
          <a:xfrm>
            <a:off x="1219320" y="49528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ovéPole 184"/>
          <p:cNvSpPr/>
          <p:nvPr/>
        </p:nvSpPr>
        <p:spPr>
          <a:xfrm>
            <a:off x="2895480" y="5029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ovéPole 185"/>
          <p:cNvSpPr/>
          <p:nvPr/>
        </p:nvSpPr>
        <p:spPr>
          <a:xfrm>
            <a:off x="3505320" y="47242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ovéPole 186"/>
          <p:cNvSpPr/>
          <p:nvPr/>
        </p:nvSpPr>
        <p:spPr>
          <a:xfrm>
            <a:off x="4876920" y="2743200"/>
            <a:ext cx="35049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napájecí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napětí 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napětí emi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napětí kole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ovéPole 2"/>
          <p:cNvSpPr/>
          <p:nvPr/>
        </p:nvSpPr>
        <p:spPr>
          <a:xfrm>
            <a:off x="457200" y="11430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ekreslete obrázek a vyznač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měry proudu u tranzistor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apětí mezi elektrodam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b050"/>
                </a:solidFill>
                <a:latin typeface="Arial"/>
              </a:rPr>
              <a:t>napětí proti společné sv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Skupina 3"/>
          <p:cNvGrpSpPr/>
          <p:nvPr/>
        </p:nvGrpSpPr>
        <p:grpSpPr>
          <a:xfrm>
            <a:off x="5334120" y="2057400"/>
            <a:ext cx="3581280" cy="4121280"/>
            <a:chOff x="5334120" y="2057400"/>
            <a:chExt cx="3581280" cy="4121280"/>
          </a:xfrm>
        </p:grpSpPr>
        <p:grpSp>
          <p:nvGrpSpPr>
            <p:cNvPr id="374" name="Skupina 1"/>
            <p:cNvGrpSpPr/>
            <p:nvPr/>
          </p:nvGrpSpPr>
          <p:grpSpPr>
            <a:xfrm>
              <a:off x="6913800" y="4910760"/>
              <a:ext cx="220320" cy="1212480"/>
              <a:chOff x="6913800" y="4910760"/>
              <a:chExt cx="220320" cy="1212480"/>
            </a:xfrm>
          </p:grpSpPr>
          <p:sp>
            <p:nvSpPr>
              <p:cNvPr id="375" name="Obdélník 2"/>
              <p:cNvSpPr/>
              <p:nvPr/>
            </p:nvSpPr>
            <p:spPr>
              <a:xfrm rot="5400000">
                <a:off x="6748200" y="5351400"/>
                <a:ext cx="551160" cy="220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Přímá spojovací čára 3"/>
              <p:cNvSpPr/>
              <p:nvPr/>
            </p:nvSpPr>
            <p:spPr>
              <a:xfrm>
                <a:off x="7023960" y="5737680"/>
                <a:ext cx="0" cy="38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Přímá spojovací čára 4"/>
              <p:cNvSpPr/>
              <p:nvPr/>
            </p:nvSpPr>
            <p:spPr>
              <a:xfrm>
                <a:off x="7023960" y="4910760"/>
                <a:ext cx="0" cy="27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Skupina 5"/>
            <p:cNvGrpSpPr/>
            <p:nvPr/>
          </p:nvGrpSpPr>
          <p:grpSpPr>
            <a:xfrm>
              <a:off x="5830200" y="2264760"/>
              <a:ext cx="220320" cy="1956960"/>
              <a:chOff x="5830200" y="2264760"/>
              <a:chExt cx="220320" cy="1956960"/>
            </a:xfrm>
          </p:grpSpPr>
          <p:sp>
            <p:nvSpPr>
              <p:cNvPr id="379" name="Obdélník 32"/>
              <p:cNvSpPr/>
              <p:nvPr/>
            </p:nvSpPr>
            <p:spPr>
              <a:xfrm rot="5400000">
                <a:off x="5664600" y="2871000"/>
                <a:ext cx="551160" cy="220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Přímá spojovací čára 33"/>
              <p:cNvSpPr/>
              <p:nvPr/>
            </p:nvSpPr>
            <p:spPr>
              <a:xfrm>
                <a:off x="5940360" y="3256920"/>
                <a:ext cx="0" cy="96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Přímá spojovací čára 8"/>
              <p:cNvSpPr/>
              <p:nvPr/>
            </p:nvSpPr>
            <p:spPr>
              <a:xfrm>
                <a:off x="5940360" y="2264760"/>
                <a:ext cx="0" cy="44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Skupina 26"/>
            <p:cNvGrpSpPr/>
            <p:nvPr/>
          </p:nvGrpSpPr>
          <p:grpSpPr>
            <a:xfrm>
              <a:off x="5940360" y="3422520"/>
              <a:ext cx="1212480" cy="1611720"/>
              <a:chOff x="5940360" y="3422520"/>
              <a:chExt cx="1212480" cy="1611720"/>
            </a:xfrm>
          </p:grpSpPr>
          <p:sp>
            <p:nvSpPr>
              <p:cNvPr id="383" name="Elipsa 21"/>
              <p:cNvSpPr/>
              <p:nvPr/>
            </p:nvSpPr>
            <p:spPr>
              <a:xfrm>
                <a:off x="6270840" y="3762360"/>
                <a:ext cx="882000" cy="918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Přímá spojovací čára 22"/>
              <p:cNvSpPr/>
              <p:nvPr/>
            </p:nvSpPr>
            <p:spPr>
              <a:xfrm>
                <a:off x="6491520" y="3992040"/>
                <a:ext cx="0" cy="45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Přímá spojovací čára 23"/>
              <p:cNvSpPr/>
              <p:nvPr/>
            </p:nvSpPr>
            <p:spPr>
              <a:xfrm flipV="1">
                <a:off x="6491520" y="3897000"/>
                <a:ext cx="532080" cy="32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Přímá spojovací čára 24"/>
              <p:cNvSpPr/>
              <p:nvPr/>
            </p:nvSpPr>
            <p:spPr>
              <a:xfrm>
                <a:off x="6491520" y="4221720"/>
                <a:ext cx="532080" cy="32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Přímá spojovací čára 25"/>
              <p:cNvSpPr/>
              <p:nvPr/>
            </p:nvSpPr>
            <p:spPr>
              <a:xfrm flipH="1">
                <a:off x="6270840" y="4221720"/>
                <a:ext cx="220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Přímá spojovací čára 26"/>
              <p:cNvSpPr/>
              <p:nvPr/>
            </p:nvSpPr>
            <p:spPr>
              <a:xfrm>
                <a:off x="7023960" y="3532680"/>
                <a:ext cx="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Přímá spojovací čára 27"/>
              <p:cNvSpPr/>
              <p:nvPr/>
            </p:nvSpPr>
            <p:spPr>
              <a:xfrm>
                <a:off x="7023960" y="4546800"/>
                <a:ext cx="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Přímá spojovací čára 28"/>
              <p:cNvSpPr/>
              <p:nvPr/>
            </p:nvSpPr>
            <p:spPr>
              <a:xfrm flipH="1">
                <a:off x="5940360" y="4221720"/>
                <a:ext cx="33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ovéPole 29"/>
              <p:cNvSpPr/>
              <p:nvPr/>
            </p:nvSpPr>
            <p:spPr>
              <a:xfrm>
                <a:off x="6019560" y="3740040"/>
                <a:ext cx="27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ovéPole 30"/>
              <p:cNvSpPr/>
              <p:nvPr/>
            </p:nvSpPr>
            <p:spPr>
              <a:xfrm>
                <a:off x="6711840" y="3422520"/>
                <a:ext cx="27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ovéPole 31"/>
              <p:cNvSpPr/>
              <p:nvPr/>
            </p:nvSpPr>
            <p:spPr>
              <a:xfrm>
                <a:off x="6711840" y="4635360"/>
                <a:ext cx="27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Elipsa 7"/>
            <p:cNvSpPr/>
            <p:nvPr/>
          </p:nvSpPr>
          <p:spPr>
            <a:xfrm>
              <a:off x="7814520" y="2209680"/>
              <a:ext cx="110160" cy="110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Elipsa 8"/>
            <p:cNvSpPr/>
            <p:nvPr/>
          </p:nvSpPr>
          <p:spPr>
            <a:xfrm>
              <a:off x="5334120" y="6068520"/>
              <a:ext cx="110160" cy="110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Přímá spojovací čára 9"/>
            <p:cNvSpPr/>
            <p:nvPr/>
          </p:nvSpPr>
          <p:spPr>
            <a:xfrm flipH="1">
              <a:off x="5940360" y="2264760"/>
              <a:ext cx="187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Skupina 51"/>
            <p:cNvGrpSpPr/>
            <p:nvPr/>
          </p:nvGrpSpPr>
          <p:grpSpPr>
            <a:xfrm>
              <a:off x="6913800" y="2264760"/>
              <a:ext cx="220320" cy="1378080"/>
              <a:chOff x="6913800" y="2264760"/>
              <a:chExt cx="220320" cy="1378080"/>
            </a:xfrm>
          </p:grpSpPr>
          <p:sp>
            <p:nvSpPr>
              <p:cNvPr id="398" name="Obdélník 18"/>
              <p:cNvSpPr/>
              <p:nvPr/>
            </p:nvSpPr>
            <p:spPr>
              <a:xfrm rot="5400000">
                <a:off x="6748200" y="2871000"/>
                <a:ext cx="551160" cy="220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Přímá spojovací čára 19"/>
              <p:cNvSpPr/>
              <p:nvPr/>
            </p:nvSpPr>
            <p:spPr>
              <a:xfrm>
                <a:off x="7023960" y="3256920"/>
                <a:ext cx="0" cy="38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Přímá spojovací čára 20"/>
              <p:cNvSpPr/>
              <p:nvPr/>
            </p:nvSpPr>
            <p:spPr>
              <a:xfrm>
                <a:off x="7023960" y="2264760"/>
                <a:ext cx="0" cy="44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Elipsa 11"/>
            <p:cNvSpPr/>
            <p:nvPr/>
          </p:nvSpPr>
          <p:spPr>
            <a:xfrm>
              <a:off x="7814520" y="6068520"/>
              <a:ext cx="110160" cy="110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Přímá spojovací čára 12"/>
            <p:cNvSpPr/>
            <p:nvPr/>
          </p:nvSpPr>
          <p:spPr>
            <a:xfrm flipH="1">
              <a:off x="5444280" y="6123600"/>
              <a:ext cx="237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ovéPole 13"/>
            <p:cNvSpPr/>
            <p:nvPr/>
          </p:nvSpPr>
          <p:spPr>
            <a:xfrm>
              <a:off x="6477120" y="526428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ovéPole 14"/>
            <p:cNvSpPr/>
            <p:nvPr/>
          </p:nvSpPr>
          <p:spPr>
            <a:xfrm>
              <a:off x="6400800" y="28256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ovéPole 15"/>
            <p:cNvSpPr/>
            <p:nvPr/>
          </p:nvSpPr>
          <p:spPr>
            <a:xfrm>
              <a:off x="5334120" y="28256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Elipsa 16"/>
            <p:cNvSpPr/>
            <p:nvPr/>
          </p:nvSpPr>
          <p:spPr>
            <a:xfrm>
              <a:off x="6966000" y="2219040"/>
              <a:ext cx="110160" cy="110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ovéPole 17"/>
            <p:cNvSpPr/>
            <p:nvPr/>
          </p:nvSpPr>
          <p:spPr>
            <a:xfrm>
              <a:off x="8077320" y="20574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Skupina 47"/>
          <p:cNvGrpSpPr/>
          <p:nvPr/>
        </p:nvGrpSpPr>
        <p:grpSpPr>
          <a:xfrm>
            <a:off x="7149960" y="2387520"/>
            <a:ext cx="381240" cy="533880"/>
            <a:chOff x="7149960" y="2387520"/>
            <a:chExt cx="381240" cy="533880"/>
          </a:xfrm>
        </p:grpSpPr>
        <p:sp>
          <p:nvSpPr>
            <p:cNvPr id="409" name="TextovéPole 40"/>
            <p:cNvSpPr/>
            <p:nvPr/>
          </p:nvSpPr>
          <p:spPr>
            <a:xfrm>
              <a:off x="7149960" y="246348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0" name="Přímá spojovací šipka 39"/>
            <p:cNvCxnSpPr/>
            <p:nvPr/>
          </p:nvCxnSpPr>
          <p:spPr>
            <a:xfrm>
              <a:off x="7454520" y="2387520"/>
              <a:ext cx="1080" cy="5342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11" name="Skupina 49"/>
          <p:cNvGrpSpPr/>
          <p:nvPr/>
        </p:nvGrpSpPr>
        <p:grpSpPr>
          <a:xfrm>
            <a:off x="5257800" y="4343040"/>
            <a:ext cx="457560" cy="441000"/>
            <a:chOff x="5257800" y="4343040"/>
            <a:chExt cx="457560" cy="441000"/>
          </a:xfrm>
        </p:grpSpPr>
        <p:sp>
          <p:nvSpPr>
            <p:cNvPr id="412" name="TextovéPole 43"/>
            <p:cNvSpPr/>
            <p:nvPr/>
          </p:nvSpPr>
          <p:spPr>
            <a:xfrm>
              <a:off x="5257800" y="4343400"/>
              <a:ext cx="38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3" name="Přímá spojovací šipka 42"/>
            <p:cNvCxnSpPr/>
            <p:nvPr/>
          </p:nvCxnSpPr>
          <p:spPr>
            <a:xfrm>
              <a:off x="5257800" y="4343040"/>
              <a:ext cx="457920" cy="10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14" name="Skupina 48"/>
          <p:cNvGrpSpPr/>
          <p:nvPr/>
        </p:nvGrpSpPr>
        <p:grpSpPr>
          <a:xfrm>
            <a:off x="7086600" y="5410080"/>
            <a:ext cx="380880" cy="533880"/>
            <a:chOff x="7086600" y="5410080"/>
            <a:chExt cx="380880" cy="533880"/>
          </a:xfrm>
        </p:grpSpPr>
        <p:sp>
          <p:nvSpPr>
            <p:cNvPr id="415" name="TextovéPole 46"/>
            <p:cNvSpPr/>
            <p:nvPr/>
          </p:nvSpPr>
          <p:spPr>
            <a:xfrm>
              <a:off x="7086600" y="5486040"/>
              <a:ext cx="38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lang="cs-CZ" sz="2000" spc="-1" strike="noStrike" baseline="-25000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Přímá spojovací šipka 45"/>
            <p:cNvCxnSpPr/>
            <p:nvPr/>
          </p:nvCxnSpPr>
          <p:spPr>
            <a:xfrm>
              <a:off x="7391160" y="5410080"/>
              <a:ext cx="1080" cy="5342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17" name="Skupina 50"/>
          <p:cNvGrpSpPr/>
          <p:nvPr/>
        </p:nvGrpSpPr>
        <p:grpSpPr>
          <a:xfrm>
            <a:off x="6019920" y="3048120"/>
            <a:ext cx="1218960" cy="1600200"/>
            <a:chOff x="6019920" y="3048120"/>
            <a:chExt cx="1218960" cy="1600200"/>
          </a:xfrm>
        </p:grpSpPr>
        <p:sp>
          <p:nvSpPr>
            <p:cNvPr id="418" name="Oblouk 51"/>
            <p:cNvSpPr/>
            <p:nvPr/>
          </p:nvSpPr>
          <p:spPr>
            <a:xfrm>
              <a:off x="6019920" y="3429000"/>
              <a:ext cx="1218960" cy="1219320"/>
            </a:xfrm>
            <a:custGeom>
              <a:avLst/>
              <a:gdLst>
                <a:gd name="textAreaLeft" fmla="*/ 8640 w 1218960"/>
                <a:gd name="textAreaRight" fmla="*/ 636480 w 1218960"/>
                <a:gd name="textAreaTop" fmla="*/ 0 h 1219320"/>
                <a:gd name="textAreaBottom" fmla="*/ 506160 h 1219320"/>
              </a:gdLst>
              <a:ahLst/>
              <a:rect l="textAreaLeft" t="textAreaTop" r="textAreaRight" b="textAreaBottom"/>
              <a:pathLst>
                <a:path stroke="0" w="1219200" h="1219200">
                  <a:moveTo>
                    <a:pt x="8840" y="506158"/>
                  </a:moveTo>
                  <a:lnTo>
                    <a:pt x="8841" y="506158"/>
                  </a:lnTo>
                  <a:arcTo wR="609600" hR="609600" stAng="-10213819" swAng="4965854"/>
                  <a:lnTo>
                    <a:pt x="609600" y="609600"/>
                  </a:lnTo>
                  <a:close/>
                </a:path>
                <a:path fill="none" w="1219200" h="1219200">
                  <a:moveTo>
                    <a:pt x="8840" y="506158"/>
                  </a:moveTo>
                  <a:lnTo>
                    <a:pt x="8841" y="506158"/>
                  </a:lnTo>
                  <a:arcTo wR="609600" hR="609600" stAng="-10213819" swAng="4965854"/>
                </a:path>
              </a:pathLst>
            </a:custGeom>
            <a:noFill/>
            <a:ln w="28440">
              <a:solidFill>
                <a:srgbClr val="2d2d8a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ovéPole 52"/>
            <p:cNvSpPr/>
            <p:nvPr/>
          </p:nvSpPr>
          <p:spPr>
            <a:xfrm>
              <a:off x="6095880" y="30481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C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Skupina 53"/>
          <p:cNvGrpSpPr/>
          <p:nvPr/>
        </p:nvGrpSpPr>
        <p:grpSpPr>
          <a:xfrm>
            <a:off x="6324480" y="3657600"/>
            <a:ext cx="1676520" cy="1066680"/>
            <a:chOff x="6324480" y="3657600"/>
            <a:chExt cx="1676520" cy="1066680"/>
          </a:xfrm>
        </p:grpSpPr>
        <p:sp>
          <p:nvSpPr>
            <p:cNvPr id="421" name="Oblouk 54"/>
            <p:cNvSpPr/>
            <p:nvPr/>
          </p:nvSpPr>
          <p:spPr>
            <a:xfrm>
              <a:off x="6324480" y="3657600"/>
              <a:ext cx="1067040" cy="1066680"/>
            </a:xfrm>
            <a:custGeom>
              <a:avLst/>
              <a:gdLst>
                <a:gd name="textAreaLeft" fmla="*/ 760320 w 1067040"/>
                <a:gd name="textAreaRight" fmla="*/ 1067400 w 1067040"/>
                <a:gd name="textAreaTop" fmla="*/ 61920 h 1066680"/>
                <a:gd name="textAreaBottom" fmla="*/ 1016280 h 1066680"/>
              </a:gdLst>
              <a:ahLst/>
              <a:rect l="textAreaLeft" t="textAreaTop" r="textAreaRight" b="textAreaBottom"/>
              <a:pathLst>
                <a:path stroke="0" w="1066800" h="1066800">
                  <a:moveTo>
                    <a:pt x="783159" y="62087"/>
                  </a:moveTo>
                  <a:lnTo>
                    <a:pt x="783159" y="62087"/>
                  </a:lnTo>
                  <a:arcTo wR="533400" hR="533400" stAng="-3724795" swAng="7616957"/>
                  <a:lnTo>
                    <a:pt x="533400" y="533400"/>
                  </a:lnTo>
                  <a:close/>
                </a:path>
                <a:path fill="none" w="1066800" h="1066800">
                  <a:moveTo>
                    <a:pt x="783159" y="62087"/>
                  </a:moveTo>
                  <a:lnTo>
                    <a:pt x="783159" y="62087"/>
                  </a:lnTo>
                  <a:arcTo wR="533400" hR="533400" stAng="-3724795" swAng="7616957"/>
                </a:path>
              </a:pathLst>
            </a:custGeom>
            <a:noFill/>
            <a:ln w="28440">
              <a:solidFill>
                <a:srgbClr val="2d2d8a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ovéPole 55"/>
            <p:cNvSpPr/>
            <p:nvPr/>
          </p:nvSpPr>
          <p:spPr>
            <a:xfrm>
              <a:off x="7391520" y="40384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Skupina 56"/>
          <p:cNvGrpSpPr/>
          <p:nvPr/>
        </p:nvGrpSpPr>
        <p:grpSpPr>
          <a:xfrm>
            <a:off x="6019920" y="3733920"/>
            <a:ext cx="1143000" cy="1355040"/>
            <a:chOff x="6019920" y="3733920"/>
            <a:chExt cx="1143000" cy="1355040"/>
          </a:xfrm>
        </p:grpSpPr>
        <p:sp>
          <p:nvSpPr>
            <p:cNvPr id="424" name="Oblouk 57"/>
            <p:cNvSpPr/>
            <p:nvPr/>
          </p:nvSpPr>
          <p:spPr>
            <a:xfrm>
              <a:off x="6095880" y="3733920"/>
              <a:ext cx="1067040" cy="1066680"/>
            </a:xfrm>
            <a:custGeom>
              <a:avLst/>
              <a:gdLst>
                <a:gd name="textAreaLeft" fmla="*/ 10080 w 1067040"/>
                <a:gd name="textAreaRight" fmla="*/ 537480 w 1067040"/>
                <a:gd name="textAreaTop" fmla="*/ 63720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stroke="0" w="1066800" h="1066800">
                  <a:moveTo>
                    <a:pt x="537503" y="1066784"/>
                  </a:moveTo>
                  <a:lnTo>
                    <a:pt x="537503" y="1066784"/>
                  </a:lnTo>
                  <a:arcTo wR="533400" hR="533400" stAng="5373556" swAng="4753015"/>
                  <a:lnTo>
                    <a:pt x="533400" y="533400"/>
                  </a:lnTo>
                  <a:close/>
                </a:path>
                <a:path fill="none" w="1066800" h="1066800">
                  <a:moveTo>
                    <a:pt x="537503" y="1066784"/>
                  </a:moveTo>
                  <a:lnTo>
                    <a:pt x="537503" y="1066784"/>
                  </a:lnTo>
                  <a:arcTo wR="533400" hR="533400" stAng="5373556" swAng="4753015"/>
                </a:path>
              </a:pathLst>
            </a:custGeom>
            <a:noFill/>
            <a:ln w="28440">
              <a:solidFill>
                <a:srgbClr val="2d2d8a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ovéPole 58"/>
            <p:cNvSpPr/>
            <p:nvPr/>
          </p:nvSpPr>
          <p:spPr>
            <a:xfrm>
              <a:off x="6019920" y="46483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d2d8a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2d2d8a"/>
                  </a:solidFill>
                  <a:latin typeface="Arial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Skupina 67"/>
          <p:cNvGrpSpPr/>
          <p:nvPr/>
        </p:nvGrpSpPr>
        <p:grpSpPr>
          <a:xfrm>
            <a:off x="5486400" y="4343040"/>
            <a:ext cx="533520" cy="1524240"/>
            <a:chOff x="5486400" y="4343040"/>
            <a:chExt cx="533520" cy="1524240"/>
          </a:xfrm>
        </p:grpSpPr>
        <p:cxnSp>
          <p:nvCxnSpPr>
            <p:cNvPr id="427" name="Přímá spojovací šipka 59"/>
            <p:cNvCxnSpPr/>
            <p:nvPr/>
          </p:nvCxnSpPr>
          <p:spPr>
            <a:xfrm>
              <a:off x="5943600" y="4343040"/>
              <a:ext cx="1080" cy="152460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28" name="TextovéPole 60"/>
            <p:cNvSpPr/>
            <p:nvPr/>
          </p:nvSpPr>
          <p:spPr>
            <a:xfrm>
              <a:off x="5486400" y="487656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b05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b05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Skupina 68"/>
          <p:cNvGrpSpPr/>
          <p:nvPr/>
        </p:nvGrpSpPr>
        <p:grpSpPr>
          <a:xfrm>
            <a:off x="7391520" y="4495680"/>
            <a:ext cx="761760" cy="1371600"/>
            <a:chOff x="7391520" y="4495680"/>
            <a:chExt cx="761760" cy="1371600"/>
          </a:xfrm>
        </p:grpSpPr>
        <p:cxnSp>
          <p:nvCxnSpPr>
            <p:cNvPr id="430" name="Přímá spojovací šipka 61"/>
            <p:cNvCxnSpPr/>
            <p:nvPr/>
          </p:nvCxnSpPr>
          <p:spPr>
            <a:xfrm>
              <a:off x="7619760" y="4571280"/>
              <a:ext cx="1080" cy="129636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31" name="Přímá spojovací čára 64"/>
            <p:cNvSpPr/>
            <p:nvPr/>
          </p:nvSpPr>
          <p:spPr>
            <a:xfrm>
              <a:off x="7391520" y="4495680"/>
              <a:ext cx="228600" cy="0"/>
            </a:xfrm>
            <a:prstGeom prst="line">
              <a:avLst/>
            </a:prstGeom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ovéPole 65"/>
            <p:cNvSpPr/>
            <p:nvPr/>
          </p:nvSpPr>
          <p:spPr>
            <a:xfrm>
              <a:off x="7620120" y="49528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b05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b05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Skupina 69"/>
          <p:cNvGrpSpPr/>
          <p:nvPr/>
        </p:nvGrpSpPr>
        <p:grpSpPr>
          <a:xfrm>
            <a:off x="7391520" y="3809880"/>
            <a:ext cx="1371600" cy="2057760"/>
            <a:chOff x="7391520" y="3809880"/>
            <a:chExt cx="1371600" cy="2057760"/>
          </a:xfrm>
        </p:grpSpPr>
        <p:cxnSp>
          <p:nvCxnSpPr>
            <p:cNvPr id="434" name="Přímá spojovací šipka 62"/>
            <p:cNvCxnSpPr/>
            <p:nvPr/>
          </p:nvCxnSpPr>
          <p:spPr>
            <a:xfrm>
              <a:off x="8229240" y="3962160"/>
              <a:ext cx="1080" cy="1905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35" name="Přímá spojovací čára 63"/>
            <p:cNvSpPr/>
            <p:nvPr/>
          </p:nvSpPr>
          <p:spPr>
            <a:xfrm>
              <a:off x="7391520" y="3809880"/>
              <a:ext cx="914400" cy="0"/>
            </a:xfrm>
            <a:prstGeom prst="line">
              <a:avLst/>
            </a:prstGeom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ovéPole 66"/>
            <p:cNvSpPr/>
            <p:nvPr/>
          </p:nvSpPr>
          <p:spPr>
            <a:xfrm>
              <a:off x="8229600" y="464796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b050"/>
                  </a:solidFill>
                  <a:latin typeface="Arial"/>
                </a:rPr>
                <a:t>U</a:t>
              </a:r>
              <a:r>
                <a:rPr b="0" lang="cs-CZ" sz="2000" spc="-1" strike="noStrike" baseline="-25000">
                  <a:solidFill>
                    <a:srgbClr val="00b05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ovéPole 70"/>
          <p:cNvSpPr/>
          <p:nvPr/>
        </p:nvSpPr>
        <p:spPr>
          <a:xfrm>
            <a:off x="533412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ečná svor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lipsa 71"/>
          <p:cNvSpPr/>
          <p:nvPr/>
        </p:nvSpPr>
        <p:spPr>
          <a:xfrm>
            <a:off x="6977160" y="6067440"/>
            <a:ext cx="109440" cy="1094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5T13:41:29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