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736-2546-459D-A989-E657219C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0A4-B360-452B-8552-086F176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3E4-10A4-4659-B85E-D71CFC2F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3DB-E1D3-494E-B250-F007D3BC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909-088C-42C7-8844-8A8CC79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2B0-3112-45AD-8A18-E85CE5AD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1D5-867B-468B-B8BB-22F1F4A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B0E-B53C-4610-B212-74E252C4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18C-3431-4211-B7B1-CD7C8A67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D46-8098-46F1-BD30-B8586C19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9E7-0FB5-4A95-A962-7E91D2D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9D0-F5A2-4B9E-9D13-53B9B29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23FF-E4E8-467F-9D2F-8902C36167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Tranzistor" TargetMode="External"/><Relationship Id="rId2" Type="http://schemas.openxmlformats.org/officeDocument/2006/relationships/hyperlink" Target="http://businessworld.cz/cio-bw-special/dejiny-tranzistoru-v-kostce-7285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4" descr="OPVK_hor_zakladni_logolink_CMYK_cz.tif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33520" y="2209680"/>
          <a:ext cx="8001000" cy="373536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4572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ŠK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škola elektrotechnická, Ostrava, Na Jízdárně 30, p.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.1.07/1.5.00/34.0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ČÍSLO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_32_INOVACE_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NÁZEV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zistory / Rozdělení tranzistor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. Radim Truchl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ATUM VYTVO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řezen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ročník studijního obo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VZDĚLÁVACÍ OBLAST/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KLÍČOVÁ SL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KA  - polovodič, tranzistor, bipolární tranzistor, unipolární tranz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464"/>
          <p:cNvSpPr/>
          <p:nvPr/>
        </p:nvSpPr>
        <p:spPr>
          <a:xfrm>
            <a:off x="533520" y="6172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 prohlašuje, že řádně uvedl všechny použité zdroje.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není uvedeno jinak, použitý materiál je z vlastních zdrojů au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"/>
          <p:cNvSpPr/>
          <p:nvPr/>
        </p:nvSpPr>
        <p:spPr>
          <a:xfrm>
            <a:off x="457200" y="1447920"/>
            <a:ext cx="83059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schopnost má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it svůj vnitrní odpor v závislosti n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kosti řídíc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ý tranzistor je řízen  prou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 kterém tranzistoru přenáší proud pouze jeden nosič nábo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ý tranzistor je vhodný k integra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"/>
          <p:cNvSpPr/>
          <p:nvPr/>
        </p:nvSpPr>
        <p:spPr>
          <a:xfrm>
            <a:off x="457200" y="1447920"/>
            <a:ext cx="83059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schopnost má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it svůj vnitrní odpor v závislosti n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kosti řídíc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ý tranzistor je řízen  prou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 kterém tranzistoru přenáší proud pouze jeden nosič nábo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ý tranzistor je vhodný k integra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2"/>
          <p:cNvSpPr/>
          <p:nvPr/>
        </p:nvSpPr>
        <p:spPr>
          <a:xfrm>
            <a:off x="457200" y="144792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 je součástka, která má schopnost měnit svůj vnitřní odpor v závislosti na velikosti  řídíc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rozdělujeme 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řízené proudem)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řízené napětí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ovéPole 3"/>
          <p:cNvSpPr/>
          <p:nvPr/>
        </p:nvSpPr>
        <p:spPr>
          <a:xfrm>
            <a:off x="304920" y="3801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ZNAM POUŽIT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371600"/>
            <a:ext cx="8001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DĚK, Milosla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 I: [učebnice]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1. vyd. dotisk. České Budějovice: Kopp, 2006, 286 s. ISBN 80-7232-171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SL, Jan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2., aktual. a rozšíř. vyd. Praha: BEN - technická literatura, 2004, 143 s. ISBN 80-730-0143-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anzistor. In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Wikipedia: the free encycloped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online]. San Francisco (CA): Wikimedia Foundation, 2001- [cit. 2014-2-12]. Dostupné z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.wikipedia.org/wiki/Tranz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jiny tranzistoru v kostce. In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IO Business Worl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online]. 2011 [cit. 2014-2-12]. Dostupné z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sinessworld.cz/cio-bw-special/dejiny-tranzistoru-v-kostce-72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Tranzisto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2005. Dostupné z: http://upload.wikimedia.org/wikipedia/commons/5/5a/Transistors.agr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231480"/>
            <a:ext cx="85341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N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čební materiál je zaměřen na úvodní seznámení s polovodičovými tranzistory a na jejich rozděl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04920" y="3363840"/>
            <a:ext cx="83055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TODICKÝ POK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jdříve vyučující projde s žáky celou prezentaci, žáci si dělají záp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 sekci otázky žáci odpovídají na otázky, případně vybírají správnou odpověď z nabízených možností. Po kliknutí se objeví správná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a konci prezentace je shrnutí nejdůležitějších poj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LOVODIČOVÝ TRANZI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2"/>
          <p:cNvSpPr/>
          <p:nvPr/>
        </p:nvSpPr>
        <p:spPr>
          <a:xfrm>
            <a:off x="457200" y="16002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tranzistor byl sestrojen v roce 1947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Bellových laboratoř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 je součástka s nelineární volt-ampérovou charakteristikou, která se do obvodu zapojuje jako čtyř p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jsou polovodičové součástky nacházející využití v zesilovačích, oscilátorech, modulátorech a v řadě dalších lineárních a nelineárních obvodů, jsou také součástí integrovaných obvodů (procesorů, pamětí, 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LOVODIČOVÝ TRANZIS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457200" y="1905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tranzistor vznikl ze dvou sl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RA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fer r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IS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 je součástka, která má schopnost měnit svůj vnitřní odpor v závislosti na velikosti řídíc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KLADNÍ ROZDĚLENÍ TRANZISTO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2"/>
          <p:cNvSpPr/>
          <p:nvPr/>
        </p:nvSpPr>
        <p:spPr>
          <a:xfrm>
            <a:off x="457200" y="20574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rozdělujem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vedení proudu strukturou tranzistoru s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ejí oba nosiče náboje (většinové 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nšinové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tranzistory jsou řízené el. proud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ní je pouze malá část struktury tranzistor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sou vhodné k integraci (velké rozměry – malá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ustota tranzistoru, velký proudový odbě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ovéPole 1"/>
          <p:cNvSpPr/>
          <p:nvPr/>
        </p:nvSpPr>
        <p:spPr>
          <a:xfrm>
            <a:off x="304920" y="3808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KLADNÍ ROZDĚLENÍ TRANZISTO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2"/>
          <p:cNvSpPr/>
          <p:nvPr/>
        </p:nvSpPr>
        <p:spPr>
          <a:xfrm>
            <a:off x="457200" y="20574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zistory rozdělujem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vedení proudu strukturou tranzistoru se podíl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ze jeden typ nosičů nábojů (většinové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to tranzistory jsou řízené el. napětí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ní je značná část struktury tranzistor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vhodné k integraci (malé rozměry – velká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ustota tranzistoru, malý proudový odbě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OUZDRA TRANZISTO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upload.wikimedia.org/wikipedia/commons/5/5a/Transistors.ag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1120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2"/>
          <p:cNvSpPr/>
          <p:nvPr/>
        </p:nvSpPr>
        <p:spPr>
          <a:xfrm>
            <a:off x="45720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schopnost má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it svůj vnitrní odpor v závislosti n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kosti řídíc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ý tranzistor je řízen  prou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ovéPole 1"/>
          <p:cNvSpPr/>
          <p:nvPr/>
        </p:nvSpPr>
        <p:spPr>
          <a:xfrm>
            <a:off x="3049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2"/>
          <p:cNvSpPr/>
          <p:nvPr/>
        </p:nvSpPr>
        <p:spPr>
          <a:xfrm>
            <a:off x="457200" y="1447920"/>
            <a:ext cx="83059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ou schopnost má tranzis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it svůj vnitrní odpor v závislosti n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kosti řídící veli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terý tranzistor je řízen  prou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b05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 kterém tranzistoru přenáší proud pouze jeden nosič nábo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pol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3:31:44Z</dcterms:created>
  <dc:creator>Erda</dc:creator>
  <dc:description/>
  <dc:language>en-US</dc:language>
  <cp:lastModifiedBy>Erda</cp:lastModifiedBy>
  <dcterms:modified xsi:type="dcterms:W3CDTF">2014-10-26T00:21:01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