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7F1-3A4A-4CAC-87C5-0FE35A0B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6D4-6120-4E5E-9795-E2B63725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1A8-25BD-4AB1-A67C-19DFA779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B06-2ACA-4735-9095-34977A7A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FDB-7597-4F9B-BC64-6459EFD4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18A-5CBC-4244-B0A4-06641C64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BA3-1DC0-43DA-92A0-1CDE3C4C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11A-21A4-455F-AAE7-F4C3EF1B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796-2240-483F-9E05-ADD867A0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0A6-14B3-45F0-9698-CD5845AB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D60-0AF8-49E8-B7AD-6C8A73F5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AF1-A7A1-4A75-8379-39D0089C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1E2D-1B13-46EC-A3A4-38916AE130F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Pracovní režimy tranzistor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b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společný emitor, </a:t>
                      </a:r>
                      <a:br>
                        <a:rPr sz="1400"/>
                      </a:b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-ampérová charakteristika, zesilovač, spína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ovéPole 2"/>
          <p:cNvSpPr/>
          <p:nvPr/>
        </p:nvSpPr>
        <p:spPr>
          <a:xfrm>
            <a:off x="152280" y="1447920"/>
            <a:ext cx="899172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é jsou pracovní režimy tranzistor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ínací a zesilov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počtěte proudový zesilovací činitel, když jste nastavili na vstup tr. SE proud I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25 mA a na výstupu jste naměřili proud I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0,5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1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/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500 mA / 25 mA =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ovéPole 2"/>
          <p:cNvSpPr/>
          <p:nvPr/>
        </p:nvSpPr>
        <p:spPr>
          <a:xfrm>
            <a:off x="457200" y="144792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 může pracovat ve dvou pracovních režimech a to: ve spínacím nebo v zesilovací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 pracovním režimu rozhoduje poloha klidového pracovního bodu a možnost pohybu pracovního bodu po zatěžovací přím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hledem k nemožnosti úplně zavřít bipolární tranzistor, není vhodný jako spínač a také se nehodí k integr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vysvětlení pracovních režimů bipolárního tranzistoru v zapojení se společným emito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ACOVNÍ REŽIMY TRANZI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457200" y="160020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polární tranzistory pracují ve dvou pracovních režime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spínacím režim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zesilovacím reži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 pracovním režimu rozhoduje poloha klidového pracovního bodu na zatěžovací přímce a možnost pohybu pracovního bodu po této přím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ACOVNÍ OBLAST TRANZISTORU V ZAPOJENÍ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Skupina 3"/>
          <p:cNvGrpSpPr/>
          <p:nvPr/>
        </p:nvGrpSpPr>
        <p:grpSpPr>
          <a:xfrm>
            <a:off x="762120" y="-2215080"/>
            <a:ext cx="9973800" cy="9121680"/>
            <a:chOff x="762120" y="-2215080"/>
            <a:chExt cx="9973800" cy="9121680"/>
          </a:xfrm>
        </p:grpSpPr>
        <p:sp>
          <p:nvSpPr>
            <p:cNvPr id="50" name="Oblouk 4"/>
            <p:cNvSpPr/>
            <p:nvPr/>
          </p:nvSpPr>
          <p:spPr>
            <a:xfrm rot="10800000">
              <a:off x="3192120" y="-2215080"/>
              <a:ext cx="7543800" cy="7239240"/>
            </a:xfrm>
            <a:custGeom>
              <a:avLst/>
              <a:gdLst>
                <a:gd name="textAreaLeft" fmla="*/ 3831840 w 7543800"/>
                <a:gd name="textAreaRight" fmla="*/ 7383600 w 7543800"/>
                <a:gd name="textAreaTop" fmla="*/ 360 h 7239240"/>
                <a:gd name="textAreaBottom" fmla="*/ 2575440 h 7239240"/>
              </a:gdLst>
              <a:ahLst/>
              <a:rect l="textAreaLeft" t="textAreaTop" r="textAreaRight" b="textAreaBottom"/>
              <a:pathLst>
                <a:path stroke="0" w="7543438" h="7238765">
                  <a:moveTo>
                    <a:pt x="3831480" y="454"/>
                  </a:moveTo>
                  <a:lnTo>
                    <a:pt x="3831480" y="454"/>
                  </a:lnTo>
                  <a:arcTo wR="3771719" hR="3619383" stAng="-5343236" swAng="4375900"/>
                  <a:lnTo>
                    <a:pt x="3771719" y="3619383"/>
                  </a:lnTo>
                  <a:close/>
                </a:path>
                <a:path fill="none" w="7543438" h="7238765">
                  <a:moveTo>
                    <a:pt x="3831480" y="454"/>
                  </a:moveTo>
                  <a:lnTo>
                    <a:pt x="3831480" y="454"/>
                  </a:lnTo>
                  <a:arcTo wR="3771719" hR="3619383" stAng="-5343236" swAng="4375900"/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délník 5"/>
            <p:cNvSpPr/>
            <p:nvPr/>
          </p:nvSpPr>
          <p:spPr>
            <a:xfrm>
              <a:off x="6851160" y="5862960"/>
              <a:ext cx="30456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Volný tvar 6"/>
            <p:cNvSpPr/>
            <p:nvPr/>
          </p:nvSpPr>
          <p:spPr>
            <a:xfrm>
              <a:off x="1583640" y="1611720"/>
              <a:ext cx="909720" cy="479484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4794840"/>
                <a:gd name="textAreaBottom" fmla="*/ 4795200 h 4794840"/>
              </a:gdLst>
              <a:ahLst/>
              <a:rect l="textAreaLeft" t="textAreaTop" r="textAreaRight" b="textAreaBottom"/>
              <a:pathLst>
                <a:path w="909710" h="4794738">
                  <a:moveTo>
                    <a:pt x="0" y="4761914"/>
                  </a:moveTo>
                  <a:cubicBezTo>
                    <a:pt x="158261" y="4778326"/>
                    <a:pt x="316522" y="4794738"/>
                    <a:pt x="464233" y="4072597"/>
                  </a:cubicBezTo>
                  <a:cubicBezTo>
                    <a:pt x="611944" y="3350456"/>
                    <a:pt x="909710" y="1038665"/>
                    <a:pt x="886264" y="429065"/>
                  </a:cubicBezTo>
                  <a:cubicBezTo>
                    <a:pt x="595532" y="438443"/>
                    <a:pt x="154744" y="0"/>
                    <a:pt x="14067" y="4572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bdélník 7"/>
            <p:cNvSpPr/>
            <p:nvPr/>
          </p:nvSpPr>
          <p:spPr>
            <a:xfrm>
              <a:off x="1288080" y="1747800"/>
              <a:ext cx="15238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římá spojovací čára 8"/>
            <p:cNvSpPr/>
            <p:nvPr/>
          </p:nvSpPr>
          <p:spPr>
            <a:xfrm>
              <a:off x="1604160" y="6365160"/>
              <a:ext cx="605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římá spojovací čára 9"/>
            <p:cNvSpPr/>
            <p:nvPr/>
          </p:nvSpPr>
          <p:spPr>
            <a:xfrm>
              <a:off x="1604160" y="1818000"/>
              <a:ext cx="0" cy="45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ovéPole 10"/>
            <p:cNvSpPr/>
            <p:nvPr/>
          </p:nvSpPr>
          <p:spPr>
            <a:xfrm>
              <a:off x="1604160" y="1818000"/>
              <a:ext cx="108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ovéPole 11"/>
            <p:cNvSpPr/>
            <p:nvPr/>
          </p:nvSpPr>
          <p:spPr>
            <a:xfrm>
              <a:off x="7385400" y="4156560"/>
              <a:ext cx="108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Přímá spojovací šipka 12"/>
            <p:cNvCxnSpPr/>
            <p:nvPr/>
          </p:nvCxnSpPr>
          <p:spPr>
            <a:xfrm>
              <a:off x="7385040" y="4156560"/>
              <a:ext cx="1080" cy="650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59" name="Skupina 38"/>
            <p:cNvGrpSpPr/>
            <p:nvPr/>
          </p:nvGrpSpPr>
          <p:grpSpPr>
            <a:xfrm>
              <a:off x="1593000" y="2662200"/>
              <a:ext cx="5384160" cy="3691800"/>
              <a:chOff x="1593000" y="2662200"/>
              <a:chExt cx="5384160" cy="3691800"/>
            </a:xfrm>
          </p:grpSpPr>
          <p:sp>
            <p:nvSpPr>
              <p:cNvPr id="60" name="Volný tvar 39"/>
              <p:cNvSpPr/>
              <p:nvPr/>
            </p:nvSpPr>
            <p:spPr>
              <a:xfrm>
                <a:off x="1593000" y="2662200"/>
                <a:ext cx="2244240" cy="3691800"/>
              </a:xfrm>
              <a:custGeom>
                <a:avLst/>
                <a:gdLst>
                  <a:gd name="textAreaLeft" fmla="*/ 0 w 2244240"/>
                  <a:gd name="textAreaRight" fmla="*/ 2244600 w 2244240"/>
                  <a:gd name="textAreaTop" fmla="*/ 0 h 3691800"/>
                  <a:gd name="textAreaBottom" fmla="*/ 3692160 h 369180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Přímá spojovací čára 40"/>
              <p:cNvSpPr/>
              <p:nvPr/>
            </p:nvSpPr>
            <p:spPr>
              <a:xfrm>
                <a:off x="3837240" y="2662200"/>
                <a:ext cx="3139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Skupina 39"/>
            <p:cNvGrpSpPr/>
            <p:nvPr/>
          </p:nvGrpSpPr>
          <p:grpSpPr>
            <a:xfrm>
              <a:off x="1604160" y="4156560"/>
              <a:ext cx="5373000" cy="2192040"/>
              <a:chOff x="1604160" y="4156560"/>
              <a:chExt cx="5373000" cy="2192040"/>
            </a:xfrm>
          </p:grpSpPr>
          <p:sp>
            <p:nvSpPr>
              <p:cNvPr id="63" name="Volný tvar 37"/>
              <p:cNvSpPr/>
              <p:nvPr/>
            </p:nvSpPr>
            <p:spPr>
              <a:xfrm>
                <a:off x="1604160" y="4156560"/>
                <a:ext cx="2239560" cy="2192040"/>
              </a:xfrm>
              <a:custGeom>
                <a:avLst/>
                <a:gdLst>
                  <a:gd name="textAreaLeft" fmla="*/ 0 w 2239560"/>
                  <a:gd name="textAreaRight" fmla="*/ 2239920 w 2239560"/>
                  <a:gd name="textAreaTop" fmla="*/ 0 h 2192040"/>
                  <a:gd name="textAreaBottom" fmla="*/ 2192400 h 219204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Přímá spojovací čára 38"/>
              <p:cNvSpPr/>
              <p:nvPr/>
            </p:nvSpPr>
            <p:spPr>
              <a:xfrm>
                <a:off x="3843720" y="4156560"/>
                <a:ext cx="31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Skupina 42"/>
            <p:cNvGrpSpPr/>
            <p:nvPr/>
          </p:nvGrpSpPr>
          <p:grpSpPr>
            <a:xfrm>
              <a:off x="1593000" y="3636720"/>
              <a:ext cx="5395320" cy="2728080"/>
              <a:chOff x="1593000" y="3636720"/>
              <a:chExt cx="5395320" cy="2728080"/>
            </a:xfrm>
          </p:grpSpPr>
          <p:sp>
            <p:nvSpPr>
              <p:cNvPr id="66" name="Volný tvar 35"/>
              <p:cNvSpPr/>
              <p:nvPr/>
            </p:nvSpPr>
            <p:spPr>
              <a:xfrm>
                <a:off x="1593000" y="3636720"/>
                <a:ext cx="2248920" cy="2728080"/>
              </a:xfrm>
              <a:custGeom>
                <a:avLst/>
                <a:gdLst>
                  <a:gd name="textAreaLeft" fmla="*/ 0 w 2248920"/>
                  <a:gd name="textAreaRight" fmla="*/ 2249280 w 2248920"/>
                  <a:gd name="textAreaTop" fmla="*/ 0 h 2728080"/>
                  <a:gd name="textAreaBottom" fmla="*/ 2728440 h 272808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Přímá spojovací čára 36"/>
              <p:cNvSpPr/>
              <p:nvPr/>
            </p:nvSpPr>
            <p:spPr>
              <a:xfrm>
                <a:off x="3841920" y="3636720"/>
                <a:ext cx="314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Skupina 45"/>
            <p:cNvGrpSpPr/>
            <p:nvPr/>
          </p:nvGrpSpPr>
          <p:grpSpPr>
            <a:xfrm>
              <a:off x="1604160" y="3117240"/>
              <a:ext cx="5373000" cy="3247920"/>
              <a:chOff x="1604160" y="3117240"/>
              <a:chExt cx="5373000" cy="3247920"/>
            </a:xfrm>
          </p:grpSpPr>
          <p:sp>
            <p:nvSpPr>
              <p:cNvPr id="69" name="Volný tvar 33"/>
              <p:cNvSpPr/>
              <p:nvPr/>
            </p:nvSpPr>
            <p:spPr>
              <a:xfrm>
                <a:off x="1604160" y="3117240"/>
                <a:ext cx="2239560" cy="3247920"/>
              </a:xfrm>
              <a:custGeom>
                <a:avLst/>
                <a:gdLst>
                  <a:gd name="textAreaLeft" fmla="*/ 0 w 2239560"/>
                  <a:gd name="textAreaRight" fmla="*/ 2239920 w 2239560"/>
                  <a:gd name="textAreaTop" fmla="*/ 0 h 3247920"/>
                  <a:gd name="textAreaBottom" fmla="*/ 3248280 h 324792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Přímá spojovací čára 34"/>
              <p:cNvSpPr/>
              <p:nvPr/>
            </p:nvSpPr>
            <p:spPr>
              <a:xfrm>
                <a:off x="3843720" y="3117240"/>
                <a:ext cx="31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Skupina 54"/>
            <p:cNvGrpSpPr/>
            <p:nvPr/>
          </p:nvGrpSpPr>
          <p:grpSpPr>
            <a:xfrm>
              <a:off x="1604160" y="4687560"/>
              <a:ext cx="5373000" cy="1677240"/>
              <a:chOff x="1604160" y="4687560"/>
              <a:chExt cx="5373000" cy="1677240"/>
            </a:xfrm>
          </p:grpSpPr>
          <p:sp>
            <p:nvSpPr>
              <p:cNvPr id="72" name="Volný tvar 31"/>
              <p:cNvSpPr/>
              <p:nvPr/>
            </p:nvSpPr>
            <p:spPr>
              <a:xfrm>
                <a:off x="1604160" y="4687560"/>
                <a:ext cx="2239560" cy="1677240"/>
              </a:xfrm>
              <a:custGeom>
                <a:avLst/>
                <a:gdLst>
                  <a:gd name="textAreaLeft" fmla="*/ 0 w 2239560"/>
                  <a:gd name="textAreaRight" fmla="*/ 2239920 w 2239560"/>
                  <a:gd name="textAreaTop" fmla="*/ 0 h 1677240"/>
                  <a:gd name="textAreaBottom" fmla="*/ 1677600 h 167724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Přímá spojovací čára 32"/>
              <p:cNvSpPr/>
              <p:nvPr/>
            </p:nvSpPr>
            <p:spPr>
              <a:xfrm>
                <a:off x="3843720" y="4687560"/>
                <a:ext cx="31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TextovéPole 18"/>
            <p:cNvSpPr/>
            <p:nvPr/>
          </p:nvSpPr>
          <p:spPr>
            <a:xfrm>
              <a:off x="762120" y="2507760"/>
              <a:ext cx="1051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ma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římá spojovací čára 19"/>
            <p:cNvSpPr/>
            <p:nvPr/>
          </p:nvSpPr>
          <p:spPr>
            <a:xfrm>
              <a:off x="1592280" y="2814480"/>
              <a:ext cx="5716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Přímá spojovací čára 20"/>
            <p:cNvSpPr/>
            <p:nvPr/>
          </p:nvSpPr>
          <p:spPr>
            <a:xfrm flipV="1">
              <a:off x="6699240" y="2281320"/>
              <a:ext cx="0" cy="4114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ovéPole 21"/>
            <p:cNvSpPr/>
            <p:nvPr/>
          </p:nvSpPr>
          <p:spPr>
            <a:xfrm>
              <a:off x="1901880" y="1743480"/>
              <a:ext cx="151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B 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= 0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ovéPole 22"/>
            <p:cNvSpPr/>
            <p:nvPr/>
          </p:nvSpPr>
          <p:spPr>
            <a:xfrm>
              <a:off x="6165360" y="6396480"/>
              <a:ext cx="151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Ema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ovéPole 23"/>
            <p:cNvSpPr/>
            <p:nvPr/>
          </p:nvSpPr>
          <p:spPr>
            <a:xfrm>
              <a:off x="6927120" y="5710680"/>
              <a:ext cx="151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= 0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ovéPole 24"/>
            <p:cNvSpPr/>
            <p:nvPr/>
          </p:nvSpPr>
          <p:spPr>
            <a:xfrm>
              <a:off x="6851160" y="4863960"/>
              <a:ext cx="151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ma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Skupina 51"/>
            <p:cNvGrpSpPr/>
            <p:nvPr/>
          </p:nvGrpSpPr>
          <p:grpSpPr>
            <a:xfrm>
              <a:off x="1604160" y="5325840"/>
              <a:ext cx="5384160" cy="1039320"/>
              <a:chOff x="1604160" y="5325840"/>
              <a:chExt cx="5384160" cy="1039320"/>
            </a:xfrm>
          </p:grpSpPr>
          <p:sp>
            <p:nvSpPr>
              <p:cNvPr id="82" name="Volný tvar 29"/>
              <p:cNvSpPr/>
              <p:nvPr/>
            </p:nvSpPr>
            <p:spPr>
              <a:xfrm>
                <a:off x="1604160" y="5325840"/>
                <a:ext cx="2244240" cy="1039320"/>
              </a:xfrm>
              <a:custGeom>
                <a:avLst/>
                <a:gdLst>
                  <a:gd name="textAreaLeft" fmla="*/ 0 w 2244240"/>
                  <a:gd name="textAreaRight" fmla="*/ 2244600 w 2244240"/>
                  <a:gd name="textAreaTop" fmla="*/ 0 h 1039320"/>
                  <a:gd name="textAreaBottom" fmla="*/ 1039680 h 103932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Přímá spojovací čára 30"/>
              <p:cNvSpPr/>
              <p:nvPr/>
            </p:nvSpPr>
            <p:spPr>
              <a:xfrm>
                <a:off x="3848400" y="5325840"/>
                <a:ext cx="3139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Skupina 48"/>
            <p:cNvGrpSpPr/>
            <p:nvPr/>
          </p:nvGrpSpPr>
          <p:grpSpPr>
            <a:xfrm>
              <a:off x="1593000" y="6015600"/>
              <a:ext cx="5384160" cy="325080"/>
              <a:chOff x="1593000" y="6015600"/>
              <a:chExt cx="5384160" cy="325080"/>
            </a:xfrm>
          </p:grpSpPr>
          <p:sp>
            <p:nvSpPr>
              <p:cNvPr id="85" name="Volný tvar 27"/>
              <p:cNvSpPr/>
              <p:nvPr/>
            </p:nvSpPr>
            <p:spPr>
              <a:xfrm>
                <a:off x="1593000" y="6015600"/>
                <a:ext cx="2244240" cy="325080"/>
              </a:xfrm>
              <a:custGeom>
                <a:avLst/>
                <a:gdLst>
                  <a:gd name="textAreaLeft" fmla="*/ 0 w 2244240"/>
                  <a:gd name="textAreaRight" fmla="*/ 2244600 w 2244240"/>
                  <a:gd name="textAreaTop" fmla="*/ 0 h 325080"/>
                  <a:gd name="textAreaBottom" fmla="*/ 325440 h 325080"/>
                </a:gdLst>
                <a:ahLst/>
                <a:rect l="textAreaLeft" t="textAreaTop" r="textAreaRight" b="textAreaBottom"/>
                <a:pathLst>
                  <a:path w="1257300" h="2165350">
                    <a:moveTo>
                      <a:pt x="0" y="2165350"/>
                    </a:moveTo>
                    <a:cubicBezTo>
                      <a:pt x="57150" y="1453621"/>
                      <a:pt x="114300" y="741892"/>
                      <a:pt x="323850" y="381000"/>
                    </a:cubicBezTo>
                    <a:cubicBezTo>
                      <a:pt x="533400" y="20108"/>
                      <a:pt x="1257300" y="0"/>
                      <a:pt x="125730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Přímá spojovací čára 28"/>
              <p:cNvSpPr/>
              <p:nvPr/>
            </p:nvSpPr>
            <p:spPr>
              <a:xfrm>
                <a:off x="3837240" y="6015600"/>
                <a:ext cx="3139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ovéPole 1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NSTRUKCE ZATĚŽOVACÍ PŘÍ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41"/>
          <p:cNvSpPr/>
          <p:nvPr/>
        </p:nvSpPr>
        <p:spPr>
          <a:xfrm>
            <a:off x="152280" y="990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Pro konstrukci zatěžovací přímky potřebujeme znát průsečíky</a:t>
            </a:r>
            <a:br>
              <a:rPr sz="2400"/>
            </a:b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s osou proudu a napětí. Způsob zjištění těchto průsečíků </a:t>
            </a: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vychází z konkrétního zapojení tranzist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Skupina 43"/>
          <p:cNvGrpSpPr/>
          <p:nvPr/>
        </p:nvGrpSpPr>
        <p:grpSpPr>
          <a:xfrm>
            <a:off x="228600" y="-2215080"/>
            <a:ext cx="9973800" cy="9121680"/>
            <a:chOff x="228600" y="-2215080"/>
            <a:chExt cx="9973800" cy="9121680"/>
          </a:xfrm>
        </p:grpSpPr>
        <p:grpSp>
          <p:nvGrpSpPr>
            <p:cNvPr id="90" name="Skupina 3"/>
            <p:cNvGrpSpPr/>
            <p:nvPr/>
          </p:nvGrpSpPr>
          <p:grpSpPr>
            <a:xfrm>
              <a:off x="228600" y="-2215080"/>
              <a:ext cx="9973800" cy="9121680"/>
              <a:chOff x="228600" y="-2215080"/>
              <a:chExt cx="9973800" cy="9121680"/>
            </a:xfrm>
          </p:grpSpPr>
          <p:sp>
            <p:nvSpPr>
              <p:cNvPr id="91" name="Oblouk 4"/>
              <p:cNvSpPr/>
              <p:nvPr/>
            </p:nvSpPr>
            <p:spPr>
              <a:xfrm rot="10800000">
                <a:off x="2658600" y="-2215080"/>
                <a:ext cx="7543800" cy="7239240"/>
              </a:xfrm>
              <a:custGeom>
                <a:avLst/>
                <a:gdLst>
                  <a:gd name="textAreaLeft" fmla="*/ 3831840 w 7543800"/>
                  <a:gd name="textAreaRight" fmla="*/ 7383600 w 7543800"/>
                  <a:gd name="textAreaTop" fmla="*/ 360 h 7239240"/>
                  <a:gd name="textAreaBottom" fmla="*/ 2575440 h 7239240"/>
                </a:gdLst>
                <a:ahLst/>
                <a:rect l="textAreaLeft" t="textAreaTop" r="textAreaRight" b="textAreaBottom"/>
                <a:pathLst>
                  <a:path stroke="0" w="7543438" h="7238765">
                    <a:moveTo>
                      <a:pt x="3831480" y="454"/>
                    </a:moveTo>
                    <a:lnTo>
                      <a:pt x="3831480" y="454"/>
                    </a:lnTo>
                    <a:arcTo wR="3771719" hR="3619383" stAng="-5343236" swAng="4375900"/>
                    <a:lnTo>
                      <a:pt x="3771719" y="3619383"/>
                    </a:lnTo>
                    <a:close/>
                  </a:path>
                  <a:path fill="none" w="7543438" h="7238765">
                    <a:moveTo>
                      <a:pt x="3831480" y="454"/>
                    </a:moveTo>
                    <a:lnTo>
                      <a:pt x="3831480" y="454"/>
                    </a:lnTo>
                    <a:arcTo wR="3771719" hR="3619383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bdélník 5"/>
              <p:cNvSpPr/>
              <p:nvPr/>
            </p:nvSpPr>
            <p:spPr>
              <a:xfrm>
                <a:off x="6317640" y="5862960"/>
                <a:ext cx="3045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Volný tvar 6"/>
              <p:cNvSpPr/>
              <p:nvPr/>
            </p:nvSpPr>
            <p:spPr>
              <a:xfrm>
                <a:off x="1050120" y="1611720"/>
                <a:ext cx="909720" cy="479484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0 h 4794840"/>
                  <a:gd name="textAreaBottom" fmla="*/ 4795200 h 479484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bdélník 7"/>
              <p:cNvSpPr/>
              <p:nvPr/>
            </p:nvSpPr>
            <p:spPr>
              <a:xfrm>
                <a:off x="754560" y="174780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Přímá spojovací čára 8"/>
              <p:cNvSpPr/>
              <p:nvPr/>
            </p:nvSpPr>
            <p:spPr>
              <a:xfrm>
                <a:off x="1070640" y="6365160"/>
                <a:ext cx="60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Přímá spojovací čára 9"/>
              <p:cNvSpPr/>
              <p:nvPr/>
            </p:nvSpPr>
            <p:spPr>
              <a:xfrm>
                <a:off x="1070640" y="1818000"/>
                <a:ext cx="0" cy="454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ovéPole 10"/>
              <p:cNvSpPr/>
              <p:nvPr/>
            </p:nvSpPr>
            <p:spPr>
              <a:xfrm>
                <a:off x="609480" y="1752480"/>
                <a:ext cx="757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ovéPole 11"/>
              <p:cNvSpPr/>
              <p:nvPr/>
            </p:nvSpPr>
            <p:spPr>
              <a:xfrm>
                <a:off x="6851880" y="4156560"/>
                <a:ext cx="1087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9" name="Přímá spojovací šipka 12"/>
              <p:cNvCxnSpPr/>
              <p:nvPr/>
            </p:nvCxnSpPr>
            <p:spPr>
              <a:xfrm>
                <a:off x="6851520" y="4156560"/>
                <a:ext cx="1080" cy="650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</p:cxnSp>
          <p:grpSp>
            <p:nvGrpSpPr>
              <p:cNvPr id="100" name="Skupina 38"/>
              <p:cNvGrpSpPr/>
              <p:nvPr/>
            </p:nvGrpSpPr>
            <p:grpSpPr>
              <a:xfrm>
                <a:off x="1059480" y="2662200"/>
                <a:ext cx="5384160" cy="3691800"/>
                <a:chOff x="1059480" y="2662200"/>
                <a:chExt cx="5384160" cy="3691800"/>
              </a:xfrm>
            </p:grpSpPr>
            <p:sp>
              <p:nvSpPr>
                <p:cNvPr id="101" name="Volný tvar 39"/>
                <p:cNvSpPr/>
                <p:nvPr/>
              </p:nvSpPr>
              <p:spPr>
                <a:xfrm>
                  <a:off x="1059480" y="2662200"/>
                  <a:ext cx="2244240" cy="3691800"/>
                </a:xfrm>
                <a:custGeom>
                  <a:avLst/>
                  <a:gdLst>
                    <a:gd name="textAreaLeft" fmla="*/ 0 w 2244240"/>
                    <a:gd name="textAreaRight" fmla="*/ 2244600 w 2244240"/>
                    <a:gd name="textAreaTop" fmla="*/ 0 h 3691800"/>
                    <a:gd name="textAreaBottom" fmla="*/ 3692160 h 369180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Přímá spojovací čára 40"/>
                <p:cNvSpPr/>
                <p:nvPr/>
              </p:nvSpPr>
              <p:spPr>
                <a:xfrm>
                  <a:off x="3303720" y="2662200"/>
                  <a:ext cx="313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Skupina 39"/>
              <p:cNvGrpSpPr/>
              <p:nvPr/>
            </p:nvGrpSpPr>
            <p:grpSpPr>
              <a:xfrm>
                <a:off x="1070640" y="4156560"/>
                <a:ext cx="5373000" cy="2192040"/>
                <a:chOff x="1070640" y="4156560"/>
                <a:chExt cx="5373000" cy="2192040"/>
              </a:xfrm>
            </p:grpSpPr>
            <p:sp>
              <p:nvSpPr>
                <p:cNvPr id="104" name="Volný tvar 37"/>
                <p:cNvSpPr/>
                <p:nvPr/>
              </p:nvSpPr>
              <p:spPr>
                <a:xfrm>
                  <a:off x="1070640" y="4156560"/>
                  <a:ext cx="2239560" cy="2192040"/>
                </a:xfrm>
                <a:custGeom>
                  <a:avLst/>
                  <a:gdLst>
                    <a:gd name="textAreaLeft" fmla="*/ 0 w 2239560"/>
                    <a:gd name="textAreaRight" fmla="*/ 2239920 w 2239560"/>
                    <a:gd name="textAreaTop" fmla="*/ 0 h 2192040"/>
                    <a:gd name="textAreaBottom" fmla="*/ 2192400 h 2192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Přímá spojovací čára 38"/>
                <p:cNvSpPr/>
                <p:nvPr/>
              </p:nvSpPr>
              <p:spPr>
                <a:xfrm>
                  <a:off x="3310200" y="4156560"/>
                  <a:ext cx="3133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Skupina 42"/>
              <p:cNvGrpSpPr/>
              <p:nvPr/>
            </p:nvGrpSpPr>
            <p:grpSpPr>
              <a:xfrm>
                <a:off x="1059480" y="3636720"/>
                <a:ext cx="5395320" cy="2728080"/>
                <a:chOff x="1059480" y="3636720"/>
                <a:chExt cx="5395320" cy="2728080"/>
              </a:xfrm>
            </p:grpSpPr>
            <p:sp>
              <p:nvSpPr>
                <p:cNvPr id="107" name="Volný tvar 35"/>
                <p:cNvSpPr/>
                <p:nvPr/>
              </p:nvSpPr>
              <p:spPr>
                <a:xfrm>
                  <a:off x="1059480" y="3636720"/>
                  <a:ext cx="2248920" cy="2728080"/>
                </a:xfrm>
                <a:custGeom>
                  <a:avLst/>
                  <a:gdLst>
                    <a:gd name="textAreaLeft" fmla="*/ 0 w 2248920"/>
                    <a:gd name="textAreaRight" fmla="*/ 2249280 w 2248920"/>
                    <a:gd name="textAreaTop" fmla="*/ 0 h 2728080"/>
                    <a:gd name="textAreaBottom" fmla="*/ 2728440 h 272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Přímá spojovací čára 36"/>
                <p:cNvSpPr/>
                <p:nvPr/>
              </p:nvSpPr>
              <p:spPr>
                <a:xfrm>
                  <a:off x="3308400" y="3636720"/>
                  <a:ext cx="3146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Skupina 45"/>
              <p:cNvGrpSpPr/>
              <p:nvPr/>
            </p:nvGrpSpPr>
            <p:grpSpPr>
              <a:xfrm>
                <a:off x="1070640" y="3117240"/>
                <a:ext cx="5373000" cy="3247920"/>
                <a:chOff x="1070640" y="3117240"/>
                <a:chExt cx="5373000" cy="3247920"/>
              </a:xfrm>
            </p:grpSpPr>
            <p:sp>
              <p:nvSpPr>
                <p:cNvPr id="110" name="Volný tvar 33"/>
                <p:cNvSpPr/>
                <p:nvPr/>
              </p:nvSpPr>
              <p:spPr>
                <a:xfrm>
                  <a:off x="1070640" y="3117240"/>
                  <a:ext cx="2239560" cy="3247920"/>
                </a:xfrm>
                <a:custGeom>
                  <a:avLst/>
                  <a:gdLst>
                    <a:gd name="textAreaLeft" fmla="*/ 0 w 2239560"/>
                    <a:gd name="textAreaRight" fmla="*/ 2239920 w 2239560"/>
                    <a:gd name="textAreaTop" fmla="*/ 0 h 3247920"/>
                    <a:gd name="textAreaBottom" fmla="*/ 3248280 h 32479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Přímá spojovací čára 34"/>
                <p:cNvSpPr/>
                <p:nvPr/>
              </p:nvSpPr>
              <p:spPr>
                <a:xfrm>
                  <a:off x="3310200" y="3117240"/>
                  <a:ext cx="3133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Skupina 54"/>
              <p:cNvGrpSpPr/>
              <p:nvPr/>
            </p:nvGrpSpPr>
            <p:grpSpPr>
              <a:xfrm>
                <a:off x="1070640" y="4687560"/>
                <a:ext cx="5373000" cy="1677240"/>
                <a:chOff x="1070640" y="4687560"/>
                <a:chExt cx="5373000" cy="1677240"/>
              </a:xfrm>
            </p:grpSpPr>
            <p:sp>
              <p:nvSpPr>
                <p:cNvPr id="113" name="Volný tvar 31"/>
                <p:cNvSpPr/>
                <p:nvPr/>
              </p:nvSpPr>
              <p:spPr>
                <a:xfrm>
                  <a:off x="1070640" y="4687560"/>
                  <a:ext cx="2239560" cy="1677240"/>
                </a:xfrm>
                <a:custGeom>
                  <a:avLst/>
                  <a:gdLst>
                    <a:gd name="textAreaLeft" fmla="*/ 0 w 2239560"/>
                    <a:gd name="textAreaRight" fmla="*/ 2239920 w 2239560"/>
                    <a:gd name="textAreaTop" fmla="*/ 0 h 1677240"/>
                    <a:gd name="textAreaBottom" fmla="*/ 1677600 h 16772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Přímá spojovací čára 32"/>
                <p:cNvSpPr/>
                <p:nvPr/>
              </p:nvSpPr>
              <p:spPr>
                <a:xfrm>
                  <a:off x="3310200" y="4687560"/>
                  <a:ext cx="3133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TextovéPole 18"/>
              <p:cNvSpPr/>
              <p:nvPr/>
            </p:nvSpPr>
            <p:spPr>
              <a:xfrm>
                <a:off x="228600" y="2507760"/>
                <a:ext cx="1051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ma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Přímá spojovací čára 19"/>
              <p:cNvSpPr/>
              <p:nvPr/>
            </p:nvSpPr>
            <p:spPr>
              <a:xfrm>
                <a:off x="1058760" y="2814480"/>
                <a:ext cx="571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Přímá spojovací čára 20"/>
              <p:cNvSpPr/>
              <p:nvPr/>
            </p:nvSpPr>
            <p:spPr>
              <a:xfrm flipV="1">
                <a:off x="6165720" y="2281320"/>
                <a:ext cx="0" cy="4114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ovéPole 21"/>
              <p:cNvSpPr/>
              <p:nvPr/>
            </p:nvSpPr>
            <p:spPr>
              <a:xfrm>
                <a:off x="1368360" y="174348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B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= 0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ovéPole 22"/>
              <p:cNvSpPr/>
              <p:nvPr/>
            </p:nvSpPr>
            <p:spPr>
              <a:xfrm>
                <a:off x="5867640" y="639648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ma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ovéPole 23"/>
              <p:cNvSpPr/>
              <p:nvPr/>
            </p:nvSpPr>
            <p:spPr>
              <a:xfrm>
                <a:off x="6393600" y="571068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= 0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ovéPole 24"/>
              <p:cNvSpPr/>
              <p:nvPr/>
            </p:nvSpPr>
            <p:spPr>
              <a:xfrm>
                <a:off x="6317640" y="486396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ma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Skupina 51"/>
              <p:cNvGrpSpPr/>
              <p:nvPr/>
            </p:nvGrpSpPr>
            <p:grpSpPr>
              <a:xfrm>
                <a:off x="1070640" y="5325840"/>
                <a:ext cx="5384160" cy="1039320"/>
                <a:chOff x="1070640" y="5325840"/>
                <a:chExt cx="5384160" cy="1039320"/>
              </a:xfrm>
            </p:grpSpPr>
            <p:sp>
              <p:nvSpPr>
                <p:cNvPr id="123" name="Volný tvar 29"/>
                <p:cNvSpPr/>
                <p:nvPr/>
              </p:nvSpPr>
              <p:spPr>
                <a:xfrm>
                  <a:off x="1070640" y="5325840"/>
                  <a:ext cx="2244240" cy="1039320"/>
                </a:xfrm>
                <a:custGeom>
                  <a:avLst/>
                  <a:gdLst>
                    <a:gd name="textAreaLeft" fmla="*/ 0 w 2244240"/>
                    <a:gd name="textAreaRight" fmla="*/ 2244600 w 2244240"/>
                    <a:gd name="textAreaTop" fmla="*/ 0 h 1039320"/>
                    <a:gd name="textAreaBottom" fmla="*/ 1039680 h 10393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Přímá spojovací čára 30"/>
                <p:cNvSpPr/>
                <p:nvPr/>
              </p:nvSpPr>
              <p:spPr>
                <a:xfrm>
                  <a:off x="3314880" y="5325840"/>
                  <a:ext cx="313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Skupina 48"/>
              <p:cNvGrpSpPr/>
              <p:nvPr/>
            </p:nvGrpSpPr>
            <p:grpSpPr>
              <a:xfrm>
                <a:off x="1059480" y="6015600"/>
                <a:ext cx="5384160" cy="325080"/>
                <a:chOff x="1059480" y="6015600"/>
                <a:chExt cx="5384160" cy="325080"/>
              </a:xfrm>
            </p:grpSpPr>
            <p:sp>
              <p:nvSpPr>
                <p:cNvPr id="126" name="Volný tvar 27"/>
                <p:cNvSpPr/>
                <p:nvPr/>
              </p:nvSpPr>
              <p:spPr>
                <a:xfrm>
                  <a:off x="1059480" y="6015600"/>
                  <a:ext cx="2244240" cy="325080"/>
                </a:xfrm>
                <a:custGeom>
                  <a:avLst/>
                  <a:gdLst>
                    <a:gd name="textAreaLeft" fmla="*/ 0 w 2244240"/>
                    <a:gd name="textAreaRight" fmla="*/ 2244600 w 2244240"/>
                    <a:gd name="textAreaTop" fmla="*/ 0 h 325080"/>
                    <a:gd name="textAreaBottom" fmla="*/ 325440 h 325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Přímá spojovací čára 28"/>
                <p:cNvSpPr/>
                <p:nvPr/>
              </p:nvSpPr>
              <p:spPr>
                <a:xfrm>
                  <a:off x="3303720" y="6015600"/>
                  <a:ext cx="313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ovéPole 42"/>
            <p:cNvSpPr/>
            <p:nvPr/>
          </p:nvSpPr>
          <p:spPr>
            <a:xfrm>
              <a:off x="6782040" y="6396480"/>
              <a:ext cx="108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římá spojovací čára 45"/>
          <p:cNvSpPr/>
          <p:nvPr/>
        </p:nvSpPr>
        <p:spPr>
          <a:xfrm>
            <a:off x="914400" y="3200400"/>
            <a:ext cx="304920" cy="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římá spojovací čára 47"/>
          <p:cNvSpPr/>
          <p:nvPr/>
        </p:nvSpPr>
        <p:spPr>
          <a:xfrm>
            <a:off x="5410080" y="6248520"/>
            <a:ext cx="0" cy="30456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římá spojovací čára 53"/>
          <p:cNvSpPr/>
          <p:nvPr/>
        </p:nvSpPr>
        <p:spPr>
          <a:xfrm>
            <a:off x="1066680" y="3200400"/>
            <a:ext cx="4343400" cy="320040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Přímá spojovací šipka 55"/>
          <p:cNvCxnSpPr/>
          <p:nvPr/>
        </p:nvCxnSpPr>
        <p:spPr>
          <a:xfrm flipV="1">
            <a:off x="2971800" y="2971440"/>
            <a:ext cx="4039200" cy="1448640"/>
          </a:xfrm>
          <a:prstGeom prst="straightConnector1">
            <a:avLst/>
          </a:prstGeom>
          <a:ln w="25560">
            <a:solidFill>
              <a:srgbClr val="2d2d8a"/>
            </a:solidFill>
            <a:miter/>
            <a:headEnd len="med" type="triangle" w="med"/>
          </a:ln>
        </p:spPr>
      </p:cxnSp>
      <p:sp>
        <p:nvSpPr>
          <p:cNvPr id="133" name="TextovéPole 56"/>
          <p:cNvSpPr/>
          <p:nvPr/>
        </p:nvSpPr>
        <p:spPr>
          <a:xfrm>
            <a:off x="7162920" y="27432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ZATĚŽOVCÍ</a:t>
            </a:r>
            <a:br>
              <a:rPr sz="2400"/>
            </a:b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PŘÍM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58"/>
          <p:cNvSpPr/>
          <p:nvPr/>
        </p:nvSpPr>
        <p:spPr>
          <a:xfrm>
            <a:off x="457200" y="3124080"/>
            <a:ext cx="75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2d2d8a"/>
                </a:solidFill>
                <a:latin typeface="Arial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59"/>
          <p:cNvSpPr/>
          <p:nvPr/>
        </p:nvSpPr>
        <p:spPr>
          <a:xfrm>
            <a:off x="4800600" y="6396120"/>
            <a:ext cx="108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2d2d8a"/>
                </a:solidFill>
                <a:latin typeface="Arial"/>
              </a:rPr>
              <a:t>CE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ovéPole 1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PÍNACÍ REŽIM TRANZI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41"/>
          <p:cNvSpPr/>
          <p:nvPr/>
        </p:nvSpPr>
        <p:spPr>
          <a:xfrm>
            <a:off x="152280" y="990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Ve spínacím režimu pracuje tranzistor, když je klidový pracovní bod nastaven v bodě A nebo B a může se pohybovat pouze </a:t>
            </a:r>
            <a:br>
              <a:rPr sz="2400"/>
            </a:b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v těchto bod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Skupina 43"/>
          <p:cNvGrpSpPr/>
          <p:nvPr/>
        </p:nvGrpSpPr>
        <p:grpSpPr>
          <a:xfrm>
            <a:off x="228600" y="-2215080"/>
            <a:ext cx="9973800" cy="9121680"/>
            <a:chOff x="228600" y="-2215080"/>
            <a:chExt cx="9973800" cy="9121680"/>
          </a:xfrm>
        </p:grpSpPr>
        <p:grpSp>
          <p:nvGrpSpPr>
            <p:cNvPr id="139" name="Skupina 3"/>
            <p:cNvGrpSpPr/>
            <p:nvPr/>
          </p:nvGrpSpPr>
          <p:grpSpPr>
            <a:xfrm>
              <a:off x="228600" y="-2215080"/>
              <a:ext cx="9973800" cy="9121680"/>
              <a:chOff x="228600" y="-2215080"/>
              <a:chExt cx="9973800" cy="9121680"/>
            </a:xfrm>
          </p:grpSpPr>
          <p:sp>
            <p:nvSpPr>
              <p:cNvPr id="140" name="Oblouk 4"/>
              <p:cNvSpPr/>
              <p:nvPr/>
            </p:nvSpPr>
            <p:spPr>
              <a:xfrm rot="10800000">
                <a:off x="2658600" y="-2215080"/>
                <a:ext cx="7543800" cy="7239240"/>
              </a:xfrm>
              <a:custGeom>
                <a:avLst/>
                <a:gdLst>
                  <a:gd name="textAreaLeft" fmla="*/ 3831840 w 7543800"/>
                  <a:gd name="textAreaRight" fmla="*/ 7383600 w 7543800"/>
                  <a:gd name="textAreaTop" fmla="*/ 360 h 7239240"/>
                  <a:gd name="textAreaBottom" fmla="*/ 2575440 h 7239240"/>
                </a:gdLst>
                <a:ahLst/>
                <a:rect l="textAreaLeft" t="textAreaTop" r="textAreaRight" b="textAreaBottom"/>
                <a:pathLst>
                  <a:path stroke="0" w="7543438" h="7238765">
                    <a:moveTo>
                      <a:pt x="3831480" y="454"/>
                    </a:moveTo>
                    <a:lnTo>
                      <a:pt x="3831480" y="454"/>
                    </a:lnTo>
                    <a:arcTo wR="3771719" hR="3619383" stAng="-5343236" swAng="4375900"/>
                    <a:lnTo>
                      <a:pt x="3771719" y="3619383"/>
                    </a:lnTo>
                    <a:close/>
                  </a:path>
                  <a:path fill="none" w="7543438" h="7238765">
                    <a:moveTo>
                      <a:pt x="3831480" y="454"/>
                    </a:moveTo>
                    <a:lnTo>
                      <a:pt x="3831480" y="454"/>
                    </a:lnTo>
                    <a:arcTo wR="3771719" hR="3619383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bdélník 5"/>
              <p:cNvSpPr/>
              <p:nvPr/>
            </p:nvSpPr>
            <p:spPr>
              <a:xfrm>
                <a:off x="6317640" y="5862960"/>
                <a:ext cx="3045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Volný tvar 6"/>
              <p:cNvSpPr/>
              <p:nvPr/>
            </p:nvSpPr>
            <p:spPr>
              <a:xfrm>
                <a:off x="1050120" y="1611720"/>
                <a:ext cx="909720" cy="479484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0 h 4794840"/>
                  <a:gd name="textAreaBottom" fmla="*/ 4795200 h 479484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bdélník 7"/>
              <p:cNvSpPr/>
              <p:nvPr/>
            </p:nvSpPr>
            <p:spPr>
              <a:xfrm>
                <a:off x="754560" y="174780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Přímá spojovací čára 8"/>
              <p:cNvSpPr/>
              <p:nvPr/>
            </p:nvSpPr>
            <p:spPr>
              <a:xfrm>
                <a:off x="1070640" y="6365160"/>
                <a:ext cx="60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Přímá spojovací čára 9"/>
              <p:cNvSpPr/>
              <p:nvPr/>
            </p:nvSpPr>
            <p:spPr>
              <a:xfrm>
                <a:off x="1070640" y="1818000"/>
                <a:ext cx="0" cy="454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ovéPole 10"/>
              <p:cNvSpPr/>
              <p:nvPr/>
            </p:nvSpPr>
            <p:spPr>
              <a:xfrm>
                <a:off x="609480" y="1752480"/>
                <a:ext cx="757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ovéPole 11"/>
              <p:cNvSpPr/>
              <p:nvPr/>
            </p:nvSpPr>
            <p:spPr>
              <a:xfrm>
                <a:off x="6851880" y="4156560"/>
                <a:ext cx="1087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" name="Přímá spojovací šipka 12"/>
              <p:cNvCxnSpPr/>
              <p:nvPr/>
            </p:nvCxnSpPr>
            <p:spPr>
              <a:xfrm>
                <a:off x="6851520" y="4156560"/>
                <a:ext cx="1080" cy="650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</p:cxnSp>
          <p:grpSp>
            <p:nvGrpSpPr>
              <p:cNvPr id="149" name="Skupina 38"/>
              <p:cNvGrpSpPr/>
              <p:nvPr/>
            </p:nvGrpSpPr>
            <p:grpSpPr>
              <a:xfrm>
                <a:off x="1059480" y="2662200"/>
                <a:ext cx="5384160" cy="3691800"/>
                <a:chOff x="1059480" y="2662200"/>
                <a:chExt cx="5384160" cy="3691800"/>
              </a:xfrm>
            </p:grpSpPr>
            <p:sp>
              <p:nvSpPr>
                <p:cNvPr id="150" name="Volný tvar 39"/>
                <p:cNvSpPr/>
                <p:nvPr/>
              </p:nvSpPr>
              <p:spPr>
                <a:xfrm>
                  <a:off x="1059480" y="2662200"/>
                  <a:ext cx="2244240" cy="3691800"/>
                </a:xfrm>
                <a:custGeom>
                  <a:avLst/>
                  <a:gdLst>
                    <a:gd name="textAreaLeft" fmla="*/ 0 w 2244240"/>
                    <a:gd name="textAreaRight" fmla="*/ 2244600 w 2244240"/>
                    <a:gd name="textAreaTop" fmla="*/ 0 h 3691800"/>
                    <a:gd name="textAreaBottom" fmla="*/ 3692160 h 369180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Přímá spojovací čára 40"/>
                <p:cNvSpPr/>
                <p:nvPr/>
              </p:nvSpPr>
              <p:spPr>
                <a:xfrm>
                  <a:off x="3303720" y="2662200"/>
                  <a:ext cx="313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Skupina 39"/>
              <p:cNvGrpSpPr/>
              <p:nvPr/>
            </p:nvGrpSpPr>
            <p:grpSpPr>
              <a:xfrm>
                <a:off x="1070640" y="4156560"/>
                <a:ext cx="5373000" cy="2192040"/>
                <a:chOff x="1070640" y="4156560"/>
                <a:chExt cx="5373000" cy="2192040"/>
              </a:xfrm>
            </p:grpSpPr>
            <p:sp>
              <p:nvSpPr>
                <p:cNvPr id="153" name="Volný tvar 37"/>
                <p:cNvSpPr/>
                <p:nvPr/>
              </p:nvSpPr>
              <p:spPr>
                <a:xfrm>
                  <a:off x="1070640" y="4156560"/>
                  <a:ext cx="2239560" cy="2192040"/>
                </a:xfrm>
                <a:custGeom>
                  <a:avLst/>
                  <a:gdLst>
                    <a:gd name="textAreaLeft" fmla="*/ 0 w 2239560"/>
                    <a:gd name="textAreaRight" fmla="*/ 2239920 w 2239560"/>
                    <a:gd name="textAreaTop" fmla="*/ 0 h 2192040"/>
                    <a:gd name="textAreaBottom" fmla="*/ 2192400 h 2192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Přímá spojovací čára 38"/>
                <p:cNvSpPr/>
                <p:nvPr/>
              </p:nvSpPr>
              <p:spPr>
                <a:xfrm>
                  <a:off x="3310200" y="4156560"/>
                  <a:ext cx="3133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Skupina 42"/>
              <p:cNvGrpSpPr/>
              <p:nvPr/>
            </p:nvGrpSpPr>
            <p:grpSpPr>
              <a:xfrm>
                <a:off x="1059480" y="3636720"/>
                <a:ext cx="5395320" cy="2728080"/>
                <a:chOff x="1059480" y="3636720"/>
                <a:chExt cx="5395320" cy="2728080"/>
              </a:xfrm>
            </p:grpSpPr>
            <p:sp>
              <p:nvSpPr>
                <p:cNvPr id="156" name="Volný tvar 35"/>
                <p:cNvSpPr/>
                <p:nvPr/>
              </p:nvSpPr>
              <p:spPr>
                <a:xfrm>
                  <a:off x="1059480" y="3636720"/>
                  <a:ext cx="2248920" cy="2728080"/>
                </a:xfrm>
                <a:custGeom>
                  <a:avLst/>
                  <a:gdLst>
                    <a:gd name="textAreaLeft" fmla="*/ 0 w 2248920"/>
                    <a:gd name="textAreaRight" fmla="*/ 2249280 w 2248920"/>
                    <a:gd name="textAreaTop" fmla="*/ 0 h 2728080"/>
                    <a:gd name="textAreaBottom" fmla="*/ 2728440 h 272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Přímá spojovací čára 36"/>
                <p:cNvSpPr/>
                <p:nvPr/>
              </p:nvSpPr>
              <p:spPr>
                <a:xfrm>
                  <a:off x="3308400" y="3636720"/>
                  <a:ext cx="3146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Skupina 45"/>
              <p:cNvGrpSpPr/>
              <p:nvPr/>
            </p:nvGrpSpPr>
            <p:grpSpPr>
              <a:xfrm>
                <a:off x="1070640" y="3117240"/>
                <a:ext cx="5373000" cy="3247920"/>
                <a:chOff x="1070640" y="3117240"/>
                <a:chExt cx="5373000" cy="3247920"/>
              </a:xfrm>
            </p:grpSpPr>
            <p:sp>
              <p:nvSpPr>
                <p:cNvPr id="159" name="Volný tvar 33"/>
                <p:cNvSpPr/>
                <p:nvPr/>
              </p:nvSpPr>
              <p:spPr>
                <a:xfrm>
                  <a:off x="1070640" y="3117240"/>
                  <a:ext cx="2239560" cy="3247920"/>
                </a:xfrm>
                <a:custGeom>
                  <a:avLst/>
                  <a:gdLst>
                    <a:gd name="textAreaLeft" fmla="*/ 0 w 2239560"/>
                    <a:gd name="textAreaRight" fmla="*/ 2239920 w 2239560"/>
                    <a:gd name="textAreaTop" fmla="*/ 0 h 3247920"/>
                    <a:gd name="textAreaBottom" fmla="*/ 3248280 h 32479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Přímá spojovací čára 34"/>
                <p:cNvSpPr/>
                <p:nvPr/>
              </p:nvSpPr>
              <p:spPr>
                <a:xfrm>
                  <a:off x="3310200" y="3117240"/>
                  <a:ext cx="3133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Skupina 54"/>
              <p:cNvGrpSpPr/>
              <p:nvPr/>
            </p:nvGrpSpPr>
            <p:grpSpPr>
              <a:xfrm>
                <a:off x="1070640" y="4687560"/>
                <a:ext cx="5373000" cy="1677240"/>
                <a:chOff x="1070640" y="4687560"/>
                <a:chExt cx="5373000" cy="1677240"/>
              </a:xfrm>
            </p:grpSpPr>
            <p:sp>
              <p:nvSpPr>
                <p:cNvPr id="162" name="Volný tvar 31"/>
                <p:cNvSpPr/>
                <p:nvPr/>
              </p:nvSpPr>
              <p:spPr>
                <a:xfrm>
                  <a:off x="1070640" y="4687560"/>
                  <a:ext cx="2239560" cy="1677240"/>
                </a:xfrm>
                <a:custGeom>
                  <a:avLst/>
                  <a:gdLst>
                    <a:gd name="textAreaLeft" fmla="*/ 0 w 2239560"/>
                    <a:gd name="textAreaRight" fmla="*/ 2239920 w 2239560"/>
                    <a:gd name="textAreaTop" fmla="*/ 0 h 1677240"/>
                    <a:gd name="textAreaBottom" fmla="*/ 1677600 h 16772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Přímá spojovací čára 32"/>
                <p:cNvSpPr/>
                <p:nvPr/>
              </p:nvSpPr>
              <p:spPr>
                <a:xfrm>
                  <a:off x="3310200" y="4687560"/>
                  <a:ext cx="3133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ovéPole 18"/>
              <p:cNvSpPr/>
              <p:nvPr/>
            </p:nvSpPr>
            <p:spPr>
              <a:xfrm>
                <a:off x="228600" y="2507760"/>
                <a:ext cx="1051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ma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Přímá spojovací čára 19"/>
              <p:cNvSpPr/>
              <p:nvPr/>
            </p:nvSpPr>
            <p:spPr>
              <a:xfrm>
                <a:off x="1058760" y="2814480"/>
                <a:ext cx="571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Přímá spojovací čára 20"/>
              <p:cNvSpPr/>
              <p:nvPr/>
            </p:nvSpPr>
            <p:spPr>
              <a:xfrm flipV="1">
                <a:off x="6165720" y="2281320"/>
                <a:ext cx="0" cy="4114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ovéPole 21"/>
              <p:cNvSpPr/>
              <p:nvPr/>
            </p:nvSpPr>
            <p:spPr>
              <a:xfrm>
                <a:off x="1368360" y="174348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B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= 0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ovéPole 22"/>
              <p:cNvSpPr/>
              <p:nvPr/>
            </p:nvSpPr>
            <p:spPr>
              <a:xfrm>
                <a:off x="5867640" y="639648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ma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ovéPole 23"/>
              <p:cNvSpPr/>
              <p:nvPr/>
            </p:nvSpPr>
            <p:spPr>
              <a:xfrm>
                <a:off x="6393600" y="571068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= 0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ovéPole 24"/>
              <p:cNvSpPr/>
              <p:nvPr/>
            </p:nvSpPr>
            <p:spPr>
              <a:xfrm>
                <a:off x="6317640" y="486396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ma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Skupina 51"/>
              <p:cNvGrpSpPr/>
              <p:nvPr/>
            </p:nvGrpSpPr>
            <p:grpSpPr>
              <a:xfrm>
                <a:off x="1070640" y="5325840"/>
                <a:ext cx="5384160" cy="1039320"/>
                <a:chOff x="1070640" y="5325840"/>
                <a:chExt cx="5384160" cy="1039320"/>
              </a:xfrm>
            </p:grpSpPr>
            <p:sp>
              <p:nvSpPr>
                <p:cNvPr id="172" name="Volný tvar 29"/>
                <p:cNvSpPr/>
                <p:nvPr/>
              </p:nvSpPr>
              <p:spPr>
                <a:xfrm>
                  <a:off x="1070640" y="5325840"/>
                  <a:ext cx="2244240" cy="1039320"/>
                </a:xfrm>
                <a:custGeom>
                  <a:avLst/>
                  <a:gdLst>
                    <a:gd name="textAreaLeft" fmla="*/ 0 w 2244240"/>
                    <a:gd name="textAreaRight" fmla="*/ 2244600 w 2244240"/>
                    <a:gd name="textAreaTop" fmla="*/ 0 h 1039320"/>
                    <a:gd name="textAreaBottom" fmla="*/ 1039680 h 10393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Přímá spojovací čára 30"/>
                <p:cNvSpPr/>
                <p:nvPr/>
              </p:nvSpPr>
              <p:spPr>
                <a:xfrm>
                  <a:off x="3314880" y="5325840"/>
                  <a:ext cx="313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Skupina 48"/>
              <p:cNvGrpSpPr/>
              <p:nvPr/>
            </p:nvGrpSpPr>
            <p:grpSpPr>
              <a:xfrm>
                <a:off x="1059480" y="6015600"/>
                <a:ext cx="5384160" cy="325080"/>
                <a:chOff x="1059480" y="6015600"/>
                <a:chExt cx="5384160" cy="325080"/>
              </a:xfrm>
            </p:grpSpPr>
            <p:sp>
              <p:nvSpPr>
                <p:cNvPr id="175" name="Volný tvar 27"/>
                <p:cNvSpPr/>
                <p:nvPr/>
              </p:nvSpPr>
              <p:spPr>
                <a:xfrm>
                  <a:off x="1059480" y="6015600"/>
                  <a:ext cx="2244240" cy="325080"/>
                </a:xfrm>
                <a:custGeom>
                  <a:avLst/>
                  <a:gdLst>
                    <a:gd name="textAreaLeft" fmla="*/ 0 w 2244240"/>
                    <a:gd name="textAreaRight" fmla="*/ 2244600 w 2244240"/>
                    <a:gd name="textAreaTop" fmla="*/ 0 h 325080"/>
                    <a:gd name="textAreaBottom" fmla="*/ 325440 h 325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Přímá spojovací čára 28"/>
                <p:cNvSpPr/>
                <p:nvPr/>
              </p:nvSpPr>
              <p:spPr>
                <a:xfrm>
                  <a:off x="3303720" y="6015600"/>
                  <a:ext cx="313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7" name="TextovéPole 42"/>
            <p:cNvSpPr/>
            <p:nvPr/>
          </p:nvSpPr>
          <p:spPr>
            <a:xfrm>
              <a:off x="6782040" y="6396480"/>
              <a:ext cx="108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římá spojovací čára 45"/>
          <p:cNvSpPr/>
          <p:nvPr/>
        </p:nvSpPr>
        <p:spPr>
          <a:xfrm>
            <a:off x="914400" y="3200400"/>
            <a:ext cx="304920" cy="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římá spojovací čára 47"/>
          <p:cNvSpPr/>
          <p:nvPr/>
        </p:nvSpPr>
        <p:spPr>
          <a:xfrm>
            <a:off x="5410080" y="6248520"/>
            <a:ext cx="0" cy="30456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římá spojovací čára 53"/>
          <p:cNvSpPr/>
          <p:nvPr/>
        </p:nvSpPr>
        <p:spPr>
          <a:xfrm>
            <a:off x="1066680" y="3200400"/>
            <a:ext cx="4343400" cy="320040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ovéPole 58"/>
          <p:cNvSpPr/>
          <p:nvPr/>
        </p:nvSpPr>
        <p:spPr>
          <a:xfrm>
            <a:off x="457200" y="3124080"/>
            <a:ext cx="75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2d2d8a"/>
                </a:solidFill>
                <a:latin typeface="Arial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59"/>
          <p:cNvSpPr/>
          <p:nvPr/>
        </p:nvSpPr>
        <p:spPr>
          <a:xfrm>
            <a:off x="4800600" y="6396120"/>
            <a:ext cx="108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2d2d8a"/>
                </a:solidFill>
                <a:latin typeface="Arial"/>
              </a:rPr>
              <a:t>CE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lipsa 50"/>
          <p:cNvSpPr/>
          <p:nvPr/>
        </p:nvSpPr>
        <p:spPr>
          <a:xfrm>
            <a:off x="1739880" y="3676680"/>
            <a:ext cx="152280" cy="15228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lipsa 51"/>
          <p:cNvSpPr/>
          <p:nvPr/>
        </p:nvSpPr>
        <p:spPr>
          <a:xfrm>
            <a:off x="4800600" y="5943600"/>
            <a:ext cx="152280" cy="15228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ovéPole 52"/>
          <p:cNvSpPr/>
          <p:nvPr/>
        </p:nvSpPr>
        <p:spPr>
          <a:xfrm>
            <a:off x="1905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ovéPole 54"/>
          <p:cNvSpPr/>
          <p:nvPr/>
        </p:nvSpPr>
        <p:spPr>
          <a:xfrm>
            <a:off x="4876920" y="5562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římá spojovací čára 60"/>
          <p:cNvSpPr/>
          <p:nvPr/>
        </p:nvSpPr>
        <p:spPr>
          <a:xfrm>
            <a:off x="4930920" y="6073920"/>
            <a:ext cx="473040" cy="3268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římá spojovací čára 64"/>
          <p:cNvSpPr/>
          <p:nvPr/>
        </p:nvSpPr>
        <p:spPr>
          <a:xfrm>
            <a:off x="1066680" y="3200400"/>
            <a:ext cx="681120" cy="5000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ovéPole 65"/>
          <p:cNvSpPr/>
          <p:nvPr/>
        </p:nvSpPr>
        <p:spPr>
          <a:xfrm>
            <a:off x="678168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 – sep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B – rozep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ovéPole 1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PÍNACÍ REŽIM TRANZI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ovéPole 41"/>
          <p:cNvSpPr/>
          <p:nvPr/>
        </p:nvSpPr>
        <p:spPr>
          <a:xfrm>
            <a:off x="152280" y="9907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Pozor i v rozepnutém stavu prochází bipolárním tranzistorem zbytkový proud. Proto není tento tranzistor vhodný k integra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Skupina 43"/>
          <p:cNvGrpSpPr/>
          <p:nvPr/>
        </p:nvGrpSpPr>
        <p:grpSpPr>
          <a:xfrm>
            <a:off x="228600" y="-2215080"/>
            <a:ext cx="9973800" cy="9121680"/>
            <a:chOff x="228600" y="-2215080"/>
            <a:chExt cx="9973800" cy="9121680"/>
          </a:xfrm>
        </p:grpSpPr>
        <p:grpSp>
          <p:nvGrpSpPr>
            <p:cNvPr id="193" name="Skupina 3"/>
            <p:cNvGrpSpPr/>
            <p:nvPr/>
          </p:nvGrpSpPr>
          <p:grpSpPr>
            <a:xfrm>
              <a:off x="228600" y="-2215080"/>
              <a:ext cx="9973800" cy="9121680"/>
              <a:chOff x="228600" y="-2215080"/>
              <a:chExt cx="9973800" cy="9121680"/>
            </a:xfrm>
          </p:grpSpPr>
          <p:sp>
            <p:nvSpPr>
              <p:cNvPr id="194" name="Oblouk 4"/>
              <p:cNvSpPr/>
              <p:nvPr/>
            </p:nvSpPr>
            <p:spPr>
              <a:xfrm rot="10800000">
                <a:off x="2658600" y="-2215080"/>
                <a:ext cx="7543800" cy="7239240"/>
              </a:xfrm>
              <a:custGeom>
                <a:avLst/>
                <a:gdLst>
                  <a:gd name="textAreaLeft" fmla="*/ 3831840 w 7543800"/>
                  <a:gd name="textAreaRight" fmla="*/ 7383600 w 7543800"/>
                  <a:gd name="textAreaTop" fmla="*/ 360 h 7239240"/>
                  <a:gd name="textAreaBottom" fmla="*/ 2575440 h 7239240"/>
                </a:gdLst>
                <a:ahLst/>
                <a:rect l="textAreaLeft" t="textAreaTop" r="textAreaRight" b="textAreaBottom"/>
                <a:pathLst>
                  <a:path stroke="0" w="7543438" h="7238765">
                    <a:moveTo>
                      <a:pt x="3831480" y="454"/>
                    </a:moveTo>
                    <a:lnTo>
                      <a:pt x="3831480" y="454"/>
                    </a:lnTo>
                    <a:arcTo wR="3771719" hR="3619383" stAng="-5343236" swAng="4375900"/>
                    <a:lnTo>
                      <a:pt x="3771719" y="3619383"/>
                    </a:lnTo>
                    <a:close/>
                  </a:path>
                  <a:path fill="none" w="7543438" h="7238765">
                    <a:moveTo>
                      <a:pt x="3831480" y="454"/>
                    </a:moveTo>
                    <a:lnTo>
                      <a:pt x="3831480" y="454"/>
                    </a:lnTo>
                    <a:arcTo wR="3771719" hR="3619383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bdélník 5"/>
              <p:cNvSpPr/>
              <p:nvPr/>
            </p:nvSpPr>
            <p:spPr>
              <a:xfrm>
                <a:off x="6317640" y="5862960"/>
                <a:ext cx="3045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Volný tvar 6"/>
              <p:cNvSpPr/>
              <p:nvPr/>
            </p:nvSpPr>
            <p:spPr>
              <a:xfrm>
                <a:off x="1050120" y="1611720"/>
                <a:ext cx="909720" cy="479484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0 h 4794840"/>
                  <a:gd name="textAreaBottom" fmla="*/ 4795200 h 479484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bdélník 7"/>
              <p:cNvSpPr/>
              <p:nvPr/>
            </p:nvSpPr>
            <p:spPr>
              <a:xfrm>
                <a:off x="754560" y="174780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Přímá spojovací čára 8"/>
              <p:cNvSpPr/>
              <p:nvPr/>
            </p:nvSpPr>
            <p:spPr>
              <a:xfrm>
                <a:off x="1070640" y="6365160"/>
                <a:ext cx="60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Přímá spojovací čára 9"/>
              <p:cNvSpPr/>
              <p:nvPr/>
            </p:nvSpPr>
            <p:spPr>
              <a:xfrm>
                <a:off x="1070640" y="1818000"/>
                <a:ext cx="0" cy="454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ovéPole 10"/>
              <p:cNvSpPr/>
              <p:nvPr/>
            </p:nvSpPr>
            <p:spPr>
              <a:xfrm>
                <a:off x="609480" y="1752480"/>
                <a:ext cx="757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ovéPole 11"/>
              <p:cNvSpPr/>
              <p:nvPr/>
            </p:nvSpPr>
            <p:spPr>
              <a:xfrm>
                <a:off x="6851880" y="4156560"/>
                <a:ext cx="1087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2" name="Přímá spojovací šipka 12"/>
              <p:cNvCxnSpPr/>
              <p:nvPr/>
            </p:nvCxnSpPr>
            <p:spPr>
              <a:xfrm>
                <a:off x="6851520" y="4156560"/>
                <a:ext cx="1080" cy="650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</p:cxnSp>
          <p:grpSp>
            <p:nvGrpSpPr>
              <p:cNvPr id="203" name="Skupina 38"/>
              <p:cNvGrpSpPr/>
              <p:nvPr/>
            </p:nvGrpSpPr>
            <p:grpSpPr>
              <a:xfrm>
                <a:off x="1059480" y="2662200"/>
                <a:ext cx="5384160" cy="3691800"/>
                <a:chOff x="1059480" y="2662200"/>
                <a:chExt cx="5384160" cy="3691800"/>
              </a:xfrm>
            </p:grpSpPr>
            <p:sp>
              <p:nvSpPr>
                <p:cNvPr id="204" name="Volný tvar 39"/>
                <p:cNvSpPr/>
                <p:nvPr/>
              </p:nvSpPr>
              <p:spPr>
                <a:xfrm>
                  <a:off x="1059480" y="2662200"/>
                  <a:ext cx="2244240" cy="3691800"/>
                </a:xfrm>
                <a:custGeom>
                  <a:avLst/>
                  <a:gdLst>
                    <a:gd name="textAreaLeft" fmla="*/ 0 w 2244240"/>
                    <a:gd name="textAreaRight" fmla="*/ 2244600 w 2244240"/>
                    <a:gd name="textAreaTop" fmla="*/ 0 h 3691800"/>
                    <a:gd name="textAreaBottom" fmla="*/ 3692160 h 369180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Přímá spojovací čára 40"/>
                <p:cNvSpPr/>
                <p:nvPr/>
              </p:nvSpPr>
              <p:spPr>
                <a:xfrm>
                  <a:off x="3303720" y="2662200"/>
                  <a:ext cx="313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Skupina 39"/>
              <p:cNvGrpSpPr/>
              <p:nvPr/>
            </p:nvGrpSpPr>
            <p:grpSpPr>
              <a:xfrm>
                <a:off x="1070640" y="4156560"/>
                <a:ext cx="5373000" cy="2192040"/>
                <a:chOff x="1070640" y="4156560"/>
                <a:chExt cx="5373000" cy="2192040"/>
              </a:xfrm>
            </p:grpSpPr>
            <p:sp>
              <p:nvSpPr>
                <p:cNvPr id="207" name="Volný tvar 37"/>
                <p:cNvSpPr/>
                <p:nvPr/>
              </p:nvSpPr>
              <p:spPr>
                <a:xfrm>
                  <a:off x="1070640" y="4156560"/>
                  <a:ext cx="2239560" cy="2192040"/>
                </a:xfrm>
                <a:custGeom>
                  <a:avLst/>
                  <a:gdLst>
                    <a:gd name="textAreaLeft" fmla="*/ 0 w 2239560"/>
                    <a:gd name="textAreaRight" fmla="*/ 2239920 w 2239560"/>
                    <a:gd name="textAreaTop" fmla="*/ 0 h 2192040"/>
                    <a:gd name="textAreaBottom" fmla="*/ 2192400 h 2192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Přímá spojovací čára 38"/>
                <p:cNvSpPr/>
                <p:nvPr/>
              </p:nvSpPr>
              <p:spPr>
                <a:xfrm>
                  <a:off x="3310200" y="4156560"/>
                  <a:ext cx="3133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Skupina 42"/>
              <p:cNvGrpSpPr/>
              <p:nvPr/>
            </p:nvGrpSpPr>
            <p:grpSpPr>
              <a:xfrm>
                <a:off x="1059480" y="3636720"/>
                <a:ext cx="5395320" cy="2728080"/>
                <a:chOff x="1059480" y="3636720"/>
                <a:chExt cx="5395320" cy="2728080"/>
              </a:xfrm>
            </p:grpSpPr>
            <p:sp>
              <p:nvSpPr>
                <p:cNvPr id="210" name="Volný tvar 35"/>
                <p:cNvSpPr/>
                <p:nvPr/>
              </p:nvSpPr>
              <p:spPr>
                <a:xfrm>
                  <a:off x="1059480" y="3636720"/>
                  <a:ext cx="2248920" cy="2728080"/>
                </a:xfrm>
                <a:custGeom>
                  <a:avLst/>
                  <a:gdLst>
                    <a:gd name="textAreaLeft" fmla="*/ 0 w 2248920"/>
                    <a:gd name="textAreaRight" fmla="*/ 2249280 w 2248920"/>
                    <a:gd name="textAreaTop" fmla="*/ 0 h 2728080"/>
                    <a:gd name="textAreaBottom" fmla="*/ 2728440 h 272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Přímá spojovací čára 36"/>
                <p:cNvSpPr/>
                <p:nvPr/>
              </p:nvSpPr>
              <p:spPr>
                <a:xfrm>
                  <a:off x="3308400" y="3636720"/>
                  <a:ext cx="3146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Skupina 45"/>
              <p:cNvGrpSpPr/>
              <p:nvPr/>
            </p:nvGrpSpPr>
            <p:grpSpPr>
              <a:xfrm>
                <a:off x="1070640" y="3117240"/>
                <a:ext cx="5373000" cy="3247920"/>
                <a:chOff x="1070640" y="3117240"/>
                <a:chExt cx="5373000" cy="3247920"/>
              </a:xfrm>
            </p:grpSpPr>
            <p:sp>
              <p:nvSpPr>
                <p:cNvPr id="213" name="Volný tvar 33"/>
                <p:cNvSpPr/>
                <p:nvPr/>
              </p:nvSpPr>
              <p:spPr>
                <a:xfrm>
                  <a:off x="1070640" y="3117240"/>
                  <a:ext cx="2239560" cy="3247920"/>
                </a:xfrm>
                <a:custGeom>
                  <a:avLst/>
                  <a:gdLst>
                    <a:gd name="textAreaLeft" fmla="*/ 0 w 2239560"/>
                    <a:gd name="textAreaRight" fmla="*/ 2239920 w 2239560"/>
                    <a:gd name="textAreaTop" fmla="*/ 0 h 3247920"/>
                    <a:gd name="textAreaBottom" fmla="*/ 3248280 h 32479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Přímá spojovací čára 34"/>
                <p:cNvSpPr/>
                <p:nvPr/>
              </p:nvSpPr>
              <p:spPr>
                <a:xfrm>
                  <a:off x="3310200" y="3117240"/>
                  <a:ext cx="3133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Skupina 54"/>
              <p:cNvGrpSpPr/>
              <p:nvPr/>
            </p:nvGrpSpPr>
            <p:grpSpPr>
              <a:xfrm>
                <a:off x="1070640" y="4687560"/>
                <a:ext cx="5373000" cy="1677240"/>
                <a:chOff x="1070640" y="4687560"/>
                <a:chExt cx="5373000" cy="1677240"/>
              </a:xfrm>
            </p:grpSpPr>
            <p:sp>
              <p:nvSpPr>
                <p:cNvPr id="216" name="Volný tvar 31"/>
                <p:cNvSpPr/>
                <p:nvPr/>
              </p:nvSpPr>
              <p:spPr>
                <a:xfrm>
                  <a:off x="1070640" y="4687560"/>
                  <a:ext cx="2239560" cy="1677240"/>
                </a:xfrm>
                <a:custGeom>
                  <a:avLst/>
                  <a:gdLst>
                    <a:gd name="textAreaLeft" fmla="*/ 0 w 2239560"/>
                    <a:gd name="textAreaRight" fmla="*/ 2239920 w 2239560"/>
                    <a:gd name="textAreaTop" fmla="*/ 0 h 1677240"/>
                    <a:gd name="textAreaBottom" fmla="*/ 1677600 h 16772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Přímá spojovací čára 32"/>
                <p:cNvSpPr/>
                <p:nvPr/>
              </p:nvSpPr>
              <p:spPr>
                <a:xfrm>
                  <a:off x="3310200" y="4687560"/>
                  <a:ext cx="3133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TextovéPole 18"/>
              <p:cNvSpPr/>
              <p:nvPr/>
            </p:nvSpPr>
            <p:spPr>
              <a:xfrm>
                <a:off x="228600" y="2507760"/>
                <a:ext cx="1051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ma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Přímá spojovací čára 19"/>
              <p:cNvSpPr/>
              <p:nvPr/>
            </p:nvSpPr>
            <p:spPr>
              <a:xfrm>
                <a:off x="1058760" y="2814480"/>
                <a:ext cx="571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Přímá spojovací čára 20"/>
              <p:cNvSpPr/>
              <p:nvPr/>
            </p:nvSpPr>
            <p:spPr>
              <a:xfrm flipV="1">
                <a:off x="6165720" y="2281320"/>
                <a:ext cx="0" cy="4114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ovéPole 21"/>
              <p:cNvSpPr/>
              <p:nvPr/>
            </p:nvSpPr>
            <p:spPr>
              <a:xfrm>
                <a:off x="1368360" y="174348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B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= 0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ovéPole 22"/>
              <p:cNvSpPr/>
              <p:nvPr/>
            </p:nvSpPr>
            <p:spPr>
              <a:xfrm>
                <a:off x="5867640" y="639648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ma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ovéPole 23"/>
              <p:cNvSpPr/>
              <p:nvPr/>
            </p:nvSpPr>
            <p:spPr>
              <a:xfrm>
                <a:off x="6393600" y="571068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= 0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ovéPole 24"/>
              <p:cNvSpPr/>
              <p:nvPr/>
            </p:nvSpPr>
            <p:spPr>
              <a:xfrm>
                <a:off x="6317640" y="486396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ma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Skupina 51"/>
              <p:cNvGrpSpPr/>
              <p:nvPr/>
            </p:nvGrpSpPr>
            <p:grpSpPr>
              <a:xfrm>
                <a:off x="1070640" y="5325840"/>
                <a:ext cx="5384160" cy="1039320"/>
                <a:chOff x="1070640" y="5325840"/>
                <a:chExt cx="5384160" cy="1039320"/>
              </a:xfrm>
            </p:grpSpPr>
            <p:sp>
              <p:nvSpPr>
                <p:cNvPr id="226" name="Volný tvar 29"/>
                <p:cNvSpPr/>
                <p:nvPr/>
              </p:nvSpPr>
              <p:spPr>
                <a:xfrm>
                  <a:off x="1070640" y="5325840"/>
                  <a:ext cx="2244240" cy="1039320"/>
                </a:xfrm>
                <a:custGeom>
                  <a:avLst/>
                  <a:gdLst>
                    <a:gd name="textAreaLeft" fmla="*/ 0 w 2244240"/>
                    <a:gd name="textAreaRight" fmla="*/ 2244600 w 2244240"/>
                    <a:gd name="textAreaTop" fmla="*/ 0 h 1039320"/>
                    <a:gd name="textAreaBottom" fmla="*/ 1039680 h 10393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Přímá spojovací čára 30"/>
                <p:cNvSpPr/>
                <p:nvPr/>
              </p:nvSpPr>
              <p:spPr>
                <a:xfrm>
                  <a:off x="3314880" y="5325840"/>
                  <a:ext cx="313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Skupina 48"/>
              <p:cNvGrpSpPr/>
              <p:nvPr/>
            </p:nvGrpSpPr>
            <p:grpSpPr>
              <a:xfrm>
                <a:off x="1059480" y="6015600"/>
                <a:ext cx="5384160" cy="325080"/>
                <a:chOff x="1059480" y="6015600"/>
                <a:chExt cx="5384160" cy="325080"/>
              </a:xfrm>
            </p:grpSpPr>
            <p:sp>
              <p:nvSpPr>
                <p:cNvPr id="229" name="Volný tvar 27"/>
                <p:cNvSpPr/>
                <p:nvPr/>
              </p:nvSpPr>
              <p:spPr>
                <a:xfrm>
                  <a:off x="1059480" y="6015600"/>
                  <a:ext cx="2244240" cy="325080"/>
                </a:xfrm>
                <a:custGeom>
                  <a:avLst/>
                  <a:gdLst>
                    <a:gd name="textAreaLeft" fmla="*/ 0 w 2244240"/>
                    <a:gd name="textAreaRight" fmla="*/ 2244600 w 2244240"/>
                    <a:gd name="textAreaTop" fmla="*/ 0 h 325080"/>
                    <a:gd name="textAreaBottom" fmla="*/ 325440 h 325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Přímá spojovací čára 28"/>
                <p:cNvSpPr/>
                <p:nvPr/>
              </p:nvSpPr>
              <p:spPr>
                <a:xfrm>
                  <a:off x="3303720" y="6015600"/>
                  <a:ext cx="313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TextovéPole 42"/>
            <p:cNvSpPr/>
            <p:nvPr/>
          </p:nvSpPr>
          <p:spPr>
            <a:xfrm>
              <a:off x="6782040" y="6396480"/>
              <a:ext cx="108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římá spojovací čára 45"/>
          <p:cNvSpPr/>
          <p:nvPr/>
        </p:nvSpPr>
        <p:spPr>
          <a:xfrm>
            <a:off x="914400" y="3200400"/>
            <a:ext cx="304920" cy="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římá spojovací čára 47"/>
          <p:cNvSpPr/>
          <p:nvPr/>
        </p:nvSpPr>
        <p:spPr>
          <a:xfrm>
            <a:off x="5410080" y="6248520"/>
            <a:ext cx="0" cy="30456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římá spojovací čára 53"/>
          <p:cNvSpPr/>
          <p:nvPr/>
        </p:nvSpPr>
        <p:spPr>
          <a:xfrm>
            <a:off x="1066680" y="3200400"/>
            <a:ext cx="4343400" cy="320040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ovéPole 58"/>
          <p:cNvSpPr/>
          <p:nvPr/>
        </p:nvSpPr>
        <p:spPr>
          <a:xfrm>
            <a:off x="457200" y="3124080"/>
            <a:ext cx="75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2d2d8a"/>
                </a:solidFill>
                <a:latin typeface="Arial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ovéPole 59"/>
          <p:cNvSpPr/>
          <p:nvPr/>
        </p:nvSpPr>
        <p:spPr>
          <a:xfrm>
            <a:off x="4800600" y="6396120"/>
            <a:ext cx="108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2d2d8a"/>
                </a:solidFill>
                <a:latin typeface="Arial"/>
              </a:rPr>
              <a:t>CE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lipsa 50"/>
          <p:cNvSpPr/>
          <p:nvPr/>
        </p:nvSpPr>
        <p:spPr>
          <a:xfrm>
            <a:off x="1739880" y="3676680"/>
            <a:ext cx="152280" cy="15228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lipsa 51"/>
          <p:cNvSpPr/>
          <p:nvPr/>
        </p:nvSpPr>
        <p:spPr>
          <a:xfrm>
            <a:off x="4800600" y="5943600"/>
            <a:ext cx="152280" cy="15228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ovéPole 52"/>
          <p:cNvSpPr/>
          <p:nvPr/>
        </p:nvSpPr>
        <p:spPr>
          <a:xfrm>
            <a:off x="1905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ovéPole 54"/>
          <p:cNvSpPr/>
          <p:nvPr/>
        </p:nvSpPr>
        <p:spPr>
          <a:xfrm>
            <a:off x="4876920" y="5562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římá spojovací čára 60"/>
          <p:cNvSpPr/>
          <p:nvPr/>
        </p:nvSpPr>
        <p:spPr>
          <a:xfrm>
            <a:off x="4930920" y="6073920"/>
            <a:ext cx="473040" cy="3268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římá spojovací čára 64"/>
          <p:cNvSpPr/>
          <p:nvPr/>
        </p:nvSpPr>
        <p:spPr>
          <a:xfrm>
            <a:off x="1066680" y="3200400"/>
            <a:ext cx="681120" cy="5000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ovéPole 65"/>
          <p:cNvSpPr/>
          <p:nvPr/>
        </p:nvSpPr>
        <p:spPr>
          <a:xfrm>
            <a:off x="678168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 – sep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B – rozep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ovéPole 1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CÍ REŽIM TRANZI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ovéPole 41"/>
          <p:cNvSpPr/>
          <p:nvPr/>
        </p:nvSpPr>
        <p:spPr>
          <a:xfrm>
            <a:off x="152280" y="9907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V zesilovacím režimu pracuje tranzistor, když je klidový pracovní bod nastaven mezi body A a B nebo v těchto bodech 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a může se pohybovat libovolně mezi těmito 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Skupina 43"/>
          <p:cNvGrpSpPr/>
          <p:nvPr/>
        </p:nvGrpSpPr>
        <p:grpSpPr>
          <a:xfrm>
            <a:off x="228600" y="-2215080"/>
            <a:ext cx="9973800" cy="9121680"/>
            <a:chOff x="228600" y="-2215080"/>
            <a:chExt cx="9973800" cy="9121680"/>
          </a:xfrm>
        </p:grpSpPr>
        <p:grpSp>
          <p:nvGrpSpPr>
            <p:cNvPr id="247" name="Skupina 3"/>
            <p:cNvGrpSpPr/>
            <p:nvPr/>
          </p:nvGrpSpPr>
          <p:grpSpPr>
            <a:xfrm>
              <a:off x="228600" y="-2215080"/>
              <a:ext cx="9973800" cy="9121680"/>
              <a:chOff x="228600" y="-2215080"/>
              <a:chExt cx="9973800" cy="9121680"/>
            </a:xfrm>
          </p:grpSpPr>
          <p:sp>
            <p:nvSpPr>
              <p:cNvPr id="248" name="Oblouk 4"/>
              <p:cNvSpPr/>
              <p:nvPr/>
            </p:nvSpPr>
            <p:spPr>
              <a:xfrm rot="10800000">
                <a:off x="2658600" y="-2215080"/>
                <a:ext cx="7543800" cy="7239240"/>
              </a:xfrm>
              <a:custGeom>
                <a:avLst/>
                <a:gdLst>
                  <a:gd name="textAreaLeft" fmla="*/ 3831840 w 7543800"/>
                  <a:gd name="textAreaRight" fmla="*/ 7383600 w 7543800"/>
                  <a:gd name="textAreaTop" fmla="*/ 360 h 7239240"/>
                  <a:gd name="textAreaBottom" fmla="*/ 2575440 h 7239240"/>
                </a:gdLst>
                <a:ahLst/>
                <a:rect l="textAreaLeft" t="textAreaTop" r="textAreaRight" b="textAreaBottom"/>
                <a:pathLst>
                  <a:path stroke="0" w="7543438" h="7238765">
                    <a:moveTo>
                      <a:pt x="3831480" y="454"/>
                    </a:moveTo>
                    <a:lnTo>
                      <a:pt x="3831480" y="454"/>
                    </a:lnTo>
                    <a:arcTo wR="3771719" hR="3619383" stAng="-5343236" swAng="4375900"/>
                    <a:lnTo>
                      <a:pt x="3771719" y="3619383"/>
                    </a:lnTo>
                    <a:close/>
                  </a:path>
                  <a:path fill="none" w="7543438" h="7238765">
                    <a:moveTo>
                      <a:pt x="3831480" y="454"/>
                    </a:moveTo>
                    <a:lnTo>
                      <a:pt x="3831480" y="454"/>
                    </a:lnTo>
                    <a:arcTo wR="3771719" hR="3619383" stAng="-5343236" swAng="43759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bdélník 5"/>
              <p:cNvSpPr/>
              <p:nvPr/>
            </p:nvSpPr>
            <p:spPr>
              <a:xfrm>
                <a:off x="6317640" y="5862960"/>
                <a:ext cx="3045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Volný tvar 6"/>
              <p:cNvSpPr/>
              <p:nvPr/>
            </p:nvSpPr>
            <p:spPr>
              <a:xfrm>
                <a:off x="1050120" y="1611720"/>
                <a:ext cx="909720" cy="479484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0 h 4794840"/>
                  <a:gd name="textAreaBottom" fmla="*/ 4795200 h 4794840"/>
                </a:gdLst>
                <a:ahLst/>
                <a:rect l="textAreaLeft" t="textAreaTop" r="textAreaRight" b="textAreaBottom"/>
                <a:pathLst>
                  <a:path w="909710" h="4794738">
                    <a:moveTo>
                      <a:pt x="0" y="4761914"/>
                    </a:moveTo>
                    <a:cubicBezTo>
                      <a:pt x="158261" y="4778326"/>
                      <a:pt x="316522" y="4794738"/>
                      <a:pt x="464233" y="4072597"/>
                    </a:cubicBezTo>
                    <a:cubicBezTo>
                      <a:pt x="611944" y="3350456"/>
                      <a:pt x="909710" y="1038665"/>
                      <a:pt x="886264" y="429065"/>
                    </a:cubicBezTo>
                    <a:cubicBezTo>
                      <a:pt x="595532" y="438443"/>
                      <a:pt x="154744" y="0"/>
                      <a:pt x="14067" y="4572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bdélník 7"/>
              <p:cNvSpPr/>
              <p:nvPr/>
            </p:nvSpPr>
            <p:spPr>
              <a:xfrm>
                <a:off x="754560" y="174780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Přímá spojovací čára 8"/>
              <p:cNvSpPr/>
              <p:nvPr/>
            </p:nvSpPr>
            <p:spPr>
              <a:xfrm>
                <a:off x="1070640" y="6365160"/>
                <a:ext cx="60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Přímá spojovací čára 9"/>
              <p:cNvSpPr/>
              <p:nvPr/>
            </p:nvSpPr>
            <p:spPr>
              <a:xfrm>
                <a:off x="1070640" y="1818000"/>
                <a:ext cx="0" cy="454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ovéPole 10"/>
              <p:cNvSpPr/>
              <p:nvPr/>
            </p:nvSpPr>
            <p:spPr>
              <a:xfrm>
                <a:off x="609480" y="1752480"/>
                <a:ext cx="757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ovéPole 11"/>
              <p:cNvSpPr/>
              <p:nvPr/>
            </p:nvSpPr>
            <p:spPr>
              <a:xfrm>
                <a:off x="6851880" y="4156560"/>
                <a:ext cx="1087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6" name="Přímá spojovací šipka 12"/>
              <p:cNvCxnSpPr/>
              <p:nvPr/>
            </p:nvCxnSpPr>
            <p:spPr>
              <a:xfrm>
                <a:off x="6851520" y="4156560"/>
                <a:ext cx="1080" cy="650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</p:cxnSp>
          <p:grpSp>
            <p:nvGrpSpPr>
              <p:cNvPr id="257" name="Skupina 38"/>
              <p:cNvGrpSpPr/>
              <p:nvPr/>
            </p:nvGrpSpPr>
            <p:grpSpPr>
              <a:xfrm>
                <a:off x="1059480" y="2662200"/>
                <a:ext cx="5384160" cy="3691800"/>
                <a:chOff x="1059480" y="2662200"/>
                <a:chExt cx="5384160" cy="3691800"/>
              </a:xfrm>
            </p:grpSpPr>
            <p:sp>
              <p:nvSpPr>
                <p:cNvPr id="258" name="Volný tvar 39"/>
                <p:cNvSpPr/>
                <p:nvPr/>
              </p:nvSpPr>
              <p:spPr>
                <a:xfrm>
                  <a:off x="1059480" y="2662200"/>
                  <a:ext cx="2244240" cy="3691800"/>
                </a:xfrm>
                <a:custGeom>
                  <a:avLst/>
                  <a:gdLst>
                    <a:gd name="textAreaLeft" fmla="*/ 0 w 2244240"/>
                    <a:gd name="textAreaRight" fmla="*/ 2244600 w 2244240"/>
                    <a:gd name="textAreaTop" fmla="*/ 0 h 3691800"/>
                    <a:gd name="textAreaBottom" fmla="*/ 3692160 h 369180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Přímá spojovací čára 40"/>
                <p:cNvSpPr/>
                <p:nvPr/>
              </p:nvSpPr>
              <p:spPr>
                <a:xfrm>
                  <a:off x="3303720" y="2662200"/>
                  <a:ext cx="313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Skupina 39"/>
              <p:cNvGrpSpPr/>
              <p:nvPr/>
            </p:nvGrpSpPr>
            <p:grpSpPr>
              <a:xfrm>
                <a:off x="1070640" y="4156560"/>
                <a:ext cx="5373000" cy="2192040"/>
                <a:chOff x="1070640" y="4156560"/>
                <a:chExt cx="5373000" cy="2192040"/>
              </a:xfrm>
            </p:grpSpPr>
            <p:sp>
              <p:nvSpPr>
                <p:cNvPr id="261" name="Volný tvar 37"/>
                <p:cNvSpPr/>
                <p:nvPr/>
              </p:nvSpPr>
              <p:spPr>
                <a:xfrm>
                  <a:off x="1070640" y="4156560"/>
                  <a:ext cx="2239560" cy="2192040"/>
                </a:xfrm>
                <a:custGeom>
                  <a:avLst/>
                  <a:gdLst>
                    <a:gd name="textAreaLeft" fmla="*/ 0 w 2239560"/>
                    <a:gd name="textAreaRight" fmla="*/ 2239920 w 2239560"/>
                    <a:gd name="textAreaTop" fmla="*/ 0 h 2192040"/>
                    <a:gd name="textAreaBottom" fmla="*/ 2192400 h 21920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Přímá spojovací čára 38"/>
                <p:cNvSpPr/>
                <p:nvPr/>
              </p:nvSpPr>
              <p:spPr>
                <a:xfrm>
                  <a:off x="3310200" y="4156560"/>
                  <a:ext cx="3133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Skupina 42"/>
              <p:cNvGrpSpPr/>
              <p:nvPr/>
            </p:nvGrpSpPr>
            <p:grpSpPr>
              <a:xfrm>
                <a:off x="1059480" y="3636720"/>
                <a:ext cx="5395320" cy="2728080"/>
                <a:chOff x="1059480" y="3636720"/>
                <a:chExt cx="5395320" cy="2728080"/>
              </a:xfrm>
            </p:grpSpPr>
            <p:sp>
              <p:nvSpPr>
                <p:cNvPr id="264" name="Volný tvar 35"/>
                <p:cNvSpPr/>
                <p:nvPr/>
              </p:nvSpPr>
              <p:spPr>
                <a:xfrm>
                  <a:off x="1059480" y="3636720"/>
                  <a:ext cx="2248920" cy="2728080"/>
                </a:xfrm>
                <a:custGeom>
                  <a:avLst/>
                  <a:gdLst>
                    <a:gd name="textAreaLeft" fmla="*/ 0 w 2248920"/>
                    <a:gd name="textAreaRight" fmla="*/ 2249280 w 2248920"/>
                    <a:gd name="textAreaTop" fmla="*/ 0 h 2728080"/>
                    <a:gd name="textAreaBottom" fmla="*/ 2728440 h 2728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Přímá spojovací čára 36"/>
                <p:cNvSpPr/>
                <p:nvPr/>
              </p:nvSpPr>
              <p:spPr>
                <a:xfrm>
                  <a:off x="3308400" y="3636720"/>
                  <a:ext cx="3146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Skupina 45"/>
              <p:cNvGrpSpPr/>
              <p:nvPr/>
            </p:nvGrpSpPr>
            <p:grpSpPr>
              <a:xfrm>
                <a:off x="1070640" y="3117240"/>
                <a:ext cx="5373000" cy="3247920"/>
                <a:chOff x="1070640" y="3117240"/>
                <a:chExt cx="5373000" cy="3247920"/>
              </a:xfrm>
            </p:grpSpPr>
            <p:sp>
              <p:nvSpPr>
                <p:cNvPr id="267" name="Volný tvar 33"/>
                <p:cNvSpPr/>
                <p:nvPr/>
              </p:nvSpPr>
              <p:spPr>
                <a:xfrm>
                  <a:off x="1070640" y="3117240"/>
                  <a:ext cx="2239560" cy="3247920"/>
                </a:xfrm>
                <a:custGeom>
                  <a:avLst/>
                  <a:gdLst>
                    <a:gd name="textAreaLeft" fmla="*/ 0 w 2239560"/>
                    <a:gd name="textAreaRight" fmla="*/ 2239920 w 2239560"/>
                    <a:gd name="textAreaTop" fmla="*/ 0 h 3247920"/>
                    <a:gd name="textAreaBottom" fmla="*/ 3248280 h 32479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Přímá spojovací čára 34"/>
                <p:cNvSpPr/>
                <p:nvPr/>
              </p:nvSpPr>
              <p:spPr>
                <a:xfrm>
                  <a:off x="3310200" y="3117240"/>
                  <a:ext cx="3133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Skupina 54"/>
              <p:cNvGrpSpPr/>
              <p:nvPr/>
            </p:nvGrpSpPr>
            <p:grpSpPr>
              <a:xfrm>
                <a:off x="1070640" y="4687560"/>
                <a:ext cx="5373000" cy="1677240"/>
                <a:chOff x="1070640" y="4687560"/>
                <a:chExt cx="5373000" cy="1677240"/>
              </a:xfrm>
            </p:grpSpPr>
            <p:sp>
              <p:nvSpPr>
                <p:cNvPr id="270" name="Volný tvar 31"/>
                <p:cNvSpPr/>
                <p:nvPr/>
              </p:nvSpPr>
              <p:spPr>
                <a:xfrm>
                  <a:off x="1070640" y="4687560"/>
                  <a:ext cx="2239560" cy="1677240"/>
                </a:xfrm>
                <a:custGeom>
                  <a:avLst/>
                  <a:gdLst>
                    <a:gd name="textAreaLeft" fmla="*/ 0 w 2239560"/>
                    <a:gd name="textAreaRight" fmla="*/ 2239920 w 2239560"/>
                    <a:gd name="textAreaTop" fmla="*/ 0 h 1677240"/>
                    <a:gd name="textAreaBottom" fmla="*/ 1677600 h 167724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Přímá spojovací čára 32"/>
                <p:cNvSpPr/>
                <p:nvPr/>
              </p:nvSpPr>
              <p:spPr>
                <a:xfrm>
                  <a:off x="3310200" y="4687560"/>
                  <a:ext cx="3133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TextovéPole 18"/>
              <p:cNvSpPr/>
              <p:nvPr/>
            </p:nvSpPr>
            <p:spPr>
              <a:xfrm>
                <a:off x="228600" y="2507760"/>
                <a:ext cx="1051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ma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Přímá spojovací čára 19"/>
              <p:cNvSpPr/>
              <p:nvPr/>
            </p:nvSpPr>
            <p:spPr>
              <a:xfrm>
                <a:off x="1058760" y="2814480"/>
                <a:ext cx="571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Přímá spojovací čára 20"/>
              <p:cNvSpPr/>
              <p:nvPr/>
            </p:nvSpPr>
            <p:spPr>
              <a:xfrm flipV="1">
                <a:off x="6165720" y="2281320"/>
                <a:ext cx="0" cy="4114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ovéPole 21"/>
              <p:cNvSpPr/>
              <p:nvPr/>
            </p:nvSpPr>
            <p:spPr>
              <a:xfrm>
                <a:off x="1368360" y="174348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B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= 0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ovéPole 22"/>
              <p:cNvSpPr/>
              <p:nvPr/>
            </p:nvSpPr>
            <p:spPr>
              <a:xfrm>
                <a:off x="5867640" y="639648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ma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ovéPole 23"/>
              <p:cNvSpPr/>
              <p:nvPr/>
            </p:nvSpPr>
            <p:spPr>
              <a:xfrm>
                <a:off x="6393600" y="571068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= 0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ovéPole 24"/>
              <p:cNvSpPr/>
              <p:nvPr/>
            </p:nvSpPr>
            <p:spPr>
              <a:xfrm>
                <a:off x="6317640" y="4863960"/>
                <a:ext cx="15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ma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Skupina 51"/>
              <p:cNvGrpSpPr/>
              <p:nvPr/>
            </p:nvGrpSpPr>
            <p:grpSpPr>
              <a:xfrm>
                <a:off x="1070640" y="5325840"/>
                <a:ext cx="5384160" cy="1039320"/>
                <a:chOff x="1070640" y="5325840"/>
                <a:chExt cx="5384160" cy="1039320"/>
              </a:xfrm>
            </p:grpSpPr>
            <p:sp>
              <p:nvSpPr>
                <p:cNvPr id="280" name="Volný tvar 29"/>
                <p:cNvSpPr/>
                <p:nvPr/>
              </p:nvSpPr>
              <p:spPr>
                <a:xfrm>
                  <a:off x="1070640" y="5325840"/>
                  <a:ext cx="2244240" cy="1039320"/>
                </a:xfrm>
                <a:custGeom>
                  <a:avLst/>
                  <a:gdLst>
                    <a:gd name="textAreaLeft" fmla="*/ 0 w 2244240"/>
                    <a:gd name="textAreaRight" fmla="*/ 2244600 w 2244240"/>
                    <a:gd name="textAreaTop" fmla="*/ 0 h 1039320"/>
                    <a:gd name="textAreaBottom" fmla="*/ 1039680 h 103932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Přímá spojovací čára 30"/>
                <p:cNvSpPr/>
                <p:nvPr/>
              </p:nvSpPr>
              <p:spPr>
                <a:xfrm>
                  <a:off x="3314880" y="5325840"/>
                  <a:ext cx="313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Skupina 48"/>
              <p:cNvGrpSpPr/>
              <p:nvPr/>
            </p:nvGrpSpPr>
            <p:grpSpPr>
              <a:xfrm>
                <a:off x="1059480" y="6015600"/>
                <a:ext cx="5384160" cy="325080"/>
                <a:chOff x="1059480" y="6015600"/>
                <a:chExt cx="5384160" cy="325080"/>
              </a:xfrm>
            </p:grpSpPr>
            <p:sp>
              <p:nvSpPr>
                <p:cNvPr id="283" name="Volný tvar 27"/>
                <p:cNvSpPr/>
                <p:nvPr/>
              </p:nvSpPr>
              <p:spPr>
                <a:xfrm>
                  <a:off x="1059480" y="6015600"/>
                  <a:ext cx="2244240" cy="325080"/>
                </a:xfrm>
                <a:custGeom>
                  <a:avLst/>
                  <a:gdLst>
                    <a:gd name="textAreaLeft" fmla="*/ 0 w 2244240"/>
                    <a:gd name="textAreaRight" fmla="*/ 2244600 w 2244240"/>
                    <a:gd name="textAreaTop" fmla="*/ 0 h 325080"/>
                    <a:gd name="textAreaBottom" fmla="*/ 325440 h 325080"/>
                  </a:gdLst>
                  <a:ahLst/>
                  <a:rect l="textAreaLeft" t="textAreaTop" r="textAreaRight" b="textAreaBottom"/>
                  <a:pathLst>
                    <a:path w="1257300" h="2165350">
                      <a:moveTo>
                        <a:pt x="0" y="2165350"/>
                      </a:moveTo>
                      <a:cubicBezTo>
                        <a:pt x="57150" y="1453621"/>
                        <a:pt x="114300" y="741892"/>
                        <a:pt x="323850" y="381000"/>
                      </a:cubicBezTo>
                      <a:cubicBezTo>
                        <a:pt x="533400" y="20108"/>
                        <a:pt x="1257300" y="0"/>
                        <a:pt x="1257300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Přímá spojovací čára 28"/>
                <p:cNvSpPr/>
                <p:nvPr/>
              </p:nvSpPr>
              <p:spPr>
                <a:xfrm>
                  <a:off x="3303720" y="6015600"/>
                  <a:ext cx="3139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5" name="TextovéPole 42"/>
            <p:cNvSpPr/>
            <p:nvPr/>
          </p:nvSpPr>
          <p:spPr>
            <a:xfrm>
              <a:off x="6782040" y="6396480"/>
              <a:ext cx="108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římá spojovací čára 45"/>
          <p:cNvSpPr/>
          <p:nvPr/>
        </p:nvSpPr>
        <p:spPr>
          <a:xfrm>
            <a:off x="914400" y="3200400"/>
            <a:ext cx="304920" cy="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římá spojovací čára 47"/>
          <p:cNvSpPr/>
          <p:nvPr/>
        </p:nvSpPr>
        <p:spPr>
          <a:xfrm>
            <a:off x="5410080" y="6248520"/>
            <a:ext cx="0" cy="30456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římá spojovací čára 53"/>
          <p:cNvSpPr/>
          <p:nvPr/>
        </p:nvSpPr>
        <p:spPr>
          <a:xfrm>
            <a:off x="1066680" y="3200400"/>
            <a:ext cx="4343400" cy="320040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ovéPole 58"/>
          <p:cNvSpPr/>
          <p:nvPr/>
        </p:nvSpPr>
        <p:spPr>
          <a:xfrm>
            <a:off x="457200" y="3124080"/>
            <a:ext cx="75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2d2d8a"/>
                </a:solidFill>
                <a:latin typeface="Arial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ovéPole 59"/>
          <p:cNvSpPr/>
          <p:nvPr/>
        </p:nvSpPr>
        <p:spPr>
          <a:xfrm>
            <a:off x="4800600" y="6396120"/>
            <a:ext cx="108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2d2d8a"/>
                </a:solidFill>
                <a:latin typeface="Arial"/>
              </a:rPr>
              <a:t>CE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lipsa 50"/>
          <p:cNvSpPr/>
          <p:nvPr/>
        </p:nvSpPr>
        <p:spPr>
          <a:xfrm>
            <a:off x="1739880" y="3676680"/>
            <a:ext cx="152280" cy="152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lipsa 51"/>
          <p:cNvSpPr/>
          <p:nvPr/>
        </p:nvSpPr>
        <p:spPr>
          <a:xfrm>
            <a:off x="4800600" y="5943600"/>
            <a:ext cx="152280" cy="152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ovéPole 52"/>
          <p:cNvSpPr/>
          <p:nvPr/>
        </p:nvSpPr>
        <p:spPr>
          <a:xfrm>
            <a:off x="1905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ovéPole 54"/>
          <p:cNvSpPr/>
          <p:nvPr/>
        </p:nvSpPr>
        <p:spPr>
          <a:xfrm>
            <a:off x="4876920" y="5562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římá spojovací čára 60"/>
          <p:cNvSpPr/>
          <p:nvPr/>
        </p:nvSpPr>
        <p:spPr>
          <a:xfrm>
            <a:off x="1905120" y="3809880"/>
            <a:ext cx="2917800" cy="21560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ovéPole 1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ESILOVACÍ REŽIM TRANZI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ovéPole 41"/>
          <p:cNvSpPr/>
          <p:nvPr/>
        </p:nvSpPr>
        <p:spPr>
          <a:xfrm>
            <a:off x="380880" y="1066680"/>
            <a:ext cx="8763120" cy="21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Princip zesílení spočívá v zesílení vstupního proudu I</a:t>
            </a:r>
            <a:r>
              <a:rPr b="0" lang="cs-CZ" sz="2400" spc="-1" strike="noStrike" baseline="-25000">
                <a:solidFill>
                  <a:srgbClr val="c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 podle velikosti proudového zesilovacího činitele tranzisto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udový zesilovací činitel: </a:t>
            </a:r>
            <a:r>
              <a:rPr b="1" lang="el-GR" sz="2400" spc="-1" strike="noStrike">
                <a:solidFill>
                  <a:srgbClr val="c00000"/>
                </a:solidFill>
                <a:latin typeface="Arial"/>
              </a:rPr>
              <a:t>β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(h</a:t>
            </a:r>
            <a:r>
              <a:rPr b="1" lang="cs-CZ" sz="2400" spc="-1" strike="noStrike" baseline="-25000">
                <a:solidFill>
                  <a:srgbClr val="c00000"/>
                </a:solidFill>
                <a:latin typeface="Arial"/>
              </a:rPr>
              <a:t>21e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říká kolikrát je zesílen vstupní proud IB v zapojení se společným emitor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Skupina 55"/>
          <p:cNvGrpSpPr/>
          <p:nvPr/>
        </p:nvGrpSpPr>
        <p:grpSpPr>
          <a:xfrm>
            <a:off x="0" y="2971800"/>
            <a:ext cx="5867640" cy="2863800"/>
            <a:chOff x="0" y="2971800"/>
            <a:chExt cx="5867640" cy="2863800"/>
          </a:xfrm>
        </p:grpSpPr>
        <p:grpSp>
          <p:nvGrpSpPr>
            <p:cNvPr id="299" name="Skupina 75"/>
            <p:cNvGrpSpPr/>
            <p:nvPr/>
          </p:nvGrpSpPr>
          <p:grpSpPr>
            <a:xfrm>
              <a:off x="609480" y="3432960"/>
              <a:ext cx="5257800" cy="2402640"/>
              <a:chOff x="609480" y="3432960"/>
              <a:chExt cx="5257800" cy="2402640"/>
            </a:xfrm>
          </p:grpSpPr>
          <p:grpSp>
            <p:nvGrpSpPr>
              <p:cNvPr id="300" name="Skupina 1"/>
              <p:cNvGrpSpPr/>
              <p:nvPr/>
            </p:nvGrpSpPr>
            <p:grpSpPr>
              <a:xfrm>
                <a:off x="2361960" y="3509280"/>
                <a:ext cx="1676160" cy="2250000"/>
                <a:chOff x="2361960" y="3509280"/>
                <a:chExt cx="1676160" cy="2250000"/>
              </a:xfrm>
            </p:grpSpPr>
            <p:grpSp>
              <p:nvGrpSpPr>
                <p:cNvPr id="301" name="Skupina 3"/>
                <p:cNvGrpSpPr/>
                <p:nvPr/>
              </p:nvGrpSpPr>
              <p:grpSpPr>
                <a:xfrm>
                  <a:off x="2361960" y="3509280"/>
                  <a:ext cx="1676160" cy="2250000"/>
                  <a:chOff x="2361960" y="3509280"/>
                  <a:chExt cx="1676160" cy="2250000"/>
                </a:xfrm>
              </p:grpSpPr>
              <p:sp>
                <p:nvSpPr>
                  <p:cNvPr id="302" name="Elipsa 6"/>
                  <p:cNvSpPr/>
                  <p:nvPr/>
                </p:nvSpPr>
                <p:spPr>
                  <a:xfrm>
                    <a:off x="2819160" y="3979080"/>
                    <a:ext cx="1218960" cy="127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Přímá spojovací čára 7"/>
                  <p:cNvSpPr/>
                  <p:nvPr/>
                </p:nvSpPr>
                <p:spPr>
                  <a:xfrm>
                    <a:off x="3123720" y="4296600"/>
                    <a:ext cx="0" cy="635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Přímá spojovací čára 8"/>
                  <p:cNvSpPr/>
                  <p:nvPr/>
                </p:nvSpPr>
                <p:spPr>
                  <a:xfrm flipV="1">
                    <a:off x="3123720" y="4164840"/>
                    <a:ext cx="735840" cy="44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Přímá spojovací čára 9"/>
                  <p:cNvSpPr/>
                  <p:nvPr/>
                </p:nvSpPr>
                <p:spPr>
                  <a:xfrm>
                    <a:off x="3123720" y="4614120"/>
                    <a:ext cx="735840" cy="44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Přímá spojovací čára 10"/>
                  <p:cNvSpPr/>
                  <p:nvPr/>
                </p:nvSpPr>
                <p:spPr>
                  <a:xfrm flipH="1">
                    <a:off x="2819160" y="461412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Přímá spojovací čára 11"/>
                  <p:cNvSpPr/>
                  <p:nvPr/>
                </p:nvSpPr>
                <p:spPr>
                  <a:xfrm>
                    <a:off x="3859560" y="3509280"/>
                    <a:ext cx="0" cy="65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Přímá spojovací čára 12"/>
                  <p:cNvSpPr/>
                  <p:nvPr/>
                </p:nvSpPr>
                <p:spPr>
                  <a:xfrm>
                    <a:off x="3859560" y="5063040"/>
                    <a:ext cx="0" cy="696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Přímá spojovací čára 13"/>
                  <p:cNvSpPr/>
                  <p:nvPr/>
                </p:nvSpPr>
                <p:spPr>
                  <a:xfrm flipH="1">
                    <a:off x="2361960" y="461412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TextovéPole 3"/>
                <p:cNvSpPr/>
                <p:nvPr/>
              </p:nvSpPr>
              <p:spPr>
                <a:xfrm>
                  <a:off x="2514240" y="41187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TextovéPole 4"/>
                <p:cNvSpPr/>
                <p:nvPr/>
              </p:nvSpPr>
              <p:spPr>
                <a:xfrm>
                  <a:off x="3428640" y="35092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TextovéPole 5"/>
                <p:cNvSpPr/>
                <p:nvPr/>
              </p:nvSpPr>
              <p:spPr>
                <a:xfrm>
                  <a:off x="3428640" y="51858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Skupina 28"/>
              <p:cNvGrpSpPr/>
              <p:nvPr/>
            </p:nvGrpSpPr>
            <p:grpSpPr>
              <a:xfrm>
                <a:off x="609480" y="3432960"/>
                <a:ext cx="5257800" cy="2402640"/>
                <a:chOff x="609480" y="3432960"/>
                <a:chExt cx="5257800" cy="2402640"/>
              </a:xfrm>
            </p:grpSpPr>
            <p:grpSp>
              <p:nvGrpSpPr>
                <p:cNvPr id="314" name="Skupina 18"/>
                <p:cNvGrpSpPr/>
                <p:nvPr/>
              </p:nvGrpSpPr>
              <p:grpSpPr>
                <a:xfrm>
                  <a:off x="609480" y="3433320"/>
                  <a:ext cx="1218600" cy="152280"/>
                  <a:chOff x="609480" y="3433320"/>
                  <a:chExt cx="1218600" cy="152280"/>
                </a:xfrm>
              </p:grpSpPr>
              <p:sp>
                <p:nvSpPr>
                  <p:cNvPr id="315" name="Přímá spojovací čára 88"/>
                  <p:cNvSpPr/>
                  <p:nvPr/>
                </p:nvSpPr>
                <p:spPr>
                  <a:xfrm flipH="1">
                    <a:off x="761400" y="350928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Elipsa 89"/>
                  <p:cNvSpPr/>
                  <p:nvPr/>
                </p:nvSpPr>
                <p:spPr>
                  <a:xfrm>
                    <a:off x="609480" y="34333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Skupina 19"/>
                <p:cNvGrpSpPr/>
                <p:nvPr/>
              </p:nvGrpSpPr>
              <p:grpSpPr>
                <a:xfrm>
                  <a:off x="609480" y="5683320"/>
                  <a:ext cx="1218600" cy="152280"/>
                  <a:chOff x="609480" y="5683320"/>
                  <a:chExt cx="1218600" cy="152280"/>
                </a:xfrm>
              </p:grpSpPr>
              <p:sp>
                <p:nvSpPr>
                  <p:cNvPr id="318" name="Přímá spojovací čára 86"/>
                  <p:cNvSpPr/>
                  <p:nvPr/>
                </p:nvSpPr>
                <p:spPr>
                  <a:xfrm flipH="1">
                    <a:off x="761400" y="575928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Elipsa 21"/>
                  <p:cNvSpPr/>
                  <p:nvPr/>
                </p:nvSpPr>
                <p:spPr>
                  <a:xfrm>
                    <a:off x="609480" y="56833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Skupina 22"/>
                <p:cNvGrpSpPr/>
                <p:nvPr/>
              </p:nvGrpSpPr>
              <p:grpSpPr>
                <a:xfrm>
                  <a:off x="4648680" y="3432960"/>
                  <a:ext cx="1218600" cy="152280"/>
                  <a:chOff x="4648680" y="3432960"/>
                  <a:chExt cx="1218600" cy="152280"/>
                </a:xfrm>
              </p:grpSpPr>
              <p:sp>
                <p:nvSpPr>
                  <p:cNvPr id="321" name="Přímá spojovací čára 23"/>
                  <p:cNvSpPr/>
                  <p:nvPr/>
                </p:nvSpPr>
                <p:spPr>
                  <a:xfrm>
                    <a:off x="4648680" y="350928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Elipsa 24"/>
                  <p:cNvSpPr/>
                  <p:nvPr/>
                </p:nvSpPr>
                <p:spPr>
                  <a:xfrm rot="10800000">
                    <a:off x="5715000" y="343296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Skupina 25"/>
                <p:cNvGrpSpPr/>
                <p:nvPr/>
              </p:nvGrpSpPr>
              <p:grpSpPr>
                <a:xfrm>
                  <a:off x="4648680" y="5682960"/>
                  <a:ext cx="1218600" cy="152280"/>
                  <a:chOff x="4648680" y="5682960"/>
                  <a:chExt cx="1218600" cy="152280"/>
                </a:xfrm>
              </p:grpSpPr>
              <p:sp>
                <p:nvSpPr>
                  <p:cNvPr id="324" name="Přímá spojovací čára 82"/>
                  <p:cNvSpPr/>
                  <p:nvPr/>
                </p:nvSpPr>
                <p:spPr>
                  <a:xfrm>
                    <a:off x="4648680" y="575928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Elipsa 83"/>
                  <p:cNvSpPr/>
                  <p:nvPr/>
                </p:nvSpPr>
                <p:spPr>
                  <a:xfrm rot="10800000">
                    <a:off x="5715000" y="568296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6" name="Přímá spojovací čára 72"/>
              <p:cNvSpPr/>
              <p:nvPr/>
            </p:nvSpPr>
            <p:spPr>
              <a:xfrm>
                <a:off x="1828440" y="5759640"/>
                <a:ext cx="281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Přímá spojovací čára 73"/>
              <p:cNvSpPr/>
              <p:nvPr/>
            </p:nvSpPr>
            <p:spPr>
              <a:xfrm flipH="1">
                <a:off x="3859560" y="3509280"/>
                <a:ext cx="788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Přímá spojovací čára 74"/>
              <p:cNvSpPr/>
              <p:nvPr/>
            </p:nvSpPr>
            <p:spPr>
              <a:xfrm flipV="1">
                <a:off x="2361960" y="3508920"/>
                <a:ext cx="0" cy="110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Přímá spojovací čára 75"/>
              <p:cNvSpPr/>
              <p:nvPr/>
            </p:nvSpPr>
            <p:spPr>
              <a:xfrm flipH="1">
                <a:off x="1675800" y="350928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Elipsa 76"/>
              <p:cNvSpPr/>
              <p:nvPr/>
            </p:nvSpPr>
            <p:spPr>
              <a:xfrm>
                <a:off x="3783600" y="56476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31" name="Přímá spojovací šipka 57"/>
            <p:cNvCxnSpPr/>
            <p:nvPr/>
          </p:nvCxnSpPr>
          <p:spPr>
            <a:xfrm>
              <a:off x="4038120" y="5063400"/>
              <a:ext cx="1080" cy="584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Přímá spojovací šipka 61"/>
            <p:cNvCxnSpPr/>
            <p:nvPr/>
          </p:nvCxnSpPr>
          <p:spPr>
            <a:xfrm>
              <a:off x="990000" y="3432960"/>
              <a:ext cx="533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Přímá spojovací šipka 62"/>
            <p:cNvCxnSpPr/>
            <p:nvPr/>
          </p:nvCxnSpPr>
          <p:spPr>
            <a:xfrm flipH="1">
              <a:off x="4876200" y="3432960"/>
              <a:ext cx="6102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Přímá spojovací šipka 63"/>
            <p:cNvCxnSpPr/>
            <p:nvPr/>
          </p:nvCxnSpPr>
          <p:spPr>
            <a:xfrm>
              <a:off x="5866920" y="3678840"/>
              <a:ext cx="1080" cy="1968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Přímá spojovací šipka 64"/>
            <p:cNvCxnSpPr/>
            <p:nvPr/>
          </p:nvCxnSpPr>
          <p:spPr>
            <a:xfrm>
              <a:off x="609120" y="3678840"/>
              <a:ext cx="1080" cy="1968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TextovéPole 65"/>
            <p:cNvSpPr/>
            <p:nvPr/>
          </p:nvSpPr>
          <p:spPr>
            <a:xfrm>
              <a:off x="4038480" y="50634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ovéPole 66"/>
            <p:cNvSpPr/>
            <p:nvPr/>
          </p:nvSpPr>
          <p:spPr>
            <a:xfrm>
              <a:off x="5105520" y="2971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ovéPole 67"/>
            <p:cNvSpPr/>
            <p:nvPr/>
          </p:nvSpPr>
          <p:spPr>
            <a:xfrm>
              <a:off x="990360" y="2971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ovéPole 68"/>
            <p:cNvSpPr/>
            <p:nvPr/>
          </p:nvSpPr>
          <p:spPr>
            <a:xfrm>
              <a:off x="0" y="43498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ovéPole 69"/>
            <p:cNvSpPr/>
            <p:nvPr/>
          </p:nvSpPr>
          <p:spPr>
            <a:xfrm>
              <a:off x="5105520" y="43430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ovéPole 102"/>
          <p:cNvSpPr/>
          <p:nvPr/>
        </p:nvSpPr>
        <p:spPr>
          <a:xfrm>
            <a:off x="6172200" y="2819520"/>
            <a:ext cx="297180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2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1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?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1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2·80 =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160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ovéPole 103"/>
          <p:cNvSpPr/>
          <p:nvPr/>
        </p:nvSpPr>
        <p:spPr>
          <a:xfrm>
            <a:off x="152280" y="58672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E = IC + IB = 160 + 2 =162 mA =&gt; je-li h21e dostatečně velký můžeme uvažovat, že IE = IC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880"/>
                            </p:stCondLst>
                            <p:childTnLst>
                              <p:par>
                                <p:cTn id="70" nodeType="afterEffect" fill="hold" presetClass="emph" presetID="26" repeatCount="500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500" autoRev="1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6T00:24:57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