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5A9-ECC6-4AA8-9A7E-89D2185A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5C3-F795-4D24-8584-E046468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3F2-46E5-4CC4-A9E0-C3DC2CC3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104-3238-420A-B346-E785AF77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D4E-6E69-4D17-8C2F-B2F09126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58B-2406-4129-8416-05E6C4CC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8B5-2185-408C-9270-C5E35B96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F38-FE35-437E-A302-FCDE79B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FA7-4798-4E31-8A81-DE52436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429-B902-4DA6-9BBC-B298394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8F4-10CE-40B1-B18C-FD34AC7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96C-B1FF-4EAD-BE52-C7783EF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6E2-24FC-40AC-9D0B-3DD52287F1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Nastavení pracovního bodu tranzis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ět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zatěžovací přímka, pracovní b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515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516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524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527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530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533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536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542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545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7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548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Skupina 244"/>
          <p:cNvGrpSpPr/>
          <p:nvPr/>
        </p:nvGrpSpPr>
        <p:grpSpPr>
          <a:xfrm>
            <a:off x="0" y="3048120"/>
            <a:ext cx="3379680" cy="3657600"/>
            <a:chOff x="0" y="3048120"/>
            <a:chExt cx="3379680" cy="3657600"/>
          </a:xfrm>
        </p:grpSpPr>
        <p:grpSp>
          <p:nvGrpSpPr>
            <p:cNvPr id="586" name="Skupina 100"/>
            <p:cNvGrpSpPr/>
            <p:nvPr/>
          </p:nvGrpSpPr>
          <p:grpSpPr>
            <a:xfrm>
              <a:off x="0" y="3048120"/>
              <a:ext cx="2779920" cy="3657600"/>
              <a:chOff x="0" y="3048120"/>
              <a:chExt cx="2779920" cy="3657600"/>
            </a:xfrm>
          </p:grpSpPr>
          <p:grpSp>
            <p:nvGrpSpPr>
              <p:cNvPr id="587" name="Skupina 79"/>
              <p:cNvGrpSpPr/>
              <p:nvPr/>
            </p:nvGrpSpPr>
            <p:grpSpPr>
              <a:xfrm>
                <a:off x="584640" y="3048120"/>
                <a:ext cx="2195280" cy="3657600"/>
                <a:chOff x="584640" y="3048120"/>
                <a:chExt cx="2195280" cy="3657600"/>
              </a:xfrm>
            </p:grpSpPr>
            <p:cxnSp>
              <p:nvCxnSpPr>
                <p:cNvPr id="588" name="Přímá spojovací šipka 77"/>
                <p:cNvCxnSpPr/>
                <p:nvPr/>
              </p:nvCxnSpPr>
              <p:spPr>
                <a:xfrm>
                  <a:off x="2194200" y="5567760"/>
                  <a:ext cx="1080" cy="5612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589" name="TextovéPole 86"/>
                <p:cNvSpPr/>
                <p:nvPr/>
              </p:nvSpPr>
              <p:spPr>
                <a:xfrm>
                  <a:off x="2194560" y="5568120"/>
                  <a:ext cx="58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" name="Skupina 75"/>
                <p:cNvGrpSpPr/>
                <p:nvPr/>
              </p:nvGrpSpPr>
              <p:grpSpPr>
                <a:xfrm>
                  <a:off x="584640" y="4076280"/>
                  <a:ext cx="1609920" cy="2629440"/>
                  <a:chOff x="584640" y="4076280"/>
                  <a:chExt cx="1609920" cy="2629440"/>
                </a:xfrm>
              </p:grpSpPr>
              <p:grpSp>
                <p:nvGrpSpPr>
                  <p:cNvPr id="591" name="Skupina 1"/>
                  <p:cNvGrpSpPr/>
                  <p:nvPr/>
                </p:nvGrpSpPr>
                <p:grpSpPr>
                  <a:xfrm>
                    <a:off x="584640" y="4076280"/>
                    <a:ext cx="1609920" cy="2629440"/>
                    <a:chOff x="584640" y="4076280"/>
                    <a:chExt cx="1609920" cy="2629440"/>
                  </a:xfrm>
                </p:grpSpPr>
                <p:grpSp>
                  <p:nvGrpSpPr>
                    <p:cNvPr id="592" name="Skupina 3"/>
                    <p:cNvGrpSpPr/>
                    <p:nvPr/>
                  </p:nvGrpSpPr>
                  <p:grpSpPr>
                    <a:xfrm>
                      <a:off x="584640" y="4076280"/>
                      <a:ext cx="1609920" cy="2629440"/>
                      <a:chOff x="584640" y="4076280"/>
                      <a:chExt cx="1609920" cy="2629440"/>
                    </a:xfrm>
                  </p:grpSpPr>
                  <p:sp>
                    <p:nvSpPr>
                      <p:cNvPr id="593" name="Elipsa 6"/>
                      <p:cNvSpPr/>
                      <p:nvPr/>
                    </p:nvSpPr>
                    <p:spPr>
                      <a:xfrm>
                        <a:off x="1023840" y="4527360"/>
                        <a:ext cx="1170720" cy="121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Přímá spojovací čára 7"/>
                      <p:cNvSpPr/>
                      <p:nvPr/>
                    </p:nvSpPr>
                    <p:spPr>
                      <a:xfrm>
                        <a:off x="1316520" y="4831920"/>
                        <a:ext cx="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Přímá spojovací čára 8"/>
                      <p:cNvSpPr/>
                      <p:nvPr/>
                    </p:nvSpPr>
                    <p:spPr>
                      <a:xfrm flipV="1">
                        <a:off x="1316520" y="470556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Přímá spojovací čára 9"/>
                      <p:cNvSpPr/>
                      <p:nvPr/>
                    </p:nvSpPr>
                    <p:spPr>
                      <a:xfrm>
                        <a:off x="1316520" y="513684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Přímá spojovací čára 10"/>
                      <p:cNvSpPr/>
                      <p:nvPr/>
                    </p:nvSpPr>
                    <p:spPr>
                      <a:xfrm flipH="1">
                        <a:off x="1023480" y="5136840"/>
                        <a:ext cx="292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Přímá spojovací čára 11"/>
                      <p:cNvSpPr/>
                      <p:nvPr/>
                    </p:nvSpPr>
                    <p:spPr>
                      <a:xfrm>
                        <a:off x="2023200" y="4076280"/>
                        <a:ext cx="0" cy="6296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Přímá spojovací čára 12"/>
                      <p:cNvSpPr/>
                      <p:nvPr/>
                    </p:nvSpPr>
                    <p:spPr>
                      <a:xfrm>
                        <a:off x="2023200" y="5568120"/>
                        <a:ext cx="24840" cy="1137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Přímá spojovací čára 13"/>
                      <p:cNvSpPr/>
                      <p:nvPr/>
                    </p:nvSpPr>
                    <p:spPr>
                      <a:xfrm flipH="1">
                        <a:off x="584640" y="5136840"/>
                        <a:ext cx="4388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1" name="TextovéPole 3"/>
                    <p:cNvSpPr/>
                    <p:nvPr/>
                  </p:nvSpPr>
                  <p:spPr>
                    <a:xfrm>
                      <a:off x="731160" y="4661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TextovéPole 4"/>
                    <p:cNvSpPr/>
                    <p:nvPr/>
                  </p:nvSpPr>
                  <p:spPr>
                    <a:xfrm>
                      <a:off x="1609200" y="4076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TextovéPole 5"/>
                    <p:cNvSpPr/>
                    <p:nvPr/>
                  </p:nvSpPr>
                  <p:spPr>
                    <a:xfrm>
                      <a:off x="1609200" y="56854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4" name="Přímá spojovací čára 39"/>
                  <p:cNvSpPr/>
                  <p:nvPr/>
                </p:nvSpPr>
                <p:spPr>
                  <a:xfrm flipV="1">
                    <a:off x="585000" y="4076280"/>
                    <a:ext cx="0" cy="1060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Přímá spojovací čára 260"/>
                <p:cNvSpPr/>
                <p:nvPr/>
              </p:nvSpPr>
              <p:spPr>
                <a:xfrm>
                  <a:off x="1389600" y="334044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Elipsa 24"/>
                <p:cNvSpPr/>
                <p:nvPr/>
              </p:nvSpPr>
              <p:spPr>
                <a:xfrm rot="10800000">
                  <a:off x="1316520" y="3194280"/>
                  <a:ext cx="146160" cy="146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Přímá spojovací čára 262"/>
                <p:cNvSpPr/>
                <p:nvPr/>
              </p:nvSpPr>
              <p:spPr>
                <a:xfrm>
                  <a:off x="1901880" y="6705720"/>
                  <a:ext cx="29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ovéPole 263"/>
                <p:cNvSpPr/>
                <p:nvPr/>
              </p:nvSpPr>
              <p:spPr>
                <a:xfrm>
                  <a:off x="1463040" y="3048120"/>
                  <a:ext cx="131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+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Přímá spojovací čára 264"/>
                <p:cNvSpPr/>
                <p:nvPr/>
              </p:nvSpPr>
              <p:spPr>
                <a:xfrm>
                  <a:off x="585000" y="4072320"/>
                  <a:ext cx="1463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Přímá spojovací čára 265"/>
                <p:cNvSpPr/>
                <p:nvPr/>
              </p:nvSpPr>
              <p:spPr>
                <a:xfrm>
                  <a:off x="1389600" y="370620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Elipsa 24"/>
                <p:cNvSpPr/>
                <p:nvPr/>
              </p:nvSpPr>
              <p:spPr>
                <a:xfrm rot="10800000">
                  <a:off x="1316520" y="3998880"/>
                  <a:ext cx="146160" cy="146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12" name="Přímá spojovací šipka 79"/>
              <p:cNvCxnSpPr/>
              <p:nvPr/>
            </p:nvCxnSpPr>
            <p:spPr>
              <a:xfrm>
                <a:off x="2121120" y="4145040"/>
                <a:ext cx="1080" cy="439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13" name="TextovéPole 87"/>
              <p:cNvSpPr/>
              <p:nvPr/>
            </p:nvSpPr>
            <p:spPr>
              <a:xfrm>
                <a:off x="2194920" y="407232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ovéPole 88"/>
              <p:cNvSpPr/>
              <p:nvPr/>
            </p:nvSpPr>
            <p:spPr>
              <a:xfrm>
                <a:off x="0" y="443808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5" name="Přímá spojovací šipka 78"/>
              <p:cNvCxnSpPr/>
              <p:nvPr/>
            </p:nvCxnSpPr>
            <p:spPr>
              <a:xfrm>
                <a:off x="438480" y="4438080"/>
                <a:ext cx="1080" cy="512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616" name="Skupina 111"/>
            <p:cNvGrpSpPr/>
            <p:nvPr/>
          </p:nvGrpSpPr>
          <p:grpSpPr>
            <a:xfrm>
              <a:off x="1609200" y="4511160"/>
              <a:ext cx="1770480" cy="1243440"/>
              <a:chOff x="1609200" y="4511160"/>
              <a:chExt cx="1770480" cy="1243440"/>
            </a:xfrm>
          </p:grpSpPr>
          <p:sp>
            <p:nvSpPr>
              <p:cNvPr id="617" name="Oblouk 250"/>
              <p:cNvSpPr/>
              <p:nvPr/>
            </p:nvSpPr>
            <p:spPr>
              <a:xfrm>
                <a:off x="1609200" y="4511160"/>
                <a:ext cx="995040" cy="1243440"/>
              </a:xfrm>
              <a:custGeom>
                <a:avLst/>
                <a:gdLst>
                  <a:gd name="textAreaLeft" fmla="*/ 708840 w 995040"/>
                  <a:gd name="textAreaRight" fmla="*/ 995400 w 995040"/>
                  <a:gd name="textAreaTop" fmla="*/ 72360 h 1243440"/>
                  <a:gd name="textAreaBottom" fmla="*/ 1184760 h 12434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ovéPole 251"/>
              <p:cNvSpPr/>
              <p:nvPr/>
            </p:nvSpPr>
            <p:spPr>
              <a:xfrm>
                <a:off x="2560320" y="4950000"/>
                <a:ext cx="819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Skupina 113"/>
            <p:cNvGrpSpPr/>
            <p:nvPr/>
          </p:nvGrpSpPr>
          <p:grpSpPr>
            <a:xfrm>
              <a:off x="585000" y="3779640"/>
              <a:ext cx="2560320" cy="2487240"/>
              <a:chOff x="585000" y="3779640"/>
              <a:chExt cx="2560320" cy="2487240"/>
            </a:xfrm>
          </p:grpSpPr>
          <p:sp>
            <p:nvSpPr>
              <p:cNvPr id="620" name="Oblouk 248"/>
              <p:cNvSpPr/>
              <p:nvPr/>
            </p:nvSpPr>
            <p:spPr>
              <a:xfrm>
                <a:off x="658080" y="3779640"/>
                <a:ext cx="2487240" cy="2487240"/>
              </a:xfrm>
              <a:custGeom>
                <a:avLst/>
                <a:gdLst>
                  <a:gd name="textAreaLeft" fmla="*/ 23760 w 2487240"/>
                  <a:gd name="textAreaRight" fmla="*/ 1253160 w 2487240"/>
                  <a:gd name="textAreaTop" fmla="*/ 1485720 h 2487240"/>
                  <a:gd name="textAreaBottom" fmla="*/ 2487600 h 24872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ovéPole 249"/>
              <p:cNvSpPr/>
              <p:nvPr/>
            </p:nvSpPr>
            <p:spPr>
              <a:xfrm>
                <a:off x="585000" y="5754960"/>
                <a:ext cx="71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TextovéPole 2"/>
          <p:cNvSpPr/>
          <p:nvPr/>
        </p:nvSpPr>
        <p:spPr>
          <a:xfrm>
            <a:off x="457200" y="99072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sečík s osou proudu (bod 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stíme při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 V, zkrat mezi svorkami C a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ovéPole 121"/>
          <p:cNvSpPr/>
          <p:nvPr/>
        </p:nvSpPr>
        <p:spPr>
          <a:xfrm>
            <a:off x="25909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628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629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637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640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643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646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649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655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658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661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Skupina 244"/>
          <p:cNvGrpSpPr/>
          <p:nvPr/>
        </p:nvGrpSpPr>
        <p:grpSpPr>
          <a:xfrm>
            <a:off x="0" y="3048120"/>
            <a:ext cx="3379680" cy="3657600"/>
            <a:chOff x="0" y="3048120"/>
            <a:chExt cx="3379680" cy="3657600"/>
          </a:xfrm>
        </p:grpSpPr>
        <p:grpSp>
          <p:nvGrpSpPr>
            <p:cNvPr id="699" name="Skupina 100"/>
            <p:cNvGrpSpPr/>
            <p:nvPr/>
          </p:nvGrpSpPr>
          <p:grpSpPr>
            <a:xfrm>
              <a:off x="0" y="3048120"/>
              <a:ext cx="2779920" cy="3657600"/>
              <a:chOff x="0" y="3048120"/>
              <a:chExt cx="2779920" cy="3657600"/>
            </a:xfrm>
          </p:grpSpPr>
          <p:grpSp>
            <p:nvGrpSpPr>
              <p:cNvPr id="700" name="Skupina 79"/>
              <p:cNvGrpSpPr/>
              <p:nvPr/>
            </p:nvGrpSpPr>
            <p:grpSpPr>
              <a:xfrm>
                <a:off x="584640" y="3048120"/>
                <a:ext cx="2195280" cy="3657600"/>
                <a:chOff x="584640" y="3048120"/>
                <a:chExt cx="2195280" cy="3657600"/>
              </a:xfrm>
            </p:grpSpPr>
            <p:cxnSp>
              <p:nvCxnSpPr>
                <p:cNvPr id="701" name="Přímá spojovací šipka 77"/>
                <p:cNvCxnSpPr/>
                <p:nvPr/>
              </p:nvCxnSpPr>
              <p:spPr>
                <a:xfrm>
                  <a:off x="2194200" y="5567760"/>
                  <a:ext cx="1080" cy="5612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702" name="TextovéPole 86"/>
                <p:cNvSpPr/>
                <p:nvPr/>
              </p:nvSpPr>
              <p:spPr>
                <a:xfrm>
                  <a:off x="2194560" y="5568120"/>
                  <a:ext cx="58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Skupina 75"/>
                <p:cNvGrpSpPr/>
                <p:nvPr/>
              </p:nvGrpSpPr>
              <p:grpSpPr>
                <a:xfrm>
                  <a:off x="584640" y="4076280"/>
                  <a:ext cx="1609920" cy="2629440"/>
                  <a:chOff x="584640" y="4076280"/>
                  <a:chExt cx="1609920" cy="2629440"/>
                </a:xfrm>
              </p:grpSpPr>
              <p:grpSp>
                <p:nvGrpSpPr>
                  <p:cNvPr id="704" name="Skupina 1"/>
                  <p:cNvGrpSpPr/>
                  <p:nvPr/>
                </p:nvGrpSpPr>
                <p:grpSpPr>
                  <a:xfrm>
                    <a:off x="584640" y="4076280"/>
                    <a:ext cx="1609920" cy="2629440"/>
                    <a:chOff x="584640" y="4076280"/>
                    <a:chExt cx="1609920" cy="2629440"/>
                  </a:xfrm>
                </p:grpSpPr>
                <p:grpSp>
                  <p:nvGrpSpPr>
                    <p:cNvPr id="705" name="Skupina 3"/>
                    <p:cNvGrpSpPr/>
                    <p:nvPr/>
                  </p:nvGrpSpPr>
                  <p:grpSpPr>
                    <a:xfrm>
                      <a:off x="584640" y="4076280"/>
                      <a:ext cx="1609920" cy="2629440"/>
                      <a:chOff x="584640" y="4076280"/>
                      <a:chExt cx="1609920" cy="2629440"/>
                    </a:xfrm>
                  </p:grpSpPr>
                  <p:sp>
                    <p:nvSpPr>
                      <p:cNvPr id="706" name="Elipsa 6"/>
                      <p:cNvSpPr/>
                      <p:nvPr/>
                    </p:nvSpPr>
                    <p:spPr>
                      <a:xfrm>
                        <a:off x="1023840" y="4527360"/>
                        <a:ext cx="1170720" cy="121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Přímá spojovací čára 7"/>
                      <p:cNvSpPr/>
                      <p:nvPr/>
                    </p:nvSpPr>
                    <p:spPr>
                      <a:xfrm>
                        <a:off x="1316520" y="4831920"/>
                        <a:ext cx="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Přímá spojovací čára 8"/>
                      <p:cNvSpPr/>
                      <p:nvPr/>
                    </p:nvSpPr>
                    <p:spPr>
                      <a:xfrm flipV="1">
                        <a:off x="1316520" y="470556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Přímá spojovací čára 9"/>
                      <p:cNvSpPr/>
                      <p:nvPr/>
                    </p:nvSpPr>
                    <p:spPr>
                      <a:xfrm>
                        <a:off x="1316520" y="513684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Přímá spojovací čára 10"/>
                      <p:cNvSpPr/>
                      <p:nvPr/>
                    </p:nvSpPr>
                    <p:spPr>
                      <a:xfrm flipH="1">
                        <a:off x="1023480" y="5136840"/>
                        <a:ext cx="292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Přímá spojovací čára 11"/>
                      <p:cNvSpPr/>
                      <p:nvPr/>
                    </p:nvSpPr>
                    <p:spPr>
                      <a:xfrm>
                        <a:off x="2023200" y="4076280"/>
                        <a:ext cx="0" cy="6296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Přímá spojovací čára 12"/>
                      <p:cNvSpPr/>
                      <p:nvPr/>
                    </p:nvSpPr>
                    <p:spPr>
                      <a:xfrm>
                        <a:off x="2023200" y="5568120"/>
                        <a:ext cx="24840" cy="1137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Přímá spojovací čára 13"/>
                      <p:cNvSpPr/>
                      <p:nvPr/>
                    </p:nvSpPr>
                    <p:spPr>
                      <a:xfrm flipH="1">
                        <a:off x="584640" y="5136840"/>
                        <a:ext cx="4388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14" name="TextovéPole 3"/>
                    <p:cNvSpPr/>
                    <p:nvPr/>
                  </p:nvSpPr>
                  <p:spPr>
                    <a:xfrm>
                      <a:off x="731160" y="4661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TextovéPole 4"/>
                    <p:cNvSpPr/>
                    <p:nvPr/>
                  </p:nvSpPr>
                  <p:spPr>
                    <a:xfrm>
                      <a:off x="1609200" y="4076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TextovéPole 5"/>
                    <p:cNvSpPr/>
                    <p:nvPr/>
                  </p:nvSpPr>
                  <p:spPr>
                    <a:xfrm>
                      <a:off x="1609200" y="56854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" name="Přímá spojovací čára 39"/>
                  <p:cNvSpPr/>
                  <p:nvPr/>
                </p:nvSpPr>
                <p:spPr>
                  <a:xfrm flipV="1">
                    <a:off x="585000" y="4076280"/>
                    <a:ext cx="0" cy="1060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Přímá spojovací čára 260"/>
                <p:cNvSpPr/>
                <p:nvPr/>
              </p:nvSpPr>
              <p:spPr>
                <a:xfrm>
                  <a:off x="1389600" y="334044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Elipsa 24"/>
                <p:cNvSpPr/>
                <p:nvPr/>
              </p:nvSpPr>
              <p:spPr>
                <a:xfrm rot="10800000">
                  <a:off x="1316520" y="3194280"/>
                  <a:ext cx="146160" cy="146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Přímá spojovací čára 262"/>
                <p:cNvSpPr/>
                <p:nvPr/>
              </p:nvSpPr>
              <p:spPr>
                <a:xfrm>
                  <a:off x="1901880" y="6705720"/>
                  <a:ext cx="29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ovéPole 263"/>
                <p:cNvSpPr/>
                <p:nvPr/>
              </p:nvSpPr>
              <p:spPr>
                <a:xfrm>
                  <a:off x="1463040" y="3048120"/>
                  <a:ext cx="131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+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Přímá spojovací čára 264"/>
                <p:cNvSpPr/>
                <p:nvPr/>
              </p:nvSpPr>
              <p:spPr>
                <a:xfrm>
                  <a:off x="585000" y="4072320"/>
                  <a:ext cx="1463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Přímá spojovací čára 265"/>
                <p:cNvSpPr/>
                <p:nvPr/>
              </p:nvSpPr>
              <p:spPr>
                <a:xfrm>
                  <a:off x="1389600" y="370620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Elipsa 24"/>
                <p:cNvSpPr/>
                <p:nvPr/>
              </p:nvSpPr>
              <p:spPr>
                <a:xfrm rot="10800000">
                  <a:off x="1316520" y="3998880"/>
                  <a:ext cx="146160" cy="146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725" name="Přímá spojovací šipka 79"/>
              <p:cNvCxnSpPr/>
              <p:nvPr/>
            </p:nvCxnSpPr>
            <p:spPr>
              <a:xfrm>
                <a:off x="2121120" y="4145040"/>
                <a:ext cx="1080" cy="439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6" name="TextovéPole 87"/>
              <p:cNvSpPr/>
              <p:nvPr/>
            </p:nvSpPr>
            <p:spPr>
              <a:xfrm>
                <a:off x="2194920" y="407232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ovéPole 88"/>
              <p:cNvSpPr/>
              <p:nvPr/>
            </p:nvSpPr>
            <p:spPr>
              <a:xfrm>
                <a:off x="0" y="443808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8" name="Přímá spojovací šipka 78"/>
              <p:cNvCxnSpPr/>
              <p:nvPr/>
            </p:nvCxnSpPr>
            <p:spPr>
              <a:xfrm>
                <a:off x="438480" y="4438080"/>
                <a:ext cx="1080" cy="512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729" name="Skupina 111"/>
            <p:cNvGrpSpPr/>
            <p:nvPr/>
          </p:nvGrpSpPr>
          <p:grpSpPr>
            <a:xfrm>
              <a:off x="1609200" y="4511160"/>
              <a:ext cx="1770480" cy="1243440"/>
              <a:chOff x="1609200" y="4511160"/>
              <a:chExt cx="1770480" cy="1243440"/>
            </a:xfrm>
          </p:grpSpPr>
          <p:sp>
            <p:nvSpPr>
              <p:cNvPr id="730" name="Oblouk 250"/>
              <p:cNvSpPr/>
              <p:nvPr/>
            </p:nvSpPr>
            <p:spPr>
              <a:xfrm>
                <a:off x="1609200" y="4511160"/>
                <a:ext cx="995040" cy="1243440"/>
              </a:xfrm>
              <a:custGeom>
                <a:avLst/>
                <a:gdLst>
                  <a:gd name="textAreaLeft" fmla="*/ 708840 w 995040"/>
                  <a:gd name="textAreaRight" fmla="*/ 995400 w 995040"/>
                  <a:gd name="textAreaTop" fmla="*/ 72360 h 1243440"/>
                  <a:gd name="textAreaBottom" fmla="*/ 1184760 h 12434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ovéPole 251"/>
              <p:cNvSpPr/>
              <p:nvPr/>
            </p:nvSpPr>
            <p:spPr>
              <a:xfrm>
                <a:off x="2560320" y="4950000"/>
                <a:ext cx="819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Skupina 113"/>
            <p:cNvGrpSpPr/>
            <p:nvPr/>
          </p:nvGrpSpPr>
          <p:grpSpPr>
            <a:xfrm>
              <a:off x="585000" y="3779640"/>
              <a:ext cx="2560320" cy="2487240"/>
              <a:chOff x="585000" y="3779640"/>
              <a:chExt cx="2560320" cy="2487240"/>
            </a:xfrm>
          </p:grpSpPr>
          <p:sp>
            <p:nvSpPr>
              <p:cNvPr id="733" name="Oblouk 248"/>
              <p:cNvSpPr/>
              <p:nvPr/>
            </p:nvSpPr>
            <p:spPr>
              <a:xfrm>
                <a:off x="658080" y="3779640"/>
                <a:ext cx="2487240" cy="2487240"/>
              </a:xfrm>
              <a:custGeom>
                <a:avLst/>
                <a:gdLst>
                  <a:gd name="textAreaLeft" fmla="*/ 23760 w 2487240"/>
                  <a:gd name="textAreaRight" fmla="*/ 1253160 w 2487240"/>
                  <a:gd name="textAreaTop" fmla="*/ 1485720 h 2487240"/>
                  <a:gd name="textAreaBottom" fmla="*/ 2487600 h 24872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ovéPole 249"/>
              <p:cNvSpPr/>
              <p:nvPr/>
            </p:nvSpPr>
            <p:spPr>
              <a:xfrm>
                <a:off x="585000" y="5754960"/>
                <a:ext cx="786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TextovéPole 2"/>
          <p:cNvSpPr/>
          <p:nvPr/>
        </p:nvSpPr>
        <p:spPr>
          <a:xfrm>
            <a:off x="457200" y="990720"/>
            <a:ext cx="8305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síme omezit rezistorem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tak aby nepřekročil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ma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apř.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8 m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787640" cy="685800"/>
          </a:xfrm>
          <a:prstGeom prst="rect">
            <a:avLst/>
          </a:prstGeom>
          <a:ln w="0">
            <a:noFill/>
          </a:ln>
        </p:spPr>
      </p:pic>
      <p:sp>
        <p:nvSpPr>
          <p:cNvPr id="739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6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7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ovéPole 121"/>
          <p:cNvSpPr/>
          <p:nvPr/>
        </p:nvSpPr>
        <p:spPr>
          <a:xfrm>
            <a:off x="25909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745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746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3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754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757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760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2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763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766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772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775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7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778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Skupina 244"/>
          <p:cNvGrpSpPr/>
          <p:nvPr/>
        </p:nvGrpSpPr>
        <p:grpSpPr>
          <a:xfrm>
            <a:off x="0" y="3048120"/>
            <a:ext cx="3379680" cy="3657600"/>
            <a:chOff x="0" y="3048120"/>
            <a:chExt cx="3379680" cy="3657600"/>
          </a:xfrm>
        </p:grpSpPr>
        <p:grpSp>
          <p:nvGrpSpPr>
            <p:cNvPr id="816" name="Skupina 100"/>
            <p:cNvGrpSpPr/>
            <p:nvPr/>
          </p:nvGrpSpPr>
          <p:grpSpPr>
            <a:xfrm>
              <a:off x="0" y="3048120"/>
              <a:ext cx="2779920" cy="3657600"/>
              <a:chOff x="0" y="3048120"/>
              <a:chExt cx="2779920" cy="3657600"/>
            </a:xfrm>
          </p:grpSpPr>
          <p:grpSp>
            <p:nvGrpSpPr>
              <p:cNvPr id="817" name="Skupina 79"/>
              <p:cNvGrpSpPr/>
              <p:nvPr/>
            </p:nvGrpSpPr>
            <p:grpSpPr>
              <a:xfrm>
                <a:off x="584640" y="3048120"/>
                <a:ext cx="2195280" cy="3657600"/>
                <a:chOff x="584640" y="3048120"/>
                <a:chExt cx="2195280" cy="3657600"/>
              </a:xfrm>
            </p:grpSpPr>
            <p:cxnSp>
              <p:nvCxnSpPr>
                <p:cNvPr id="818" name="Přímá spojovací šipka 77"/>
                <p:cNvCxnSpPr/>
                <p:nvPr/>
              </p:nvCxnSpPr>
              <p:spPr>
                <a:xfrm>
                  <a:off x="2194200" y="5567760"/>
                  <a:ext cx="1080" cy="5612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819" name="TextovéPole 86"/>
                <p:cNvSpPr/>
                <p:nvPr/>
              </p:nvSpPr>
              <p:spPr>
                <a:xfrm>
                  <a:off x="2194560" y="5568120"/>
                  <a:ext cx="58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0" name="Skupina 75"/>
                <p:cNvGrpSpPr/>
                <p:nvPr/>
              </p:nvGrpSpPr>
              <p:grpSpPr>
                <a:xfrm>
                  <a:off x="584640" y="4076280"/>
                  <a:ext cx="1609920" cy="2629440"/>
                  <a:chOff x="584640" y="4076280"/>
                  <a:chExt cx="1609920" cy="2629440"/>
                </a:xfrm>
              </p:grpSpPr>
              <p:grpSp>
                <p:nvGrpSpPr>
                  <p:cNvPr id="821" name="Skupina 1"/>
                  <p:cNvGrpSpPr/>
                  <p:nvPr/>
                </p:nvGrpSpPr>
                <p:grpSpPr>
                  <a:xfrm>
                    <a:off x="584640" y="4076280"/>
                    <a:ext cx="1609920" cy="2629440"/>
                    <a:chOff x="584640" y="4076280"/>
                    <a:chExt cx="1609920" cy="2629440"/>
                  </a:xfrm>
                </p:grpSpPr>
                <p:grpSp>
                  <p:nvGrpSpPr>
                    <p:cNvPr id="822" name="Skupina 3"/>
                    <p:cNvGrpSpPr/>
                    <p:nvPr/>
                  </p:nvGrpSpPr>
                  <p:grpSpPr>
                    <a:xfrm>
                      <a:off x="584640" y="4076280"/>
                      <a:ext cx="1609920" cy="2629440"/>
                      <a:chOff x="584640" y="4076280"/>
                      <a:chExt cx="1609920" cy="2629440"/>
                    </a:xfrm>
                  </p:grpSpPr>
                  <p:sp>
                    <p:nvSpPr>
                      <p:cNvPr id="823" name="Elipsa 6"/>
                      <p:cNvSpPr/>
                      <p:nvPr/>
                    </p:nvSpPr>
                    <p:spPr>
                      <a:xfrm>
                        <a:off x="1023840" y="4527360"/>
                        <a:ext cx="1170720" cy="121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4" name="Přímá spojovací čára 7"/>
                      <p:cNvSpPr/>
                      <p:nvPr/>
                    </p:nvSpPr>
                    <p:spPr>
                      <a:xfrm>
                        <a:off x="1316520" y="4831920"/>
                        <a:ext cx="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Přímá spojovací čára 8"/>
                      <p:cNvSpPr/>
                      <p:nvPr/>
                    </p:nvSpPr>
                    <p:spPr>
                      <a:xfrm flipV="1">
                        <a:off x="1316520" y="470556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Přímá spojovací čára 9"/>
                      <p:cNvSpPr/>
                      <p:nvPr/>
                    </p:nvSpPr>
                    <p:spPr>
                      <a:xfrm>
                        <a:off x="1316520" y="513684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Přímá spojovací čára 10"/>
                      <p:cNvSpPr/>
                      <p:nvPr/>
                    </p:nvSpPr>
                    <p:spPr>
                      <a:xfrm flipH="1">
                        <a:off x="1023480" y="5136840"/>
                        <a:ext cx="292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8" name="Přímá spojovací čára 11"/>
                      <p:cNvSpPr/>
                      <p:nvPr/>
                    </p:nvSpPr>
                    <p:spPr>
                      <a:xfrm>
                        <a:off x="2023200" y="4076280"/>
                        <a:ext cx="0" cy="6296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Přímá spojovací čára 12"/>
                      <p:cNvSpPr/>
                      <p:nvPr/>
                    </p:nvSpPr>
                    <p:spPr>
                      <a:xfrm>
                        <a:off x="2023200" y="5568120"/>
                        <a:ext cx="24840" cy="1137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Přímá spojovací čára 13"/>
                      <p:cNvSpPr/>
                      <p:nvPr/>
                    </p:nvSpPr>
                    <p:spPr>
                      <a:xfrm flipH="1">
                        <a:off x="584640" y="5136840"/>
                        <a:ext cx="4388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1" name="TextovéPole 3"/>
                    <p:cNvSpPr/>
                    <p:nvPr/>
                  </p:nvSpPr>
                  <p:spPr>
                    <a:xfrm>
                      <a:off x="731160" y="4661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TextovéPole 4"/>
                    <p:cNvSpPr/>
                    <p:nvPr/>
                  </p:nvSpPr>
                  <p:spPr>
                    <a:xfrm>
                      <a:off x="1609200" y="4076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TextovéPole 5"/>
                    <p:cNvSpPr/>
                    <p:nvPr/>
                  </p:nvSpPr>
                  <p:spPr>
                    <a:xfrm>
                      <a:off x="1609200" y="56854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4" name="Přímá spojovací čára 39"/>
                  <p:cNvSpPr/>
                  <p:nvPr/>
                </p:nvSpPr>
                <p:spPr>
                  <a:xfrm flipV="1">
                    <a:off x="585000" y="4076280"/>
                    <a:ext cx="0" cy="1060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Přímá spojovací čára 260"/>
                <p:cNvSpPr/>
                <p:nvPr/>
              </p:nvSpPr>
              <p:spPr>
                <a:xfrm>
                  <a:off x="1389600" y="334044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Elipsa 24"/>
                <p:cNvSpPr/>
                <p:nvPr/>
              </p:nvSpPr>
              <p:spPr>
                <a:xfrm rot="10800000">
                  <a:off x="1316520" y="3194280"/>
                  <a:ext cx="146160" cy="146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Přímá spojovací čára 262"/>
                <p:cNvSpPr/>
                <p:nvPr/>
              </p:nvSpPr>
              <p:spPr>
                <a:xfrm>
                  <a:off x="1901880" y="6705720"/>
                  <a:ext cx="29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ovéPole 263"/>
                <p:cNvSpPr/>
                <p:nvPr/>
              </p:nvSpPr>
              <p:spPr>
                <a:xfrm>
                  <a:off x="1463040" y="3048120"/>
                  <a:ext cx="131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+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Přímá spojovací čára 264"/>
                <p:cNvSpPr/>
                <p:nvPr/>
              </p:nvSpPr>
              <p:spPr>
                <a:xfrm>
                  <a:off x="585000" y="4072320"/>
                  <a:ext cx="1463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Přímá spojovací čára 265"/>
                <p:cNvSpPr/>
                <p:nvPr/>
              </p:nvSpPr>
              <p:spPr>
                <a:xfrm>
                  <a:off x="1389600" y="370620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Elipsa 24"/>
                <p:cNvSpPr/>
                <p:nvPr/>
              </p:nvSpPr>
              <p:spPr>
                <a:xfrm rot="10800000">
                  <a:off x="1316520" y="3998880"/>
                  <a:ext cx="146160" cy="146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842" name="Přímá spojovací šipka 79"/>
              <p:cNvCxnSpPr/>
              <p:nvPr/>
            </p:nvCxnSpPr>
            <p:spPr>
              <a:xfrm>
                <a:off x="2121120" y="4145040"/>
                <a:ext cx="1080" cy="439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843" name="TextovéPole 87"/>
              <p:cNvSpPr/>
              <p:nvPr/>
            </p:nvSpPr>
            <p:spPr>
              <a:xfrm>
                <a:off x="2194920" y="407232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ovéPole 88"/>
              <p:cNvSpPr/>
              <p:nvPr/>
            </p:nvSpPr>
            <p:spPr>
              <a:xfrm>
                <a:off x="0" y="443808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Přímá spojovací šipka 78"/>
              <p:cNvCxnSpPr/>
              <p:nvPr/>
            </p:nvCxnSpPr>
            <p:spPr>
              <a:xfrm>
                <a:off x="438480" y="4438080"/>
                <a:ext cx="1080" cy="512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846" name="Skupina 111"/>
            <p:cNvGrpSpPr/>
            <p:nvPr/>
          </p:nvGrpSpPr>
          <p:grpSpPr>
            <a:xfrm>
              <a:off x="1609200" y="4511160"/>
              <a:ext cx="1770480" cy="1243440"/>
              <a:chOff x="1609200" y="4511160"/>
              <a:chExt cx="1770480" cy="1243440"/>
            </a:xfrm>
          </p:grpSpPr>
          <p:sp>
            <p:nvSpPr>
              <p:cNvPr id="847" name="Oblouk 250"/>
              <p:cNvSpPr/>
              <p:nvPr/>
            </p:nvSpPr>
            <p:spPr>
              <a:xfrm>
                <a:off x="1609200" y="4511160"/>
                <a:ext cx="995040" cy="1243440"/>
              </a:xfrm>
              <a:custGeom>
                <a:avLst/>
                <a:gdLst>
                  <a:gd name="textAreaLeft" fmla="*/ 708840 w 995040"/>
                  <a:gd name="textAreaRight" fmla="*/ 995400 w 995040"/>
                  <a:gd name="textAreaTop" fmla="*/ 72360 h 1243440"/>
                  <a:gd name="textAreaBottom" fmla="*/ 1184760 h 12434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ovéPole 251"/>
              <p:cNvSpPr/>
              <p:nvPr/>
            </p:nvSpPr>
            <p:spPr>
              <a:xfrm>
                <a:off x="2560320" y="4950000"/>
                <a:ext cx="819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Skupina 113"/>
            <p:cNvGrpSpPr/>
            <p:nvPr/>
          </p:nvGrpSpPr>
          <p:grpSpPr>
            <a:xfrm>
              <a:off x="585000" y="3779640"/>
              <a:ext cx="2560320" cy="2487240"/>
              <a:chOff x="585000" y="3779640"/>
              <a:chExt cx="2560320" cy="2487240"/>
            </a:xfrm>
          </p:grpSpPr>
          <p:sp>
            <p:nvSpPr>
              <p:cNvPr id="850" name="Oblouk 248"/>
              <p:cNvSpPr/>
              <p:nvPr/>
            </p:nvSpPr>
            <p:spPr>
              <a:xfrm>
                <a:off x="658080" y="3779640"/>
                <a:ext cx="2487240" cy="2487240"/>
              </a:xfrm>
              <a:custGeom>
                <a:avLst/>
                <a:gdLst>
                  <a:gd name="textAreaLeft" fmla="*/ 23760 w 2487240"/>
                  <a:gd name="textAreaRight" fmla="*/ 1253160 w 2487240"/>
                  <a:gd name="textAreaTop" fmla="*/ 1485720 h 2487240"/>
                  <a:gd name="textAreaBottom" fmla="*/ 2487600 h 24872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ovéPole 249"/>
              <p:cNvSpPr/>
              <p:nvPr/>
            </p:nvSpPr>
            <p:spPr>
              <a:xfrm>
                <a:off x="585000" y="5754960"/>
                <a:ext cx="71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2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právě získaných informací změníme schéma napájení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787640" cy="68580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právě získaných informací změníme schéma napájení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Skupina 156"/>
          <p:cNvGrpSpPr/>
          <p:nvPr/>
        </p:nvGrpSpPr>
        <p:grpSpPr>
          <a:xfrm>
            <a:off x="0" y="2133720"/>
            <a:ext cx="3379680" cy="4572000"/>
            <a:chOff x="0" y="2133720"/>
            <a:chExt cx="3379680" cy="4572000"/>
          </a:xfrm>
        </p:grpSpPr>
        <p:grpSp>
          <p:nvGrpSpPr>
            <p:cNvPr id="864" name="Skupina 244"/>
            <p:cNvGrpSpPr/>
            <p:nvPr/>
          </p:nvGrpSpPr>
          <p:grpSpPr>
            <a:xfrm>
              <a:off x="0" y="2133720"/>
              <a:ext cx="3379680" cy="4572000"/>
              <a:chOff x="0" y="2133720"/>
              <a:chExt cx="3379680" cy="4572000"/>
            </a:xfrm>
          </p:grpSpPr>
          <p:grpSp>
            <p:nvGrpSpPr>
              <p:cNvPr id="865" name="Skupina 100"/>
              <p:cNvGrpSpPr/>
              <p:nvPr/>
            </p:nvGrpSpPr>
            <p:grpSpPr>
              <a:xfrm>
                <a:off x="0" y="2133720"/>
                <a:ext cx="2779920" cy="4572000"/>
                <a:chOff x="0" y="2133720"/>
                <a:chExt cx="2779920" cy="4572000"/>
              </a:xfrm>
            </p:grpSpPr>
            <p:grpSp>
              <p:nvGrpSpPr>
                <p:cNvPr id="866" name="Skupina 79"/>
                <p:cNvGrpSpPr/>
                <p:nvPr/>
              </p:nvGrpSpPr>
              <p:grpSpPr>
                <a:xfrm>
                  <a:off x="584640" y="2133720"/>
                  <a:ext cx="2195280" cy="4572000"/>
                  <a:chOff x="584640" y="2133720"/>
                  <a:chExt cx="2195280" cy="4572000"/>
                </a:xfrm>
              </p:grpSpPr>
              <p:cxnSp>
                <p:nvCxnSpPr>
                  <p:cNvPr id="867" name="Přímá spojovací šipka 77"/>
                  <p:cNvCxnSpPr/>
                  <p:nvPr/>
                </p:nvCxnSpPr>
                <p:spPr>
                  <a:xfrm>
                    <a:off x="2194200" y="5567760"/>
                    <a:ext cx="1080" cy="5612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868" name="TextovéPole 86"/>
                  <p:cNvSpPr/>
                  <p:nvPr/>
                </p:nvSpPr>
                <p:spPr>
                  <a:xfrm>
                    <a:off x="2194560" y="5568120"/>
                    <a:ext cx="5853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9" name="Skupina 75"/>
                  <p:cNvGrpSpPr/>
                  <p:nvPr/>
                </p:nvGrpSpPr>
                <p:grpSpPr>
                  <a:xfrm>
                    <a:off x="584640" y="2895480"/>
                    <a:ext cx="1609920" cy="3810240"/>
                    <a:chOff x="584640" y="2895480"/>
                    <a:chExt cx="1609920" cy="3810240"/>
                  </a:xfrm>
                </p:grpSpPr>
                <p:grpSp>
                  <p:nvGrpSpPr>
                    <p:cNvPr id="870" name="Skupina 1"/>
                    <p:cNvGrpSpPr/>
                    <p:nvPr/>
                  </p:nvGrpSpPr>
                  <p:grpSpPr>
                    <a:xfrm>
                      <a:off x="584640" y="4076280"/>
                      <a:ext cx="1609920" cy="2629440"/>
                      <a:chOff x="584640" y="4076280"/>
                      <a:chExt cx="1609920" cy="2629440"/>
                    </a:xfrm>
                  </p:grpSpPr>
                  <p:grpSp>
                    <p:nvGrpSpPr>
                      <p:cNvPr id="871" name="Skupina 3"/>
                      <p:cNvGrpSpPr/>
                      <p:nvPr/>
                    </p:nvGrpSpPr>
                    <p:grpSpPr>
                      <a:xfrm>
                        <a:off x="584640" y="4076280"/>
                        <a:ext cx="1609920" cy="2629440"/>
                        <a:chOff x="584640" y="4076280"/>
                        <a:chExt cx="1609920" cy="2629440"/>
                      </a:xfrm>
                    </p:grpSpPr>
                    <p:sp>
                      <p:nvSpPr>
                        <p:cNvPr id="872" name="Elipsa 6"/>
                        <p:cNvSpPr/>
                        <p:nvPr/>
                      </p:nvSpPr>
                      <p:spPr>
                        <a:xfrm>
                          <a:off x="1023840" y="452736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Přímá spojovací čára 7"/>
                        <p:cNvSpPr/>
                        <p:nvPr/>
                      </p:nvSpPr>
                      <p:spPr>
                        <a:xfrm>
                          <a:off x="1316520" y="483192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Přímá spojovací čára 8"/>
                        <p:cNvSpPr/>
                        <p:nvPr/>
                      </p:nvSpPr>
                      <p:spPr>
                        <a:xfrm flipV="1">
                          <a:off x="1316520" y="470556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5" name="Přímá spojovací čára 9"/>
                        <p:cNvSpPr/>
                        <p:nvPr/>
                      </p:nvSpPr>
                      <p:spPr>
                        <a:xfrm>
                          <a:off x="1316520" y="513684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6" name="Přímá spojovací čára 10"/>
                        <p:cNvSpPr/>
                        <p:nvPr/>
                      </p:nvSpPr>
                      <p:spPr>
                        <a:xfrm flipH="1">
                          <a:off x="1023480" y="513684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7" name="Přímá spojovací čára 11"/>
                        <p:cNvSpPr/>
                        <p:nvPr/>
                      </p:nvSpPr>
                      <p:spPr>
                        <a:xfrm>
                          <a:off x="2023200" y="407628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Přímá spojovací čára 12"/>
                        <p:cNvSpPr/>
                        <p:nvPr/>
                      </p:nvSpPr>
                      <p:spPr>
                        <a:xfrm>
                          <a:off x="2023200" y="5568120"/>
                          <a:ext cx="24840" cy="11376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9" name="Přímá spojovací čára 13"/>
                        <p:cNvSpPr/>
                        <p:nvPr/>
                      </p:nvSpPr>
                      <p:spPr>
                        <a:xfrm flipH="1">
                          <a:off x="584640" y="513684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80" name="TextovéPole 3"/>
                      <p:cNvSpPr/>
                      <p:nvPr/>
                    </p:nvSpPr>
                    <p:spPr>
                      <a:xfrm>
                        <a:off x="731160" y="466128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1" name="TextovéPole 4"/>
                      <p:cNvSpPr/>
                      <p:nvPr/>
                    </p:nvSpPr>
                    <p:spPr>
                      <a:xfrm>
                        <a:off x="1609200" y="407628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TextovéPole 5"/>
                      <p:cNvSpPr/>
                      <p:nvPr/>
                    </p:nvSpPr>
                    <p:spPr>
                      <a:xfrm>
                        <a:off x="1609200" y="568548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83" name="Přímá spojovací čára 39"/>
                    <p:cNvSpPr/>
                    <p:nvPr/>
                  </p:nvSpPr>
                  <p:spPr>
                    <a:xfrm flipV="1">
                      <a:off x="585000" y="2895480"/>
                      <a:ext cx="0" cy="2241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4" name="Elipsa 24"/>
                  <p:cNvSpPr/>
                  <p:nvPr/>
                </p:nvSpPr>
                <p:spPr>
                  <a:xfrm rot="10800000">
                    <a:off x="1316520" y="2279880"/>
                    <a:ext cx="146160" cy="1461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Přímá spojovací čára 262"/>
                  <p:cNvSpPr/>
                  <p:nvPr/>
                </p:nvSpPr>
                <p:spPr>
                  <a:xfrm>
                    <a:off x="1901880" y="6705720"/>
                    <a:ext cx="292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TextovéPole 263"/>
                  <p:cNvSpPr/>
                  <p:nvPr/>
                </p:nvSpPr>
                <p:spPr>
                  <a:xfrm>
                    <a:off x="1463040" y="2133720"/>
                    <a:ext cx="13168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+U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Přímá spojovací čára 264"/>
                  <p:cNvSpPr/>
                  <p:nvPr/>
                </p:nvSpPr>
                <p:spPr>
                  <a:xfrm>
                    <a:off x="585000" y="2895480"/>
                    <a:ext cx="1463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Přímá spojovací čára 265"/>
                  <p:cNvSpPr/>
                  <p:nvPr/>
                </p:nvSpPr>
                <p:spPr>
                  <a:xfrm>
                    <a:off x="1389600" y="2426040"/>
                    <a:ext cx="0" cy="469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Elipsa 24"/>
                  <p:cNvSpPr/>
                  <p:nvPr/>
                </p:nvSpPr>
                <p:spPr>
                  <a:xfrm rot="10800000">
                    <a:off x="1316520" y="2822400"/>
                    <a:ext cx="146160" cy="146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890" name="Přímá spojovací šipka 79"/>
                <p:cNvCxnSpPr/>
                <p:nvPr/>
              </p:nvCxnSpPr>
              <p:spPr>
                <a:xfrm>
                  <a:off x="2121120" y="4145040"/>
                  <a:ext cx="1080" cy="43956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891" name="TextovéPole 87"/>
                <p:cNvSpPr/>
                <p:nvPr/>
              </p:nvSpPr>
              <p:spPr>
                <a:xfrm>
                  <a:off x="2133720" y="4114800"/>
                  <a:ext cx="585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ovéPole 88"/>
                <p:cNvSpPr/>
                <p:nvPr/>
              </p:nvSpPr>
              <p:spPr>
                <a:xfrm>
                  <a:off x="0" y="4438080"/>
                  <a:ext cx="585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893" name="Přímá spojovací šipka 78"/>
                <p:cNvCxnSpPr/>
                <p:nvPr/>
              </p:nvCxnSpPr>
              <p:spPr>
                <a:xfrm>
                  <a:off x="438480" y="4438080"/>
                  <a:ext cx="1080" cy="5126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894" name="Skupina 111"/>
              <p:cNvGrpSpPr/>
              <p:nvPr/>
            </p:nvGrpSpPr>
            <p:grpSpPr>
              <a:xfrm>
                <a:off x="1609200" y="4511160"/>
                <a:ext cx="1770480" cy="1243440"/>
                <a:chOff x="1609200" y="4511160"/>
                <a:chExt cx="1770480" cy="1243440"/>
              </a:xfrm>
            </p:grpSpPr>
            <p:sp>
              <p:nvSpPr>
                <p:cNvPr id="895" name="Oblouk 250"/>
                <p:cNvSpPr/>
                <p:nvPr/>
              </p:nvSpPr>
              <p:spPr>
                <a:xfrm>
                  <a:off x="1609200" y="4511160"/>
                  <a:ext cx="995040" cy="1243440"/>
                </a:xfrm>
                <a:custGeom>
                  <a:avLst/>
                  <a:gdLst>
                    <a:gd name="textAreaLeft" fmla="*/ 708840 w 995040"/>
                    <a:gd name="textAreaRight" fmla="*/ 995400 w 995040"/>
                    <a:gd name="textAreaTop" fmla="*/ 72360 h 1243440"/>
                    <a:gd name="textAreaBottom" fmla="*/ 1184760 h 1243440"/>
                  </a:gdLst>
                  <a:ahLst/>
                  <a:rect l="textAreaLeft" t="textAreaTop" r="textAreaRight" b="textAreaBottom"/>
                  <a:pathLst>
                    <a:path stroke="0" w="2590800" h="2590800">
                      <a:moveTo>
                        <a:pt x="1901959" y="150783"/>
                      </a:moveTo>
                      <a:lnTo>
                        <a:pt x="1901959" y="150783"/>
                      </a:lnTo>
                      <a:arcTo wR="1295400" hR="1295400" stAng="-3724791" swAng="7616947"/>
                      <a:lnTo>
                        <a:pt x="1295400" y="1295400"/>
                      </a:lnTo>
                      <a:close/>
                    </a:path>
                    <a:path fill="none" w="2590800" h="2590800">
                      <a:moveTo>
                        <a:pt x="1901959" y="150783"/>
                      </a:moveTo>
                      <a:lnTo>
                        <a:pt x="1901959" y="150783"/>
                      </a:lnTo>
                      <a:arcTo wR="1295400" hR="1295400" stAng="-3724791" swAng="7616947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ovéPole 251"/>
                <p:cNvSpPr/>
                <p:nvPr/>
              </p:nvSpPr>
              <p:spPr>
                <a:xfrm>
                  <a:off x="2560320" y="4950000"/>
                  <a:ext cx="819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C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Skupina 113"/>
              <p:cNvGrpSpPr/>
              <p:nvPr/>
            </p:nvGrpSpPr>
            <p:grpSpPr>
              <a:xfrm>
                <a:off x="585000" y="3779640"/>
                <a:ext cx="2560320" cy="2487240"/>
                <a:chOff x="585000" y="3779640"/>
                <a:chExt cx="2560320" cy="2487240"/>
              </a:xfrm>
            </p:grpSpPr>
            <p:sp>
              <p:nvSpPr>
                <p:cNvPr id="898" name="Oblouk 248"/>
                <p:cNvSpPr/>
                <p:nvPr/>
              </p:nvSpPr>
              <p:spPr>
                <a:xfrm>
                  <a:off x="658080" y="3779640"/>
                  <a:ext cx="2487240" cy="2487240"/>
                </a:xfrm>
                <a:custGeom>
                  <a:avLst/>
                  <a:gdLst>
                    <a:gd name="textAreaLeft" fmla="*/ 23760 w 2487240"/>
                    <a:gd name="textAreaRight" fmla="*/ 1253160 w 2487240"/>
                    <a:gd name="textAreaTop" fmla="*/ 1485720 h 2487240"/>
                    <a:gd name="textAreaBottom" fmla="*/ 2487600 h 2487240"/>
                  </a:gdLst>
                  <a:ahLst/>
                  <a:rect l="textAreaLeft" t="textAreaTop" r="textAreaRight" b="textAreaBottom"/>
                  <a:pathLst>
                    <a:path stroke="0" w="2590800" h="2590800">
                      <a:moveTo>
                        <a:pt x="1305364" y="2590762"/>
                      </a:moveTo>
                      <a:lnTo>
                        <a:pt x="1305364" y="2590762"/>
                      </a:lnTo>
                      <a:arcTo wR="1295400" hR="1295400" stAng="5373557" swAng="4753014"/>
                      <a:lnTo>
                        <a:pt x="1295400" y="1295400"/>
                      </a:lnTo>
                      <a:close/>
                    </a:path>
                    <a:path fill="none" w="2590800" h="2590800">
                      <a:moveTo>
                        <a:pt x="1305364" y="2590762"/>
                      </a:moveTo>
                      <a:lnTo>
                        <a:pt x="1305364" y="2590762"/>
                      </a:lnTo>
                      <a:arcTo wR="1295400" hR="1295400" stAng="5373557" swAng="4753014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ovéPole 249"/>
                <p:cNvSpPr/>
                <p:nvPr/>
              </p:nvSpPr>
              <p:spPr>
                <a:xfrm>
                  <a:off x="585000" y="5754960"/>
                  <a:ext cx="862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B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Skupina 147"/>
            <p:cNvGrpSpPr/>
            <p:nvPr/>
          </p:nvGrpSpPr>
          <p:grpSpPr>
            <a:xfrm>
              <a:off x="1871640" y="2895480"/>
              <a:ext cx="304560" cy="1585800"/>
              <a:chOff x="1871640" y="2895480"/>
              <a:chExt cx="304560" cy="1585800"/>
            </a:xfrm>
          </p:grpSpPr>
          <p:sp>
            <p:nvSpPr>
              <p:cNvPr id="901" name="Obdélník 148"/>
              <p:cNvSpPr/>
              <p:nvPr/>
            </p:nvSpPr>
            <p:spPr>
              <a:xfrm rot="5400000">
                <a:off x="1643040" y="3566880"/>
                <a:ext cx="76176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Přímá spojovací čára 149"/>
              <p:cNvSpPr/>
              <p:nvPr/>
            </p:nvSpPr>
            <p:spPr>
              <a:xfrm>
                <a:off x="2023920" y="41004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Přímá spojovací čára 150"/>
              <p:cNvSpPr/>
              <p:nvPr/>
            </p:nvSpPr>
            <p:spPr>
              <a:xfrm>
                <a:off x="2023920" y="289548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TextovéPole 153"/>
            <p:cNvSpPr/>
            <p:nvPr/>
          </p:nvSpPr>
          <p:spPr>
            <a:xfrm>
              <a:off x="2210040" y="35053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TextovéPole 154"/>
          <p:cNvSpPr/>
          <p:nvPr/>
        </p:nvSpPr>
        <p:spPr>
          <a:xfrm>
            <a:off x="3048120" y="24382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é můžeme 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ozdělit na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ovéPole 207"/>
          <p:cNvSpPr/>
          <p:nvPr/>
        </p:nvSpPr>
        <p:spPr>
          <a:xfrm>
            <a:off x="3048120" y="4343400"/>
            <a:ext cx="289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čemž musí plat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ovéPole 208"/>
          <p:cNvSpPr/>
          <p:nvPr/>
        </p:nvSpPr>
        <p:spPr>
          <a:xfrm>
            <a:off x="2666880" y="3505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,5 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Skupina 157"/>
          <p:cNvGrpSpPr/>
          <p:nvPr/>
        </p:nvGrpSpPr>
        <p:grpSpPr>
          <a:xfrm>
            <a:off x="5562720" y="1600200"/>
            <a:ext cx="3379680" cy="5105520"/>
            <a:chOff x="5562720" y="1600200"/>
            <a:chExt cx="3379680" cy="5105520"/>
          </a:xfrm>
        </p:grpSpPr>
        <p:grpSp>
          <p:nvGrpSpPr>
            <p:cNvPr id="909" name="Skupina 244"/>
            <p:cNvGrpSpPr/>
            <p:nvPr/>
          </p:nvGrpSpPr>
          <p:grpSpPr>
            <a:xfrm>
              <a:off x="5562720" y="1600200"/>
              <a:ext cx="3379680" cy="5105520"/>
              <a:chOff x="5562720" y="1600200"/>
              <a:chExt cx="3379680" cy="5105520"/>
            </a:xfrm>
          </p:grpSpPr>
          <p:grpSp>
            <p:nvGrpSpPr>
              <p:cNvPr id="910" name="Skupina 100"/>
              <p:cNvGrpSpPr/>
              <p:nvPr/>
            </p:nvGrpSpPr>
            <p:grpSpPr>
              <a:xfrm>
                <a:off x="5562720" y="1600200"/>
                <a:ext cx="2779920" cy="5105520"/>
                <a:chOff x="5562720" y="1600200"/>
                <a:chExt cx="2779920" cy="5105520"/>
              </a:xfrm>
            </p:grpSpPr>
            <p:grpSp>
              <p:nvGrpSpPr>
                <p:cNvPr id="911" name="Skupina 79"/>
                <p:cNvGrpSpPr/>
                <p:nvPr/>
              </p:nvGrpSpPr>
              <p:grpSpPr>
                <a:xfrm>
                  <a:off x="6147360" y="1600200"/>
                  <a:ext cx="2195280" cy="5105520"/>
                  <a:chOff x="6147360" y="1600200"/>
                  <a:chExt cx="2195280" cy="5105520"/>
                </a:xfrm>
              </p:grpSpPr>
              <p:cxnSp>
                <p:nvCxnSpPr>
                  <p:cNvPr id="912" name="Přímá spojovací šipka 77"/>
                  <p:cNvCxnSpPr/>
                  <p:nvPr/>
                </p:nvCxnSpPr>
                <p:spPr>
                  <a:xfrm>
                    <a:off x="7756920" y="5034240"/>
                    <a:ext cx="1080" cy="5612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913" name="TextovéPole 86"/>
                  <p:cNvSpPr/>
                  <p:nvPr/>
                </p:nvSpPr>
                <p:spPr>
                  <a:xfrm>
                    <a:off x="7757280" y="5034600"/>
                    <a:ext cx="58536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4" name="Skupina 75"/>
                  <p:cNvGrpSpPr/>
                  <p:nvPr/>
                </p:nvGrpSpPr>
                <p:grpSpPr>
                  <a:xfrm>
                    <a:off x="6147360" y="2361960"/>
                    <a:ext cx="1609920" cy="3249720"/>
                    <a:chOff x="6147360" y="2361960"/>
                    <a:chExt cx="1609920" cy="3249720"/>
                  </a:xfrm>
                </p:grpSpPr>
                <p:grpSp>
                  <p:nvGrpSpPr>
                    <p:cNvPr id="915" name="Skupina 1"/>
                    <p:cNvGrpSpPr/>
                    <p:nvPr/>
                  </p:nvGrpSpPr>
                  <p:grpSpPr>
                    <a:xfrm>
                      <a:off x="6147360" y="3542760"/>
                      <a:ext cx="1609920" cy="2068920"/>
                      <a:chOff x="6147360" y="3542760"/>
                      <a:chExt cx="1609920" cy="2068920"/>
                    </a:xfrm>
                  </p:grpSpPr>
                  <p:grpSp>
                    <p:nvGrpSpPr>
                      <p:cNvPr id="916" name="Skupina 3"/>
                      <p:cNvGrpSpPr/>
                      <p:nvPr/>
                    </p:nvGrpSpPr>
                    <p:grpSpPr>
                      <a:xfrm>
                        <a:off x="6147360" y="3542760"/>
                        <a:ext cx="1609920" cy="2019960"/>
                        <a:chOff x="6147360" y="3542760"/>
                        <a:chExt cx="1609920" cy="2019960"/>
                      </a:xfrm>
                    </p:grpSpPr>
                    <p:sp>
                      <p:nvSpPr>
                        <p:cNvPr id="917" name="Elipsa 6"/>
                        <p:cNvSpPr/>
                        <p:nvPr/>
                      </p:nvSpPr>
                      <p:spPr>
                        <a:xfrm>
                          <a:off x="6586560" y="399384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8" name="Přímá spojovací čára 7"/>
                        <p:cNvSpPr/>
                        <p:nvPr/>
                      </p:nvSpPr>
                      <p:spPr>
                        <a:xfrm>
                          <a:off x="6879240" y="429876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9" name="Přímá spojovací čára 8"/>
                        <p:cNvSpPr/>
                        <p:nvPr/>
                      </p:nvSpPr>
                      <p:spPr>
                        <a:xfrm flipV="1">
                          <a:off x="6879240" y="417204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0" name="Přímá spojovací čára 9"/>
                        <p:cNvSpPr/>
                        <p:nvPr/>
                      </p:nvSpPr>
                      <p:spPr>
                        <a:xfrm>
                          <a:off x="6879240" y="460368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1" name="Přímá spojovací čára 10"/>
                        <p:cNvSpPr/>
                        <p:nvPr/>
                      </p:nvSpPr>
                      <p:spPr>
                        <a:xfrm flipH="1">
                          <a:off x="6586200" y="460368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2" name="Přímá spojovací čára 11"/>
                        <p:cNvSpPr/>
                        <p:nvPr/>
                      </p:nvSpPr>
                      <p:spPr>
                        <a:xfrm>
                          <a:off x="7585920" y="354276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3" name="Přímá spojovací čára 12"/>
                        <p:cNvSpPr/>
                        <p:nvPr/>
                      </p:nvSpPr>
                      <p:spPr>
                        <a:xfrm>
                          <a:off x="7585920" y="5034600"/>
                          <a:ext cx="10800" cy="5281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4" name="Přímá spojovací čára 13"/>
                        <p:cNvSpPr/>
                        <p:nvPr/>
                      </p:nvSpPr>
                      <p:spPr>
                        <a:xfrm flipH="1">
                          <a:off x="6147360" y="460368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25" name="TextovéPole 3"/>
                      <p:cNvSpPr/>
                      <p:nvPr/>
                    </p:nvSpPr>
                    <p:spPr>
                      <a:xfrm>
                        <a:off x="6293880" y="412776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6" name="TextovéPole 4"/>
                      <p:cNvSpPr/>
                      <p:nvPr/>
                    </p:nvSpPr>
                    <p:spPr>
                      <a:xfrm>
                        <a:off x="7171920" y="354276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7" name="TextovéPole 5"/>
                      <p:cNvSpPr/>
                      <p:nvPr/>
                    </p:nvSpPr>
                    <p:spPr>
                      <a:xfrm>
                        <a:off x="7171920" y="515196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28" name="Přímá spojovací čára 39"/>
                    <p:cNvSpPr/>
                    <p:nvPr/>
                  </p:nvSpPr>
                  <p:spPr>
                    <a:xfrm flipV="1">
                      <a:off x="6147720" y="2361960"/>
                      <a:ext cx="0" cy="2241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9" name="Elipsa 24"/>
                  <p:cNvSpPr/>
                  <p:nvPr/>
                </p:nvSpPr>
                <p:spPr>
                  <a:xfrm rot="10800000">
                    <a:off x="6879240" y="1746360"/>
                    <a:ext cx="146160" cy="1461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Přímá spojovací čára 180"/>
                  <p:cNvSpPr/>
                  <p:nvPr/>
                </p:nvSpPr>
                <p:spPr>
                  <a:xfrm>
                    <a:off x="7464600" y="6705720"/>
                    <a:ext cx="292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TextovéPole 181"/>
                  <p:cNvSpPr/>
                  <p:nvPr/>
                </p:nvSpPr>
                <p:spPr>
                  <a:xfrm>
                    <a:off x="7025760" y="1600200"/>
                    <a:ext cx="13168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+U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Přímá spojovací čára 182"/>
                  <p:cNvSpPr/>
                  <p:nvPr/>
                </p:nvSpPr>
                <p:spPr>
                  <a:xfrm>
                    <a:off x="6147720" y="2361960"/>
                    <a:ext cx="1463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Přímá spojovací čára 183"/>
                  <p:cNvSpPr/>
                  <p:nvPr/>
                </p:nvSpPr>
                <p:spPr>
                  <a:xfrm>
                    <a:off x="6952320" y="1892520"/>
                    <a:ext cx="0" cy="469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Elipsa 24"/>
                  <p:cNvSpPr/>
                  <p:nvPr/>
                </p:nvSpPr>
                <p:spPr>
                  <a:xfrm rot="10800000">
                    <a:off x="6879240" y="2288880"/>
                    <a:ext cx="146160" cy="146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935" name="Přímá spojovací šipka 79"/>
                <p:cNvCxnSpPr/>
                <p:nvPr/>
              </p:nvCxnSpPr>
              <p:spPr>
                <a:xfrm>
                  <a:off x="7683840" y="3611520"/>
                  <a:ext cx="1080" cy="43956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936" name="TextovéPole 87"/>
                <p:cNvSpPr/>
                <p:nvPr/>
              </p:nvSpPr>
              <p:spPr>
                <a:xfrm>
                  <a:off x="7696440" y="3581280"/>
                  <a:ext cx="585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TextovéPole 88"/>
                <p:cNvSpPr/>
                <p:nvPr/>
              </p:nvSpPr>
              <p:spPr>
                <a:xfrm>
                  <a:off x="5562720" y="3904560"/>
                  <a:ext cx="585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938" name="Přímá spojovací šipka 78"/>
                <p:cNvCxnSpPr/>
                <p:nvPr/>
              </p:nvCxnSpPr>
              <p:spPr>
                <a:xfrm>
                  <a:off x="6001200" y="3904560"/>
                  <a:ext cx="1080" cy="5126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939" name="Skupina 111"/>
              <p:cNvGrpSpPr/>
              <p:nvPr/>
            </p:nvGrpSpPr>
            <p:grpSpPr>
              <a:xfrm>
                <a:off x="7171920" y="3977640"/>
                <a:ext cx="1770480" cy="1243440"/>
                <a:chOff x="7171920" y="3977640"/>
                <a:chExt cx="1770480" cy="1243440"/>
              </a:xfrm>
            </p:grpSpPr>
            <p:sp>
              <p:nvSpPr>
                <p:cNvPr id="940" name="Oblouk 169"/>
                <p:cNvSpPr/>
                <p:nvPr/>
              </p:nvSpPr>
              <p:spPr>
                <a:xfrm>
                  <a:off x="7171920" y="3977640"/>
                  <a:ext cx="995040" cy="1243440"/>
                </a:xfrm>
                <a:custGeom>
                  <a:avLst/>
                  <a:gdLst>
                    <a:gd name="textAreaLeft" fmla="*/ 708840 w 995040"/>
                    <a:gd name="textAreaRight" fmla="*/ 995400 w 995040"/>
                    <a:gd name="textAreaTop" fmla="*/ 72360 h 1243440"/>
                    <a:gd name="textAreaBottom" fmla="*/ 1184760 h 1243440"/>
                  </a:gdLst>
                  <a:ahLst/>
                  <a:rect l="textAreaLeft" t="textAreaTop" r="textAreaRight" b="textAreaBottom"/>
                  <a:pathLst>
                    <a:path stroke="0" w="2590800" h="2590800">
                      <a:moveTo>
                        <a:pt x="1901959" y="150783"/>
                      </a:moveTo>
                      <a:lnTo>
                        <a:pt x="1901959" y="150783"/>
                      </a:lnTo>
                      <a:arcTo wR="1295400" hR="1295400" stAng="-3724791" swAng="7616947"/>
                      <a:lnTo>
                        <a:pt x="1295400" y="1295400"/>
                      </a:lnTo>
                      <a:close/>
                    </a:path>
                    <a:path fill="none" w="2590800" h="2590800">
                      <a:moveTo>
                        <a:pt x="1901959" y="150783"/>
                      </a:moveTo>
                      <a:lnTo>
                        <a:pt x="1901959" y="150783"/>
                      </a:lnTo>
                      <a:arcTo wR="1295400" hR="1295400" stAng="-3724791" swAng="7616947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TextovéPole 170"/>
                <p:cNvSpPr/>
                <p:nvPr/>
              </p:nvSpPr>
              <p:spPr>
                <a:xfrm>
                  <a:off x="8123040" y="4416480"/>
                  <a:ext cx="819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C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Skupina 113"/>
              <p:cNvGrpSpPr/>
              <p:nvPr/>
            </p:nvGrpSpPr>
            <p:grpSpPr>
              <a:xfrm>
                <a:off x="6147720" y="3246120"/>
                <a:ext cx="2560320" cy="2487240"/>
                <a:chOff x="6147720" y="3246120"/>
                <a:chExt cx="2560320" cy="2487240"/>
              </a:xfrm>
            </p:grpSpPr>
            <p:sp>
              <p:nvSpPr>
                <p:cNvPr id="943" name="Oblouk 167"/>
                <p:cNvSpPr/>
                <p:nvPr/>
              </p:nvSpPr>
              <p:spPr>
                <a:xfrm>
                  <a:off x="6220800" y="3246120"/>
                  <a:ext cx="2487240" cy="2487240"/>
                </a:xfrm>
                <a:custGeom>
                  <a:avLst/>
                  <a:gdLst>
                    <a:gd name="textAreaLeft" fmla="*/ 23760 w 2487240"/>
                    <a:gd name="textAreaRight" fmla="*/ 1253160 w 2487240"/>
                    <a:gd name="textAreaTop" fmla="*/ 1485720 h 2487240"/>
                    <a:gd name="textAreaBottom" fmla="*/ 2487600 h 2487240"/>
                  </a:gdLst>
                  <a:ahLst/>
                  <a:rect l="textAreaLeft" t="textAreaTop" r="textAreaRight" b="textAreaBottom"/>
                  <a:pathLst>
                    <a:path stroke="0" w="2590800" h="2590800">
                      <a:moveTo>
                        <a:pt x="1305364" y="2590762"/>
                      </a:moveTo>
                      <a:lnTo>
                        <a:pt x="1305364" y="2590762"/>
                      </a:lnTo>
                      <a:arcTo wR="1295400" hR="1295400" stAng="5373557" swAng="4753014"/>
                      <a:lnTo>
                        <a:pt x="1295400" y="1295400"/>
                      </a:lnTo>
                      <a:close/>
                    </a:path>
                    <a:path fill="none" w="2590800" h="2590800">
                      <a:moveTo>
                        <a:pt x="1305364" y="2590762"/>
                      </a:moveTo>
                      <a:lnTo>
                        <a:pt x="1305364" y="2590762"/>
                      </a:lnTo>
                      <a:arcTo wR="1295400" hR="1295400" stAng="5373557" swAng="4753014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TextovéPole 168"/>
                <p:cNvSpPr/>
                <p:nvPr/>
              </p:nvSpPr>
              <p:spPr>
                <a:xfrm>
                  <a:off x="6147720" y="5221440"/>
                  <a:ext cx="58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B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5" name="Skupina 147"/>
            <p:cNvGrpSpPr/>
            <p:nvPr/>
          </p:nvGrpSpPr>
          <p:grpSpPr>
            <a:xfrm>
              <a:off x="7434360" y="2361960"/>
              <a:ext cx="304560" cy="4343760"/>
              <a:chOff x="7434360" y="2361960"/>
              <a:chExt cx="304560" cy="4343760"/>
            </a:xfrm>
          </p:grpSpPr>
          <p:sp>
            <p:nvSpPr>
              <p:cNvPr id="946" name="Obdélník 148"/>
              <p:cNvSpPr/>
              <p:nvPr/>
            </p:nvSpPr>
            <p:spPr>
              <a:xfrm rot="5400000">
                <a:off x="7205400" y="3033360"/>
                <a:ext cx="762120" cy="304560"/>
              </a:xfrm>
              <a:prstGeom prst="rect">
                <a:avLst/>
              </a:prstGeom>
              <a:noFill/>
              <a:ln w="38160">
                <a:solidFill>
                  <a:srgbClr val="703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Přímá spojovací čára 149"/>
              <p:cNvSpPr/>
              <p:nvPr/>
            </p:nvSpPr>
            <p:spPr>
              <a:xfrm>
                <a:off x="7586640" y="356688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Přímá spojovací čára 150"/>
              <p:cNvSpPr/>
              <p:nvPr/>
            </p:nvSpPr>
            <p:spPr>
              <a:xfrm>
                <a:off x="7586640" y="23619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bdélník 148"/>
              <p:cNvSpPr/>
              <p:nvPr/>
            </p:nvSpPr>
            <p:spPr>
              <a:xfrm rot="5400000">
                <a:off x="7205400" y="5791320"/>
                <a:ext cx="762120" cy="304560"/>
              </a:xfrm>
              <a:prstGeom prst="rect">
                <a:avLst/>
              </a:prstGeom>
              <a:noFill/>
              <a:ln w="38160">
                <a:solidFill>
                  <a:srgbClr val="703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Přímá spojovací čára 149"/>
              <p:cNvSpPr/>
              <p:nvPr/>
            </p:nvSpPr>
            <p:spPr>
              <a:xfrm>
                <a:off x="7586640" y="632484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TextovéPole 160"/>
            <p:cNvSpPr/>
            <p:nvPr/>
          </p:nvSpPr>
          <p:spPr>
            <a:xfrm>
              <a:off x="7772760" y="29718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7030a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7030a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ovéPole 206"/>
            <p:cNvSpPr/>
            <p:nvPr/>
          </p:nvSpPr>
          <p:spPr>
            <a:xfrm>
              <a:off x="7772760" y="571536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7030a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7030a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ovéPole 209"/>
          <p:cNvSpPr/>
          <p:nvPr/>
        </p:nvSpPr>
        <p:spPr>
          <a:xfrm>
            <a:off x="8153280" y="5715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030a0"/>
                </a:solidFill>
                <a:latin typeface="Arial"/>
              </a:rPr>
              <a:t>0,5 k</a:t>
            </a:r>
            <a:r>
              <a:rPr b="0" lang="el-GR" sz="2000" spc="-1" strike="noStrike">
                <a:solidFill>
                  <a:srgbClr val="7030a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ovéPole 210"/>
          <p:cNvSpPr/>
          <p:nvPr/>
        </p:nvSpPr>
        <p:spPr>
          <a:xfrm>
            <a:off x="8153280" y="2971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030a0"/>
                </a:solidFill>
                <a:latin typeface="Arial"/>
              </a:rPr>
              <a:t>1 k</a:t>
            </a:r>
            <a:r>
              <a:rPr b="0" lang="el-GR" sz="2000" spc="-1" strike="noStrike">
                <a:solidFill>
                  <a:srgbClr val="7030a0"/>
                </a:solidFill>
                <a:latin typeface="Arial"/>
              </a:rPr>
              <a:t>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959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960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7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968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971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974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977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980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5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986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989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992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9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máme vytvořenou zatěžovací přímku a je třeba určit polohu klidového pracovního bodu 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Skupina 122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035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036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037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038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039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40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41" name="Skupina 75"/>
                    <p:cNvGrpSpPr/>
                    <p:nvPr/>
                  </p:nvGrpSpPr>
                  <p:grpSpPr>
                    <a:xfrm>
                      <a:off x="584640" y="2514240"/>
                      <a:ext cx="1609920" cy="3249720"/>
                      <a:chOff x="584640" y="2514240"/>
                      <a:chExt cx="1609920" cy="3249720"/>
                    </a:xfrm>
                  </p:grpSpPr>
                  <p:grpSp>
                    <p:nvGrpSpPr>
                      <p:cNvPr id="1042" name="Skupina 1"/>
                      <p:cNvGrpSpPr/>
                      <p:nvPr/>
                    </p:nvGrpSpPr>
                    <p:grpSpPr>
                      <a:xfrm>
                        <a:off x="584640" y="3695040"/>
                        <a:ext cx="1609920" cy="2068920"/>
                        <a:chOff x="584640" y="3695040"/>
                        <a:chExt cx="1609920" cy="2068920"/>
                      </a:xfrm>
                    </p:grpSpPr>
                    <p:grpSp>
                      <p:nvGrpSpPr>
                        <p:cNvPr id="1043" name="Skupina 3"/>
                        <p:cNvGrpSpPr/>
                        <p:nvPr/>
                      </p:nvGrpSpPr>
                      <p:grpSpPr>
                        <a:xfrm>
                          <a:off x="584640" y="3695040"/>
                          <a:ext cx="1609920" cy="2019960"/>
                          <a:chOff x="584640" y="3695040"/>
                          <a:chExt cx="1609920" cy="2019960"/>
                        </a:xfrm>
                      </p:grpSpPr>
                      <p:sp>
                        <p:nvSpPr>
                          <p:cNvPr id="1044" name="Elipsa 6"/>
                          <p:cNvSpPr/>
                          <p:nvPr/>
                        </p:nvSpPr>
                        <p:spPr>
                          <a:xfrm>
                            <a:off x="1023840" y="4146120"/>
                            <a:ext cx="1170720" cy="12193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5" name="Přímá spojovací čára 7"/>
                          <p:cNvSpPr/>
                          <p:nvPr/>
                        </p:nvSpPr>
                        <p:spPr>
                          <a:xfrm>
                            <a:off x="1316520" y="4451040"/>
                            <a:ext cx="0" cy="6094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6" name="Přímá spojovací čára 8"/>
                          <p:cNvSpPr/>
                          <p:nvPr/>
                        </p:nvSpPr>
                        <p:spPr>
                          <a:xfrm flipV="1">
                            <a:off x="1316520" y="432432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7" name="Přímá spojovací čára 9"/>
                          <p:cNvSpPr/>
                          <p:nvPr/>
                        </p:nvSpPr>
                        <p:spPr>
                          <a:xfrm>
                            <a:off x="1316520" y="475596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8" name="Přímá spojovací čára 10"/>
                          <p:cNvSpPr/>
                          <p:nvPr/>
                        </p:nvSpPr>
                        <p:spPr>
                          <a:xfrm flipH="1">
                            <a:off x="1023480" y="4755960"/>
                            <a:ext cx="2926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9" name="Přímá spojovací čára 11"/>
                          <p:cNvSpPr/>
                          <p:nvPr/>
                        </p:nvSpPr>
                        <p:spPr>
                          <a:xfrm>
                            <a:off x="2023200" y="3695040"/>
                            <a:ext cx="0" cy="629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0" name="Přímá spojovací čára 12"/>
                          <p:cNvSpPr/>
                          <p:nvPr/>
                        </p:nvSpPr>
                        <p:spPr>
                          <a:xfrm>
                            <a:off x="2023200" y="5186880"/>
                            <a:ext cx="10800" cy="528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1" name="Přímá spojovací čára 13"/>
                          <p:cNvSpPr/>
                          <p:nvPr/>
                        </p:nvSpPr>
                        <p:spPr>
                          <a:xfrm flipH="1">
                            <a:off x="584640" y="4755960"/>
                            <a:ext cx="43884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52" name="TextovéPole 3"/>
                        <p:cNvSpPr/>
                        <p:nvPr/>
                      </p:nvSpPr>
                      <p:spPr>
                        <a:xfrm>
                          <a:off x="731160" y="4280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3" name="TextovéPole 4"/>
                        <p:cNvSpPr/>
                        <p:nvPr/>
                      </p:nvSpPr>
                      <p:spPr>
                        <a:xfrm>
                          <a:off x="1609200" y="3695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TextovéPole 5"/>
                        <p:cNvSpPr/>
                        <p:nvPr/>
                      </p:nvSpPr>
                      <p:spPr>
                        <a:xfrm>
                          <a:off x="1609200" y="53042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E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55" name="Přímá spojovací čára 39"/>
                      <p:cNvSpPr/>
                      <p:nvPr/>
                    </p:nvSpPr>
                    <p:spPr>
                      <a:xfrm flipV="1">
                        <a:off x="585000" y="2514240"/>
                        <a:ext cx="0" cy="22413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6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Přímá spojovací čára 169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TextovéPole 170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Přímá spojovací čára 171"/>
                    <p:cNvSpPr/>
                    <p:nvPr/>
                  </p:nvSpPr>
                  <p:spPr>
                    <a:xfrm>
                      <a:off x="585000" y="2514240"/>
                      <a:ext cx="1463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Přímá spojovací čára 172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062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063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065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066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067" name="Oblouk 158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TextovéPole 159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070" name="Oblouk 156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TextovéPole 157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2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073" name="Obdélník 148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Přímá spojovací čára 149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Přímá spojovací čára 150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TextovéPole 14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ovéPole 147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TextovéPole 128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ovéPole 12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ovéPole 188"/>
          <p:cNvSpPr/>
          <p:nvPr/>
        </p:nvSpPr>
        <p:spPr>
          <a:xfrm>
            <a:off x="3429000" y="1905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íme podle aplik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římá spojovací čára 198"/>
          <p:cNvSpPr/>
          <p:nvPr/>
        </p:nvSpPr>
        <p:spPr>
          <a:xfrm>
            <a:off x="5410080" y="4952880"/>
            <a:ext cx="0" cy="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088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089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6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097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100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103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106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109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4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115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118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0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121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TextovéPole 2"/>
          <p:cNvSpPr/>
          <p:nvPr/>
        </p:nvSpPr>
        <p:spPr>
          <a:xfrm>
            <a:off x="457200" y="99072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klidové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½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6 V (zesil. ve třídě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Skupina 167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166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167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168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169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170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171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2" name="Skupina 75"/>
                    <p:cNvGrpSpPr/>
                    <p:nvPr/>
                  </p:nvGrpSpPr>
                  <p:grpSpPr>
                    <a:xfrm>
                      <a:off x="584640" y="2514240"/>
                      <a:ext cx="1609920" cy="3249720"/>
                      <a:chOff x="584640" y="2514240"/>
                      <a:chExt cx="1609920" cy="3249720"/>
                    </a:xfrm>
                  </p:grpSpPr>
                  <p:grpSp>
                    <p:nvGrpSpPr>
                      <p:cNvPr id="1173" name="Skupina 1"/>
                      <p:cNvGrpSpPr/>
                      <p:nvPr/>
                    </p:nvGrpSpPr>
                    <p:grpSpPr>
                      <a:xfrm>
                        <a:off x="584640" y="3695040"/>
                        <a:ext cx="1609920" cy="2068920"/>
                        <a:chOff x="584640" y="3695040"/>
                        <a:chExt cx="1609920" cy="2068920"/>
                      </a:xfrm>
                    </p:grpSpPr>
                    <p:grpSp>
                      <p:nvGrpSpPr>
                        <p:cNvPr id="1174" name="Skupina 3"/>
                        <p:cNvGrpSpPr/>
                        <p:nvPr/>
                      </p:nvGrpSpPr>
                      <p:grpSpPr>
                        <a:xfrm>
                          <a:off x="584640" y="3695040"/>
                          <a:ext cx="1609920" cy="2019960"/>
                          <a:chOff x="584640" y="3695040"/>
                          <a:chExt cx="1609920" cy="2019960"/>
                        </a:xfrm>
                      </p:grpSpPr>
                      <p:sp>
                        <p:nvSpPr>
                          <p:cNvPr id="1175" name="Elipsa 6"/>
                          <p:cNvSpPr/>
                          <p:nvPr/>
                        </p:nvSpPr>
                        <p:spPr>
                          <a:xfrm>
                            <a:off x="1023840" y="4146120"/>
                            <a:ext cx="1170720" cy="12193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6" name="Přímá spojovací čára 7"/>
                          <p:cNvSpPr/>
                          <p:nvPr/>
                        </p:nvSpPr>
                        <p:spPr>
                          <a:xfrm>
                            <a:off x="1316520" y="4451040"/>
                            <a:ext cx="0" cy="6094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Přímá spojovací čára 8"/>
                          <p:cNvSpPr/>
                          <p:nvPr/>
                        </p:nvSpPr>
                        <p:spPr>
                          <a:xfrm flipV="1">
                            <a:off x="1316520" y="432432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8" name="Přímá spojovací čára 9"/>
                          <p:cNvSpPr/>
                          <p:nvPr/>
                        </p:nvSpPr>
                        <p:spPr>
                          <a:xfrm>
                            <a:off x="1316520" y="475596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9" name="Přímá spojovací čára 10"/>
                          <p:cNvSpPr/>
                          <p:nvPr/>
                        </p:nvSpPr>
                        <p:spPr>
                          <a:xfrm flipH="1">
                            <a:off x="1023480" y="4755960"/>
                            <a:ext cx="2926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0" name="Přímá spojovací čára 11"/>
                          <p:cNvSpPr/>
                          <p:nvPr/>
                        </p:nvSpPr>
                        <p:spPr>
                          <a:xfrm>
                            <a:off x="2023200" y="3695040"/>
                            <a:ext cx="0" cy="629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Přímá spojovací čára 12"/>
                          <p:cNvSpPr/>
                          <p:nvPr/>
                        </p:nvSpPr>
                        <p:spPr>
                          <a:xfrm>
                            <a:off x="2023200" y="5186880"/>
                            <a:ext cx="10800" cy="528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2" name="Přímá spojovací čára 13"/>
                          <p:cNvSpPr/>
                          <p:nvPr/>
                        </p:nvSpPr>
                        <p:spPr>
                          <a:xfrm flipH="1">
                            <a:off x="584640" y="4755960"/>
                            <a:ext cx="43884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83" name="TextovéPole 3"/>
                        <p:cNvSpPr/>
                        <p:nvPr/>
                      </p:nvSpPr>
                      <p:spPr>
                        <a:xfrm>
                          <a:off x="731160" y="4280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4" name="TextovéPole 4"/>
                        <p:cNvSpPr/>
                        <p:nvPr/>
                      </p:nvSpPr>
                      <p:spPr>
                        <a:xfrm>
                          <a:off x="1609200" y="3695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5" name="TextovéPole 5"/>
                        <p:cNvSpPr/>
                        <p:nvPr/>
                      </p:nvSpPr>
                      <p:spPr>
                        <a:xfrm>
                          <a:off x="1609200" y="53042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E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86" name="Přímá spojovací čára 39"/>
                      <p:cNvSpPr/>
                      <p:nvPr/>
                    </p:nvSpPr>
                    <p:spPr>
                      <a:xfrm flipV="1">
                        <a:off x="585000" y="2514240"/>
                        <a:ext cx="0" cy="22413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87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Přímá spojovací čára 215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TextovéPole 216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Přímá spojovací čára 217"/>
                    <p:cNvSpPr/>
                    <p:nvPr/>
                  </p:nvSpPr>
                  <p:spPr>
                    <a:xfrm>
                      <a:off x="585000" y="2514240"/>
                      <a:ext cx="1463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Přímá spojovací čára 218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193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194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96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197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198" name="Oblouk 204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TextovéPole 205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201" name="Oblouk 202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TextovéPole 203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3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204" name="Obdélník 194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Přímá spojovací čára 195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Přímá spojovací čára 196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9" name="TextovéPole 192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TextovéPole 193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1" name="TextovéPole 176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ovéPole 18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217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218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226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229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232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4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235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238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3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244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247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9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250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TextovéPole 2"/>
          <p:cNvSpPr/>
          <p:nvPr/>
        </p:nvSpPr>
        <p:spPr>
          <a:xfrm>
            <a:off x="152280" y="99072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nám schází nastavit na výstupu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4 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deme nastavovat pomocí řídícího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Skupina 144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295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296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297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298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299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300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1" name="Skupina 75"/>
                    <p:cNvGrpSpPr/>
                    <p:nvPr/>
                  </p:nvGrpSpPr>
                  <p:grpSpPr>
                    <a:xfrm>
                      <a:off x="584640" y="2514240"/>
                      <a:ext cx="1609920" cy="3249720"/>
                      <a:chOff x="584640" y="2514240"/>
                      <a:chExt cx="1609920" cy="3249720"/>
                    </a:xfrm>
                  </p:grpSpPr>
                  <p:grpSp>
                    <p:nvGrpSpPr>
                      <p:cNvPr id="1302" name="Skupina 1"/>
                      <p:cNvGrpSpPr/>
                      <p:nvPr/>
                    </p:nvGrpSpPr>
                    <p:grpSpPr>
                      <a:xfrm>
                        <a:off x="584640" y="3695040"/>
                        <a:ext cx="1609920" cy="2068920"/>
                        <a:chOff x="584640" y="3695040"/>
                        <a:chExt cx="1609920" cy="2068920"/>
                      </a:xfrm>
                    </p:grpSpPr>
                    <p:grpSp>
                      <p:nvGrpSpPr>
                        <p:cNvPr id="1303" name="Skupina 3"/>
                        <p:cNvGrpSpPr/>
                        <p:nvPr/>
                      </p:nvGrpSpPr>
                      <p:grpSpPr>
                        <a:xfrm>
                          <a:off x="584640" y="3695040"/>
                          <a:ext cx="1609920" cy="2019960"/>
                          <a:chOff x="584640" y="3695040"/>
                          <a:chExt cx="1609920" cy="2019960"/>
                        </a:xfrm>
                      </p:grpSpPr>
                      <p:sp>
                        <p:nvSpPr>
                          <p:cNvPr id="1304" name="Elipsa 6"/>
                          <p:cNvSpPr/>
                          <p:nvPr/>
                        </p:nvSpPr>
                        <p:spPr>
                          <a:xfrm>
                            <a:off x="1023840" y="4146120"/>
                            <a:ext cx="1170720" cy="12193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5" name="Přímá spojovací čára 7"/>
                          <p:cNvSpPr/>
                          <p:nvPr/>
                        </p:nvSpPr>
                        <p:spPr>
                          <a:xfrm>
                            <a:off x="1316520" y="4451040"/>
                            <a:ext cx="0" cy="6094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6" name="Přímá spojovací čára 8"/>
                          <p:cNvSpPr/>
                          <p:nvPr/>
                        </p:nvSpPr>
                        <p:spPr>
                          <a:xfrm flipV="1">
                            <a:off x="1316520" y="432432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7" name="Přímá spojovací čára 9"/>
                          <p:cNvSpPr/>
                          <p:nvPr/>
                        </p:nvSpPr>
                        <p:spPr>
                          <a:xfrm>
                            <a:off x="1316520" y="475596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8" name="Přímá spojovací čára 10"/>
                          <p:cNvSpPr/>
                          <p:nvPr/>
                        </p:nvSpPr>
                        <p:spPr>
                          <a:xfrm flipH="1">
                            <a:off x="1023480" y="4755960"/>
                            <a:ext cx="2926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9" name="Přímá spojovací čára 11"/>
                          <p:cNvSpPr/>
                          <p:nvPr/>
                        </p:nvSpPr>
                        <p:spPr>
                          <a:xfrm>
                            <a:off x="2023200" y="3695040"/>
                            <a:ext cx="0" cy="629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0" name="Přímá spojovací čára 12"/>
                          <p:cNvSpPr/>
                          <p:nvPr/>
                        </p:nvSpPr>
                        <p:spPr>
                          <a:xfrm>
                            <a:off x="2023200" y="5186880"/>
                            <a:ext cx="10800" cy="528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1" name="Přímá spojovací čára 13"/>
                          <p:cNvSpPr/>
                          <p:nvPr/>
                        </p:nvSpPr>
                        <p:spPr>
                          <a:xfrm flipH="1">
                            <a:off x="584640" y="4755960"/>
                            <a:ext cx="43884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12" name="TextovéPole 3"/>
                        <p:cNvSpPr/>
                        <p:nvPr/>
                      </p:nvSpPr>
                      <p:spPr>
                        <a:xfrm>
                          <a:off x="731160" y="4280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3" name="TextovéPole 4"/>
                        <p:cNvSpPr/>
                        <p:nvPr/>
                      </p:nvSpPr>
                      <p:spPr>
                        <a:xfrm>
                          <a:off x="1609200" y="3695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4" name="TextovéPole 5"/>
                        <p:cNvSpPr/>
                        <p:nvPr/>
                      </p:nvSpPr>
                      <p:spPr>
                        <a:xfrm>
                          <a:off x="1609200" y="53042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E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5" name="Přímá spojovací čára 39"/>
                      <p:cNvSpPr/>
                      <p:nvPr/>
                    </p:nvSpPr>
                    <p:spPr>
                      <a:xfrm flipV="1">
                        <a:off x="585000" y="2514240"/>
                        <a:ext cx="0" cy="22413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16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7" name="Přímá spojovací čára 210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TextovéPole 211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Přímá spojovací čára 212"/>
                    <p:cNvSpPr/>
                    <p:nvPr/>
                  </p:nvSpPr>
                  <p:spPr>
                    <a:xfrm>
                      <a:off x="585000" y="2514240"/>
                      <a:ext cx="1463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0" name="Přímá spojovací čára 213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322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323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325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326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327" name="Oblouk 199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TextovéPole 200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330" name="Oblouk 197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TextovéPole 198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2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333" name="Obdélník 189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Přímá spojovací čára 190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Přímá spojovací čára 191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TextovéPole 17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TextovéPole 188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0" name="TextovéPole 153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ovéPole 154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346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347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355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7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358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0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361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3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364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6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367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9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373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376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8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379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6" name="TextovéPole 2"/>
          <p:cNvSpPr/>
          <p:nvPr/>
        </p:nvSpPr>
        <p:spPr>
          <a:xfrm>
            <a:off x="152280" y="9907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katalogu jsme vyčetli 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1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1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Picture 1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504040" cy="761760"/>
          </a:xfrm>
          <a:prstGeom prst="rect">
            <a:avLst/>
          </a:prstGeom>
          <a:ln w="0">
            <a:noFill/>
          </a:ln>
        </p:spPr>
      </p:pic>
      <p:grpSp>
        <p:nvGrpSpPr>
          <p:cNvPr id="1425" name="Skupina 144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426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427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428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429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430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431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32" name="Skupina 75"/>
                    <p:cNvGrpSpPr/>
                    <p:nvPr/>
                  </p:nvGrpSpPr>
                  <p:grpSpPr>
                    <a:xfrm>
                      <a:off x="584640" y="2514240"/>
                      <a:ext cx="1609920" cy="3249720"/>
                      <a:chOff x="584640" y="2514240"/>
                      <a:chExt cx="1609920" cy="3249720"/>
                    </a:xfrm>
                  </p:grpSpPr>
                  <p:grpSp>
                    <p:nvGrpSpPr>
                      <p:cNvPr id="1433" name="Skupina 1"/>
                      <p:cNvGrpSpPr/>
                      <p:nvPr/>
                    </p:nvGrpSpPr>
                    <p:grpSpPr>
                      <a:xfrm>
                        <a:off x="584640" y="3695040"/>
                        <a:ext cx="1609920" cy="2068920"/>
                        <a:chOff x="584640" y="3695040"/>
                        <a:chExt cx="1609920" cy="2068920"/>
                      </a:xfrm>
                    </p:grpSpPr>
                    <p:grpSp>
                      <p:nvGrpSpPr>
                        <p:cNvPr id="1434" name="Skupina 3"/>
                        <p:cNvGrpSpPr/>
                        <p:nvPr/>
                      </p:nvGrpSpPr>
                      <p:grpSpPr>
                        <a:xfrm>
                          <a:off x="584640" y="3695040"/>
                          <a:ext cx="1609920" cy="2019960"/>
                          <a:chOff x="584640" y="3695040"/>
                          <a:chExt cx="1609920" cy="2019960"/>
                        </a:xfrm>
                      </p:grpSpPr>
                      <p:sp>
                        <p:nvSpPr>
                          <p:cNvPr id="1435" name="Elipsa 6"/>
                          <p:cNvSpPr/>
                          <p:nvPr/>
                        </p:nvSpPr>
                        <p:spPr>
                          <a:xfrm>
                            <a:off x="1023840" y="4146120"/>
                            <a:ext cx="1170720" cy="1219320"/>
                          </a:xfrm>
                          <a:prstGeom prst="ellipse">
                            <a:avLst/>
                          </a:prstGeom>
                          <a:noFill/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6" name="Přímá spojovací čára 7"/>
                          <p:cNvSpPr/>
                          <p:nvPr/>
                        </p:nvSpPr>
                        <p:spPr>
                          <a:xfrm>
                            <a:off x="1316520" y="4451040"/>
                            <a:ext cx="0" cy="60948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7" name="Přímá spojovací čára 8"/>
                          <p:cNvSpPr/>
                          <p:nvPr/>
                        </p:nvSpPr>
                        <p:spPr>
                          <a:xfrm flipV="1">
                            <a:off x="1316520" y="432432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8" name="Přímá spojovací čára 9"/>
                          <p:cNvSpPr/>
                          <p:nvPr/>
                        </p:nvSpPr>
                        <p:spPr>
                          <a:xfrm>
                            <a:off x="1316520" y="4755960"/>
                            <a:ext cx="706320" cy="430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9" name="Přímá spojovací čára 10"/>
                          <p:cNvSpPr/>
                          <p:nvPr/>
                        </p:nvSpPr>
                        <p:spPr>
                          <a:xfrm flipH="1">
                            <a:off x="1023480" y="4755960"/>
                            <a:ext cx="29268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0" name="Přímá spojovací čára 11"/>
                          <p:cNvSpPr/>
                          <p:nvPr/>
                        </p:nvSpPr>
                        <p:spPr>
                          <a:xfrm>
                            <a:off x="2023200" y="3695040"/>
                            <a:ext cx="0" cy="629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1" name="Přímá spojovací čára 12"/>
                          <p:cNvSpPr/>
                          <p:nvPr/>
                        </p:nvSpPr>
                        <p:spPr>
                          <a:xfrm>
                            <a:off x="2023200" y="5186880"/>
                            <a:ext cx="10800" cy="5281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2" name="Přímá spojovací čára 13"/>
                          <p:cNvSpPr/>
                          <p:nvPr/>
                        </p:nvSpPr>
                        <p:spPr>
                          <a:xfrm flipH="1">
                            <a:off x="584640" y="4755960"/>
                            <a:ext cx="43884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3" name="TextovéPole 3"/>
                        <p:cNvSpPr/>
                        <p:nvPr/>
                      </p:nvSpPr>
                      <p:spPr>
                        <a:xfrm>
                          <a:off x="731160" y="4280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4" name="TextovéPole 4"/>
                        <p:cNvSpPr/>
                        <p:nvPr/>
                      </p:nvSpPr>
                      <p:spPr>
                        <a:xfrm>
                          <a:off x="1609200" y="36950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5" name="TextovéPole 5"/>
                        <p:cNvSpPr/>
                        <p:nvPr/>
                      </p:nvSpPr>
                      <p:spPr>
                        <a:xfrm>
                          <a:off x="1609200" y="5304240"/>
                          <a:ext cx="3657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cs-CZ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E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446" name="Přímá spojovací čára 39"/>
                      <p:cNvSpPr/>
                      <p:nvPr/>
                    </p:nvSpPr>
                    <p:spPr>
                      <a:xfrm flipV="1">
                        <a:off x="585000" y="2514240"/>
                        <a:ext cx="0" cy="22413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47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8" name="Přímá spojovací čára 210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TextovéPole 211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Přímá spojovací čára 212"/>
                    <p:cNvSpPr/>
                    <p:nvPr/>
                  </p:nvSpPr>
                  <p:spPr>
                    <a:xfrm>
                      <a:off x="585000" y="2514240"/>
                      <a:ext cx="1463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Přímá spojovací čára 213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453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454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456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457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458" name="Oblouk 199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TextovéPole 200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461" name="Oblouk 197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TextovéPole 198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3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464" name="Obdélník 189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Přímá spojovací čára 190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Přímá spojovací čára 191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9" name="TextovéPole 17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TextovéPole 188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1" name="TextovéPole 153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ovéPole 154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477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478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486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8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489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1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492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4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495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7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498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0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504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6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507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9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510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7" name="TextovéPole 2"/>
          <p:cNvSpPr/>
          <p:nvPr/>
        </p:nvSpPr>
        <p:spPr>
          <a:xfrm>
            <a:off x="152280" y="99072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kost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astavíme rezistorem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ujeme zjistit velikost napětí na rezistoru 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Skupina 122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553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554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555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556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557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558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9" name="Skupina 1"/>
                    <p:cNvGrpSpPr/>
                    <p:nvPr/>
                  </p:nvGrpSpPr>
                  <p:grpSpPr>
                    <a:xfrm>
                      <a:off x="584640" y="3695400"/>
                      <a:ext cx="1609920" cy="2068920"/>
                      <a:chOff x="584640" y="3695400"/>
                      <a:chExt cx="1609920" cy="2068920"/>
                    </a:xfrm>
                  </p:grpSpPr>
                  <p:grpSp>
                    <p:nvGrpSpPr>
                      <p:cNvPr id="1560" name="Skupina 3"/>
                      <p:cNvGrpSpPr/>
                      <p:nvPr/>
                    </p:nvGrpSpPr>
                    <p:grpSpPr>
                      <a:xfrm>
                        <a:off x="584640" y="3695400"/>
                        <a:ext cx="1609920" cy="2019960"/>
                        <a:chOff x="584640" y="3695400"/>
                        <a:chExt cx="1609920" cy="2019960"/>
                      </a:xfrm>
                    </p:grpSpPr>
                    <p:sp>
                      <p:nvSpPr>
                        <p:cNvPr id="1561" name="Elipsa 6"/>
                        <p:cNvSpPr/>
                        <p:nvPr/>
                      </p:nvSpPr>
                      <p:spPr>
                        <a:xfrm>
                          <a:off x="1023840" y="414648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2" name="Přímá spojovací čára 7"/>
                        <p:cNvSpPr/>
                        <p:nvPr/>
                      </p:nvSpPr>
                      <p:spPr>
                        <a:xfrm>
                          <a:off x="1316520" y="445140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3" name="Přímá spojovací čára 8"/>
                        <p:cNvSpPr/>
                        <p:nvPr/>
                      </p:nvSpPr>
                      <p:spPr>
                        <a:xfrm flipV="1">
                          <a:off x="1316520" y="432468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4" name="Přímá spojovací čára 9"/>
                        <p:cNvSpPr/>
                        <p:nvPr/>
                      </p:nvSpPr>
                      <p:spPr>
                        <a:xfrm>
                          <a:off x="1316520" y="475632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5" name="Přímá spojovací čára 10"/>
                        <p:cNvSpPr/>
                        <p:nvPr/>
                      </p:nvSpPr>
                      <p:spPr>
                        <a:xfrm flipH="1">
                          <a:off x="1023480" y="475632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6" name="Přímá spojovací čára 11"/>
                        <p:cNvSpPr/>
                        <p:nvPr/>
                      </p:nvSpPr>
                      <p:spPr>
                        <a:xfrm>
                          <a:off x="2023200" y="369540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7" name="Přímá spojovací čára 12"/>
                        <p:cNvSpPr/>
                        <p:nvPr/>
                      </p:nvSpPr>
                      <p:spPr>
                        <a:xfrm>
                          <a:off x="2023200" y="5187240"/>
                          <a:ext cx="10800" cy="5281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8" name="Přímá spojovací čára 13"/>
                        <p:cNvSpPr/>
                        <p:nvPr/>
                      </p:nvSpPr>
                      <p:spPr>
                        <a:xfrm flipH="1">
                          <a:off x="584640" y="475632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69" name="TextovéPole 3"/>
                      <p:cNvSpPr/>
                      <p:nvPr/>
                    </p:nvSpPr>
                    <p:spPr>
                      <a:xfrm>
                        <a:off x="731160" y="4280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TextovéPole 4"/>
                      <p:cNvSpPr/>
                      <p:nvPr/>
                    </p:nvSpPr>
                    <p:spPr>
                      <a:xfrm>
                        <a:off x="1609200" y="3695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TextovéPole 5"/>
                      <p:cNvSpPr/>
                      <p:nvPr/>
                    </p:nvSpPr>
                    <p:spPr>
                      <a:xfrm>
                        <a:off x="1609200" y="53046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72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3" name="Přímá spojovací čára 169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4" name="TextovéPole 170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Přímá spojovací čára 171"/>
                    <p:cNvSpPr/>
                    <p:nvPr/>
                  </p:nvSpPr>
                  <p:spPr>
                    <a:xfrm>
                      <a:off x="585000" y="2514240"/>
                      <a:ext cx="14634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Přímá spojovací čára 172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578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579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581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582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583" name="Oblouk 158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TextovéPole 159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586" name="Oblouk 156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TextovéPole 157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8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589" name="Obdélník 148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Přímá spojovací čára 149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Přímá spojovací čára 150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TextovéPole 14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TextovéPole 147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TextovéPole 188"/>
              <p:cNvSpPr/>
              <p:nvPr/>
            </p:nvSpPr>
            <p:spPr>
              <a:xfrm>
                <a:off x="0" y="3429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7" name="TextovéPole 128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TextovéPole 12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Skupina 147"/>
          <p:cNvGrpSpPr/>
          <p:nvPr/>
        </p:nvGrpSpPr>
        <p:grpSpPr>
          <a:xfrm>
            <a:off x="456840" y="2514600"/>
            <a:ext cx="304920" cy="2286000"/>
            <a:chOff x="456840" y="2514600"/>
            <a:chExt cx="304920" cy="2286000"/>
          </a:xfrm>
        </p:grpSpPr>
        <p:sp>
          <p:nvSpPr>
            <p:cNvPr id="1603" name="Obdélník 148"/>
            <p:cNvSpPr/>
            <p:nvPr/>
          </p:nvSpPr>
          <p:spPr>
            <a:xfrm rot="5400000">
              <a:off x="228240" y="3504600"/>
              <a:ext cx="7617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Přímá spojovací čára 149"/>
            <p:cNvSpPr/>
            <p:nvPr/>
          </p:nvSpPr>
          <p:spPr>
            <a:xfrm>
              <a:off x="609480" y="4038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Přímá spojovací čára 150"/>
            <p:cNvSpPr/>
            <p:nvPr/>
          </p:nvSpPr>
          <p:spPr>
            <a:xfrm>
              <a:off x="609480" y="25146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610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611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8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619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1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622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4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625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7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628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0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631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6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637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9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640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2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643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0" name="TextovéPole 2"/>
          <p:cNvSpPr/>
          <p:nvPr/>
        </p:nvSpPr>
        <p:spPr>
          <a:xfrm>
            <a:off x="152280" y="99072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jistíme ze smyčky tvořené 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b05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, U</a:t>
            </a:r>
            <a:r>
              <a:rPr b="0" lang="cs-CZ" sz="2800" spc="-1" strike="noStrike" baseline="-25000">
                <a:solidFill>
                  <a:srgbClr val="00b050"/>
                </a:solidFill>
                <a:latin typeface="Arial"/>
              </a:rPr>
              <a:t>RB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, U</a:t>
            </a:r>
            <a:r>
              <a:rPr b="0" lang="cs-CZ" sz="2800" spc="-1" strike="noStrike" baseline="-25000">
                <a:solidFill>
                  <a:srgbClr val="00b05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b050"/>
                </a:solidFill>
                <a:latin typeface="Arial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tud: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5" name="Skupina 122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686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687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688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689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690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691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2" name="Skupina 1"/>
                    <p:cNvGrpSpPr/>
                    <p:nvPr/>
                  </p:nvGrpSpPr>
                  <p:grpSpPr>
                    <a:xfrm>
                      <a:off x="584640" y="3695400"/>
                      <a:ext cx="1609920" cy="2068920"/>
                      <a:chOff x="584640" y="3695400"/>
                      <a:chExt cx="1609920" cy="2068920"/>
                    </a:xfrm>
                  </p:grpSpPr>
                  <p:grpSp>
                    <p:nvGrpSpPr>
                      <p:cNvPr id="1693" name="Skupina 3"/>
                      <p:cNvGrpSpPr/>
                      <p:nvPr/>
                    </p:nvGrpSpPr>
                    <p:grpSpPr>
                      <a:xfrm>
                        <a:off x="584640" y="3695400"/>
                        <a:ext cx="1609920" cy="2019960"/>
                        <a:chOff x="584640" y="3695400"/>
                        <a:chExt cx="1609920" cy="2019960"/>
                      </a:xfrm>
                    </p:grpSpPr>
                    <p:sp>
                      <p:nvSpPr>
                        <p:cNvPr id="1694" name="Elipsa 6"/>
                        <p:cNvSpPr/>
                        <p:nvPr/>
                      </p:nvSpPr>
                      <p:spPr>
                        <a:xfrm>
                          <a:off x="1023840" y="414648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5" name="Přímá spojovací čára 7"/>
                        <p:cNvSpPr/>
                        <p:nvPr/>
                      </p:nvSpPr>
                      <p:spPr>
                        <a:xfrm>
                          <a:off x="1316520" y="445140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6" name="Přímá spojovací čára 8"/>
                        <p:cNvSpPr/>
                        <p:nvPr/>
                      </p:nvSpPr>
                      <p:spPr>
                        <a:xfrm flipV="1">
                          <a:off x="1316520" y="432468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7" name="Přímá spojovací čára 9"/>
                        <p:cNvSpPr/>
                        <p:nvPr/>
                      </p:nvSpPr>
                      <p:spPr>
                        <a:xfrm>
                          <a:off x="1316520" y="475632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8" name="Přímá spojovací čára 10"/>
                        <p:cNvSpPr/>
                        <p:nvPr/>
                      </p:nvSpPr>
                      <p:spPr>
                        <a:xfrm flipH="1">
                          <a:off x="1023480" y="475632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9" name="Přímá spojovací čára 11"/>
                        <p:cNvSpPr/>
                        <p:nvPr/>
                      </p:nvSpPr>
                      <p:spPr>
                        <a:xfrm>
                          <a:off x="2023200" y="369540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0" name="Přímá spojovací čára 12"/>
                        <p:cNvSpPr/>
                        <p:nvPr/>
                      </p:nvSpPr>
                      <p:spPr>
                        <a:xfrm>
                          <a:off x="2023200" y="5187240"/>
                          <a:ext cx="10800" cy="5281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1" name="Přímá spojovací čára 13"/>
                        <p:cNvSpPr/>
                        <p:nvPr/>
                      </p:nvSpPr>
                      <p:spPr>
                        <a:xfrm flipH="1">
                          <a:off x="584640" y="475632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702" name="TextovéPole 3"/>
                      <p:cNvSpPr/>
                      <p:nvPr/>
                    </p:nvSpPr>
                    <p:spPr>
                      <a:xfrm>
                        <a:off x="731160" y="4280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TextovéPole 4"/>
                      <p:cNvSpPr/>
                      <p:nvPr/>
                    </p:nvSpPr>
                    <p:spPr>
                      <a:xfrm>
                        <a:off x="1609200" y="3695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TextovéPole 5"/>
                      <p:cNvSpPr/>
                      <p:nvPr/>
                    </p:nvSpPr>
                    <p:spPr>
                      <a:xfrm>
                        <a:off x="1609200" y="53046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05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Přímá spojovací čára 169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TextovéPole 170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Přímá spojovací čára 171"/>
                    <p:cNvSpPr/>
                    <p:nvPr/>
                  </p:nvSpPr>
                  <p:spPr>
                    <a:xfrm>
                      <a:off x="585000" y="2514240"/>
                      <a:ext cx="78660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Přímá spojovací čára 172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711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712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714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715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716" name="Oblouk 158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TextovéPole 159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719" name="Oblouk 156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TextovéPole 157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1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722" name="Obdélník 148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Přímá spojovací čára 149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Přímá spojovací čára 150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7" name="TextovéPole 14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TextovéPole 147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TextovéPole 188"/>
              <p:cNvSpPr/>
              <p:nvPr/>
            </p:nvSpPr>
            <p:spPr>
              <a:xfrm>
                <a:off x="0" y="3429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0" name="TextovéPole 128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TextovéPole 12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Skupina 147"/>
          <p:cNvGrpSpPr/>
          <p:nvPr/>
        </p:nvGrpSpPr>
        <p:grpSpPr>
          <a:xfrm>
            <a:off x="456840" y="2514600"/>
            <a:ext cx="304920" cy="2286000"/>
            <a:chOff x="456840" y="2514600"/>
            <a:chExt cx="304920" cy="2286000"/>
          </a:xfrm>
        </p:grpSpPr>
        <p:sp>
          <p:nvSpPr>
            <p:cNvPr id="1736" name="Obdélník 148"/>
            <p:cNvSpPr/>
            <p:nvPr/>
          </p:nvSpPr>
          <p:spPr>
            <a:xfrm rot="5400000">
              <a:off x="228240" y="3504600"/>
              <a:ext cx="76176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Přímá spojovací čára 149"/>
            <p:cNvSpPr/>
            <p:nvPr/>
          </p:nvSpPr>
          <p:spPr>
            <a:xfrm>
              <a:off x="609480" y="4038480"/>
              <a:ext cx="0" cy="7621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Přímá spojovací čára 150"/>
            <p:cNvSpPr/>
            <p:nvPr/>
          </p:nvSpPr>
          <p:spPr>
            <a:xfrm>
              <a:off x="609480" y="2514600"/>
              <a:ext cx="0" cy="7617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Přímá spojovací čára 167"/>
          <p:cNvSpPr/>
          <p:nvPr/>
        </p:nvSpPr>
        <p:spPr>
          <a:xfrm>
            <a:off x="137160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konstrukci zatěžovací přímky a nastavení pracovního bodu tranzistoru v zapojení se společným emit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744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745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2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753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756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8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759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1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762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4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765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7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0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771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3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774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6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777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4" name="TextovéPole 2"/>
          <p:cNvSpPr/>
          <p:nvPr/>
        </p:nvSpPr>
        <p:spPr>
          <a:xfrm>
            <a:off x="152280" y="990720"/>
            <a:ext cx="8991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pravě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 otevřený tranzistor volíme 0,6 až 0,8 V (0,7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Skupina 122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820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821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822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823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824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825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26" name="Skupina 1"/>
                    <p:cNvGrpSpPr/>
                    <p:nvPr/>
                  </p:nvGrpSpPr>
                  <p:grpSpPr>
                    <a:xfrm>
                      <a:off x="584640" y="3695400"/>
                      <a:ext cx="1609920" cy="2068920"/>
                      <a:chOff x="584640" y="3695400"/>
                      <a:chExt cx="1609920" cy="2068920"/>
                    </a:xfrm>
                  </p:grpSpPr>
                  <p:grpSp>
                    <p:nvGrpSpPr>
                      <p:cNvPr id="1827" name="Skupina 3"/>
                      <p:cNvGrpSpPr/>
                      <p:nvPr/>
                    </p:nvGrpSpPr>
                    <p:grpSpPr>
                      <a:xfrm>
                        <a:off x="584640" y="3695400"/>
                        <a:ext cx="1609920" cy="2019960"/>
                        <a:chOff x="584640" y="3695400"/>
                        <a:chExt cx="1609920" cy="2019960"/>
                      </a:xfrm>
                    </p:grpSpPr>
                    <p:sp>
                      <p:nvSpPr>
                        <p:cNvPr id="1828" name="Elipsa 6"/>
                        <p:cNvSpPr/>
                        <p:nvPr/>
                      </p:nvSpPr>
                      <p:spPr>
                        <a:xfrm>
                          <a:off x="1023840" y="414648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9" name="Přímá spojovací čára 7"/>
                        <p:cNvSpPr/>
                        <p:nvPr/>
                      </p:nvSpPr>
                      <p:spPr>
                        <a:xfrm>
                          <a:off x="1316520" y="445140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0" name="Přímá spojovací čára 8"/>
                        <p:cNvSpPr/>
                        <p:nvPr/>
                      </p:nvSpPr>
                      <p:spPr>
                        <a:xfrm flipV="1">
                          <a:off x="1316520" y="432468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1" name="Přímá spojovací čára 9"/>
                        <p:cNvSpPr/>
                        <p:nvPr/>
                      </p:nvSpPr>
                      <p:spPr>
                        <a:xfrm>
                          <a:off x="1316520" y="475632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2" name="Přímá spojovací čára 10"/>
                        <p:cNvSpPr/>
                        <p:nvPr/>
                      </p:nvSpPr>
                      <p:spPr>
                        <a:xfrm flipH="1">
                          <a:off x="1023480" y="475632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3" name="Přímá spojovací čára 11"/>
                        <p:cNvSpPr/>
                        <p:nvPr/>
                      </p:nvSpPr>
                      <p:spPr>
                        <a:xfrm>
                          <a:off x="2023200" y="369540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4" name="Přímá spojovací čára 12"/>
                        <p:cNvSpPr/>
                        <p:nvPr/>
                      </p:nvSpPr>
                      <p:spPr>
                        <a:xfrm>
                          <a:off x="2023200" y="5187240"/>
                          <a:ext cx="10800" cy="5281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5" name="Přímá spojovací čára 13"/>
                        <p:cNvSpPr/>
                        <p:nvPr/>
                      </p:nvSpPr>
                      <p:spPr>
                        <a:xfrm flipH="1">
                          <a:off x="584640" y="475632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6" name="TextovéPole 3"/>
                      <p:cNvSpPr/>
                      <p:nvPr/>
                    </p:nvSpPr>
                    <p:spPr>
                      <a:xfrm>
                        <a:off x="731160" y="4280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TextovéPole 4"/>
                      <p:cNvSpPr/>
                      <p:nvPr/>
                    </p:nvSpPr>
                    <p:spPr>
                      <a:xfrm>
                        <a:off x="1609200" y="3695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TextovéPole 5"/>
                      <p:cNvSpPr/>
                      <p:nvPr/>
                    </p:nvSpPr>
                    <p:spPr>
                      <a:xfrm>
                        <a:off x="1609200" y="53046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39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Přímá spojovací čára 169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TextovéPole 170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Přímá spojovací čára 171"/>
                    <p:cNvSpPr/>
                    <p:nvPr/>
                  </p:nvSpPr>
                  <p:spPr>
                    <a:xfrm>
                      <a:off x="585000" y="2514240"/>
                      <a:ext cx="78660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Přímá spojovací čára 172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845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846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848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849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850" name="Oblouk 158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TextovéPole 159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2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853" name="Oblouk 156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TextovéPole 157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5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856" name="Obdélník 148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Přímá spojovací čára 149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Přímá spojovací čára 150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1" name="TextovéPole 14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TextovéPole 147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TextovéPole 188"/>
              <p:cNvSpPr/>
              <p:nvPr/>
            </p:nvSpPr>
            <p:spPr>
              <a:xfrm>
                <a:off x="0" y="3429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4" name="TextovéPole 128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TextovéPole 12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Skupina 147"/>
          <p:cNvGrpSpPr/>
          <p:nvPr/>
        </p:nvGrpSpPr>
        <p:grpSpPr>
          <a:xfrm>
            <a:off x="456840" y="2514600"/>
            <a:ext cx="304920" cy="2286000"/>
            <a:chOff x="456840" y="2514600"/>
            <a:chExt cx="304920" cy="2286000"/>
          </a:xfrm>
        </p:grpSpPr>
        <p:sp>
          <p:nvSpPr>
            <p:cNvPr id="1870" name="Obdélník 148"/>
            <p:cNvSpPr/>
            <p:nvPr/>
          </p:nvSpPr>
          <p:spPr>
            <a:xfrm rot="5400000">
              <a:off x="228240" y="3504600"/>
              <a:ext cx="76176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Přímá spojovací čára 149"/>
            <p:cNvSpPr/>
            <p:nvPr/>
          </p:nvSpPr>
          <p:spPr>
            <a:xfrm>
              <a:off x="609480" y="4038480"/>
              <a:ext cx="0" cy="7621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Přímá spojovací čára 150"/>
            <p:cNvSpPr/>
            <p:nvPr/>
          </p:nvSpPr>
          <p:spPr>
            <a:xfrm>
              <a:off x="609480" y="2514600"/>
              <a:ext cx="0" cy="7617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3" name="Přímá spojovací čára 167"/>
          <p:cNvSpPr/>
          <p:nvPr/>
        </p:nvSpPr>
        <p:spPr>
          <a:xfrm>
            <a:off x="137160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7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1878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1879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1887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9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1890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2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1893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1896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8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1899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1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4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1905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7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1908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0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1911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8" name="TextovéPole 2"/>
          <p:cNvSpPr/>
          <p:nvPr/>
        </p:nvSpPr>
        <p:spPr>
          <a:xfrm>
            <a:off x="152280" y="990720"/>
            <a:ext cx="8991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pravě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B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(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·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E ≈IC   URB = 12 – 0,7 – (500·0,004)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,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3" name="Skupina 122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1954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1955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1956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1957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1958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959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0" name="Skupina 1"/>
                    <p:cNvGrpSpPr/>
                    <p:nvPr/>
                  </p:nvGrpSpPr>
                  <p:grpSpPr>
                    <a:xfrm>
                      <a:off x="584640" y="3695400"/>
                      <a:ext cx="1609920" cy="2068920"/>
                      <a:chOff x="584640" y="3695400"/>
                      <a:chExt cx="1609920" cy="2068920"/>
                    </a:xfrm>
                  </p:grpSpPr>
                  <p:grpSp>
                    <p:nvGrpSpPr>
                      <p:cNvPr id="1961" name="Skupina 3"/>
                      <p:cNvGrpSpPr/>
                      <p:nvPr/>
                    </p:nvGrpSpPr>
                    <p:grpSpPr>
                      <a:xfrm>
                        <a:off x="584640" y="3695400"/>
                        <a:ext cx="1609920" cy="2019960"/>
                        <a:chOff x="584640" y="3695400"/>
                        <a:chExt cx="1609920" cy="2019960"/>
                      </a:xfrm>
                    </p:grpSpPr>
                    <p:sp>
                      <p:nvSpPr>
                        <p:cNvPr id="1962" name="Elipsa 6"/>
                        <p:cNvSpPr/>
                        <p:nvPr/>
                      </p:nvSpPr>
                      <p:spPr>
                        <a:xfrm>
                          <a:off x="1023840" y="414648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Přímá spojovací čára 7"/>
                        <p:cNvSpPr/>
                        <p:nvPr/>
                      </p:nvSpPr>
                      <p:spPr>
                        <a:xfrm>
                          <a:off x="1316520" y="445140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Přímá spojovací čára 8"/>
                        <p:cNvSpPr/>
                        <p:nvPr/>
                      </p:nvSpPr>
                      <p:spPr>
                        <a:xfrm flipV="1">
                          <a:off x="1316520" y="432468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5" name="Přímá spojovací čára 9"/>
                        <p:cNvSpPr/>
                        <p:nvPr/>
                      </p:nvSpPr>
                      <p:spPr>
                        <a:xfrm>
                          <a:off x="1316520" y="475632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6" name="Přímá spojovací čára 10"/>
                        <p:cNvSpPr/>
                        <p:nvPr/>
                      </p:nvSpPr>
                      <p:spPr>
                        <a:xfrm flipH="1">
                          <a:off x="1023480" y="475632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Přímá spojovací čára 11"/>
                        <p:cNvSpPr/>
                        <p:nvPr/>
                      </p:nvSpPr>
                      <p:spPr>
                        <a:xfrm>
                          <a:off x="2023200" y="369540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8" name="Přímá spojovací čára 12"/>
                        <p:cNvSpPr/>
                        <p:nvPr/>
                      </p:nvSpPr>
                      <p:spPr>
                        <a:xfrm>
                          <a:off x="2023200" y="5187240"/>
                          <a:ext cx="10800" cy="5281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9" name="Přímá spojovací čára 13"/>
                        <p:cNvSpPr/>
                        <p:nvPr/>
                      </p:nvSpPr>
                      <p:spPr>
                        <a:xfrm flipH="1">
                          <a:off x="584640" y="475632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70" name="TextovéPole 3"/>
                      <p:cNvSpPr/>
                      <p:nvPr/>
                    </p:nvSpPr>
                    <p:spPr>
                      <a:xfrm>
                        <a:off x="731160" y="4280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1" name="TextovéPole 4"/>
                      <p:cNvSpPr/>
                      <p:nvPr/>
                    </p:nvSpPr>
                    <p:spPr>
                      <a:xfrm>
                        <a:off x="1609200" y="3695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2" name="TextovéPole 5"/>
                      <p:cNvSpPr/>
                      <p:nvPr/>
                    </p:nvSpPr>
                    <p:spPr>
                      <a:xfrm>
                        <a:off x="1609200" y="53046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3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Přímá spojovací čára 169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TextovéPole 170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Přímá spojovací čára 171"/>
                    <p:cNvSpPr/>
                    <p:nvPr/>
                  </p:nvSpPr>
                  <p:spPr>
                    <a:xfrm>
                      <a:off x="585000" y="2514240"/>
                      <a:ext cx="78660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Přímá spojovací čára 172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1979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1980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982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1983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1984" name="Oblouk 158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TextovéPole 159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6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1987" name="Oblouk 156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TextovéPole 157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9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1990" name="Obdélník 148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Přímá spojovací čára 149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Přímá spojovací čára 150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5" name="TextovéPole 14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TextovéPole 147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TextovéPole 188"/>
              <p:cNvSpPr/>
              <p:nvPr/>
            </p:nvSpPr>
            <p:spPr>
              <a:xfrm>
                <a:off x="0" y="3429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8" name="TextovéPole 128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TextovéPole 12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ovéPole 174"/>
            <p:cNvSpPr/>
            <p:nvPr/>
          </p:nvSpPr>
          <p:spPr>
            <a:xfrm>
              <a:off x="761760" y="3429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1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Skupina 147"/>
          <p:cNvGrpSpPr/>
          <p:nvPr/>
        </p:nvGrpSpPr>
        <p:grpSpPr>
          <a:xfrm>
            <a:off x="456840" y="2514600"/>
            <a:ext cx="304920" cy="2286000"/>
            <a:chOff x="456840" y="2514600"/>
            <a:chExt cx="304920" cy="2286000"/>
          </a:xfrm>
        </p:grpSpPr>
        <p:sp>
          <p:nvSpPr>
            <p:cNvPr id="2005" name="Obdélník 148"/>
            <p:cNvSpPr/>
            <p:nvPr/>
          </p:nvSpPr>
          <p:spPr>
            <a:xfrm rot="5400000">
              <a:off x="228240" y="3504600"/>
              <a:ext cx="76176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Přímá spojovací čára 149"/>
            <p:cNvSpPr/>
            <p:nvPr/>
          </p:nvSpPr>
          <p:spPr>
            <a:xfrm>
              <a:off x="609480" y="4038480"/>
              <a:ext cx="0" cy="7621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Přímá spojovací čára 150"/>
            <p:cNvSpPr/>
            <p:nvPr/>
          </p:nvSpPr>
          <p:spPr>
            <a:xfrm>
              <a:off x="609480" y="2514600"/>
              <a:ext cx="0" cy="7617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Přímá spojovací čára 167"/>
          <p:cNvSpPr/>
          <p:nvPr/>
        </p:nvSpPr>
        <p:spPr>
          <a:xfrm>
            <a:off x="137160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1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40320" cy="685800"/>
          </a:xfrm>
          <a:prstGeom prst="rect">
            <a:avLst/>
          </a:prstGeom>
          <a:ln w="0">
            <a:noFill/>
          </a:ln>
        </p:spPr>
      </p:pic>
      <p:sp>
        <p:nvSpPr>
          <p:cNvPr id="2011" name="TextovéPole 144"/>
          <p:cNvSpPr/>
          <p:nvPr/>
        </p:nvSpPr>
        <p:spPr>
          <a:xfrm>
            <a:off x="53341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ovéPole 121"/>
          <p:cNvSpPr/>
          <p:nvPr/>
        </p:nvSpPr>
        <p:spPr>
          <a:xfrm>
            <a:off x="27432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5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2016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2017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4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2025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7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2028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0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2031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2034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6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2037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9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2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2043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5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2046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8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2049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5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římá spojovací čára 123"/>
          <p:cNvSpPr/>
          <p:nvPr/>
        </p:nvSpPr>
        <p:spPr>
          <a:xfrm>
            <a:off x="3198960" y="3430440"/>
            <a:ext cx="4421160" cy="29656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0" name="Skupina 122"/>
          <p:cNvGrpSpPr/>
          <p:nvPr/>
        </p:nvGrpSpPr>
        <p:grpSpPr>
          <a:xfrm>
            <a:off x="0" y="1752480"/>
            <a:ext cx="3379680" cy="5054760"/>
            <a:chOff x="0" y="1752480"/>
            <a:chExt cx="3379680" cy="5054760"/>
          </a:xfrm>
        </p:grpSpPr>
        <p:grpSp>
          <p:nvGrpSpPr>
            <p:cNvPr id="2091" name="Skupina 157"/>
            <p:cNvGrpSpPr/>
            <p:nvPr/>
          </p:nvGrpSpPr>
          <p:grpSpPr>
            <a:xfrm>
              <a:off x="0" y="1752480"/>
              <a:ext cx="3379680" cy="5054760"/>
              <a:chOff x="0" y="1752480"/>
              <a:chExt cx="3379680" cy="5054760"/>
            </a:xfrm>
          </p:grpSpPr>
          <p:grpSp>
            <p:nvGrpSpPr>
              <p:cNvPr id="2092" name="Skupina 244"/>
              <p:cNvGrpSpPr/>
              <p:nvPr/>
            </p:nvGrpSpPr>
            <p:grpSpPr>
              <a:xfrm>
                <a:off x="0" y="1752480"/>
                <a:ext cx="3379680" cy="5054760"/>
                <a:chOff x="0" y="1752480"/>
                <a:chExt cx="3379680" cy="5054760"/>
              </a:xfrm>
            </p:grpSpPr>
            <p:grpSp>
              <p:nvGrpSpPr>
                <p:cNvPr id="2093" name="Skupina 100"/>
                <p:cNvGrpSpPr/>
                <p:nvPr/>
              </p:nvGrpSpPr>
              <p:grpSpPr>
                <a:xfrm>
                  <a:off x="0" y="1752480"/>
                  <a:ext cx="2779920" cy="5054760"/>
                  <a:chOff x="0" y="1752480"/>
                  <a:chExt cx="2779920" cy="5054760"/>
                </a:xfrm>
              </p:grpSpPr>
              <p:grpSp>
                <p:nvGrpSpPr>
                  <p:cNvPr id="2094" name="Skupina 79"/>
                  <p:cNvGrpSpPr/>
                  <p:nvPr/>
                </p:nvGrpSpPr>
                <p:grpSpPr>
                  <a:xfrm>
                    <a:off x="584640" y="1752480"/>
                    <a:ext cx="2195280" cy="5054760"/>
                    <a:chOff x="584640" y="1752480"/>
                    <a:chExt cx="2195280" cy="5054760"/>
                  </a:xfrm>
                </p:grpSpPr>
                <p:cxnSp>
                  <p:nvCxnSpPr>
                    <p:cNvPr id="2095" name="Přímá spojovací šipka 77"/>
                    <p:cNvCxnSpPr/>
                    <p:nvPr/>
                  </p:nvCxnSpPr>
                  <p:spPr>
                    <a:xfrm>
                      <a:off x="2194200" y="5186520"/>
                      <a:ext cx="1080" cy="56124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2096" name="TextovéPole 86"/>
                    <p:cNvSpPr/>
                    <p:nvPr/>
                  </p:nvSpPr>
                  <p:spPr>
                    <a:xfrm>
                      <a:off x="2194560" y="5186880"/>
                      <a:ext cx="58536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97" name="Skupina 1"/>
                    <p:cNvGrpSpPr/>
                    <p:nvPr/>
                  </p:nvGrpSpPr>
                  <p:grpSpPr>
                    <a:xfrm>
                      <a:off x="584640" y="3695400"/>
                      <a:ext cx="1609920" cy="2068920"/>
                      <a:chOff x="584640" y="3695400"/>
                      <a:chExt cx="1609920" cy="2068920"/>
                    </a:xfrm>
                  </p:grpSpPr>
                  <p:grpSp>
                    <p:nvGrpSpPr>
                      <p:cNvPr id="2098" name="Skupina 3"/>
                      <p:cNvGrpSpPr/>
                      <p:nvPr/>
                    </p:nvGrpSpPr>
                    <p:grpSpPr>
                      <a:xfrm>
                        <a:off x="584640" y="3695400"/>
                        <a:ext cx="1609920" cy="2019960"/>
                        <a:chOff x="584640" y="3695400"/>
                        <a:chExt cx="1609920" cy="2019960"/>
                      </a:xfrm>
                    </p:grpSpPr>
                    <p:sp>
                      <p:nvSpPr>
                        <p:cNvPr id="2099" name="Elipsa 6"/>
                        <p:cNvSpPr/>
                        <p:nvPr/>
                      </p:nvSpPr>
                      <p:spPr>
                        <a:xfrm>
                          <a:off x="1023840" y="4146480"/>
                          <a:ext cx="1170720" cy="1219320"/>
                        </a:xfrm>
                        <a:prstGeom prst="ellipse">
                          <a:avLst/>
                        </a:pr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Přímá spojovací čára 7"/>
                        <p:cNvSpPr/>
                        <p:nvPr/>
                      </p:nvSpPr>
                      <p:spPr>
                        <a:xfrm>
                          <a:off x="1316520" y="4451400"/>
                          <a:ext cx="0" cy="6094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Přímá spojovací čára 8"/>
                        <p:cNvSpPr/>
                        <p:nvPr/>
                      </p:nvSpPr>
                      <p:spPr>
                        <a:xfrm flipV="1">
                          <a:off x="1316520" y="432468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Přímá spojovací čára 9"/>
                        <p:cNvSpPr/>
                        <p:nvPr/>
                      </p:nvSpPr>
                      <p:spPr>
                        <a:xfrm>
                          <a:off x="1316520" y="4756320"/>
                          <a:ext cx="706320" cy="430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Přímá spojovací čára 10"/>
                        <p:cNvSpPr/>
                        <p:nvPr/>
                      </p:nvSpPr>
                      <p:spPr>
                        <a:xfrm flipH="1">
                          <a:off x="1023480" y="4756320"/>
                          <a:ext cx="2926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Přímá spojovací čára 11"/>
                        <p:cNvSpPr/>
                        <p:nvPr/>
                      </p:nvSpPr>
                      <p:spPr>
                        <a:xfrm>
                          <a:off x="2023200" y="3695400"/>
                          <a:ext cx="0" cy="6296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Přímá spojovací čára 12"/>
                        <p:cNvSpPr/>
                        <p:nvPr/>
                      </p:nvSpPr>
                      <p:spPr>
                        <a:xfrm>
                          <a:off x="2023200" y="5187240"/>
                          <a:ext cx="10800" cy="5281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Přímá spojovací čára 13"/>
                        <p:cNvSpPr/>
                        <p:nvPr/>
                      </p:nvSpPr>
                      <p:spPr>
                        <a:xfrm flipH="1">
                          <a:off x="584640" y="4756320"/>
                          <a:ext cx="43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b05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107" name="TextovéPole 3"/>
                      <p:cNvSpPr/>
                      <p:nvPr/>
                    </p:nvSpPr>
                    <p:spPr>
                      <a:xfrm>
                        <a:off x="731160" y="4280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8" name="TextovéPole 4"/>
                      <p:cNvSpPr/>
                      <p:nvPr/>
                    </p:nvSpPr>
                    <p:spPr>
                      <a:xfrm>
                        <a:off x="1609200" y="36954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9" name="TextovéPole 5"/>
                      <p:cNvSpPr/>
                      <p:nvPr/>
                    </p:nvSpPr>
                    <p:spPr>
                      <a:xfrm>
                        <a:off x="1609200" y="5304600"/>
                        <a:ext cx="365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cs-CZ" sz="24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E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10" name="Elipsa 24"/>
                    <p:cNvSpPr/>
                    <p:nvPr/>
                  </p:nvSpPr>
                  <p:spPr>
                    <a:xfrm rot="10800000">
                      <a:off x="1316520" y="1898640"/>
                      <a:ext cx="146160" cy="14616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Přímá spojovací čára 169"/>
                    <p:cNvSpPr/>
                    <p:nvPr/>
                  </p:nvSpPr>
                  <p:spPr>
                    <a:xfrm>
                      <a:off x="1876320" y="6807240"/>
                      <a:ext cx="29268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ovéPole 170"/>
                    <p:cNvSpPr/>
                    <p:nvPr/>
                  </p:nvSpPr>
                  <p:spPr>
                    <a:xfrm>
                      <a:off x="1463040" y="1752480"/>
                      <a:ext cx="131688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U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Přímá spojovací čára 171"/>
                    <p:cNvSpPr/>
                    <p:nvPr/>
                  </p:nvSpPr>
                  <p:spPr>
                    <a:xfrm>
                      <a:off x="585000" y="2514240"/>
                      <a:ext cx="786600" cy="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Přímá spojovací čára 172"/>
                    <p:cNvSpPr/>
                    <p:nvPr/>
                  </p:nvSpPr>
                  <p:spPr>
                    <a:xfrm>
                      <a:off x="1389600" y="2044800"/>
                      <a:ext cx="0" cy="469440"/>
                    </a:xfrm>
                    <a:prstGeom prst="line">
                      <a:avLst/>
                    </a:prstGeom>
                    <a:ln w="3816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Elipsa 24"/>
                    <p:cNvSpPr/>
                    <p:nvPr/>
                  </p:nvSpPr>
                  <p:spPr>
                    <a:xfrm rot="10800000">
                      <a:off x="1316520" y="2441160"/>
                      <a:ext cx="146160" cy="14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2116" name="Přímá spojovací šipka 79"/>
                  <p:cNvCxnSpPr/>
                  <p:nvPr/>
                </p:nvCxnSpPr>
                <p:spPr>
                  <a:xfrm>
                    <a:off x="2121120" y="3763800"/>
                    <a:ext cx="1080" cy="43956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2117" name="TextovéPole 87"/>
                  <p:cNvSpPr/>
                  <p:nvPr/>
                </p:nvSpPr>
                <p:spPr>
                  <a:xfrm>
                    <a:off x="2133720" y="373356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TextovéPole 88"/>
                  <p:cNvSpPr/>
                  <p:nvPr/>
                </p:nvSpPr>
                <p:spPr>
                  <a:xfrm>
                    <a:off x="0" y="4056840"/>
                    <a:ext cx="585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</a:t>
                    </a:r>
                    <a:r>
                      <a:rPr b="0" lang="cs-CZ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119" name="Přímá spojovací šipka 78"/>
                  <p:cNvCxnSpPr/>
                  <p:nvPr/>
                </p:nvCxnSpPr>
                <p:spPr>
                  <a:xfrm>
                    <a:off x="438480" y="4056840"/>
                    <a:ext cx="1080" cy="512640"/>
                  </a:xfrm>
                  <a:prstGeom prst="straightConnector1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grpSp>
              <p:nvGrpSpPr>
                <p:cNvPr id="2120" name="Skupina 111"/>
                <p:cNvGrpSpPr/>
                <p:nvPr/>
              </p:nvGrpSpPr>
              <p:grpSpPr>
                <a:xfrm>
                  <a:off x="1609200" y="4129920"/>
                  <a:ext cx="1770480" cy="1243440"/>
                  <a:chOff x="1609200" y="4129920"/>
                  <a:chExt cx="1770480" cy="1243440"/>
                </a:xfrm>
              </p:grpSpPr>
              <p:sp>
                <p:nvSpPr>
                  <p:cNvPr id="2121" name="Oblouk 158"/>
                  <p:cNvSpPr/>
                  <p:nvPr/>
                </p:nvSpPr>
                <p:spPr>
                  <a:xfrm>
                    <a:off x="1609200" y="4129920"/>
                    <a:ext cx="995040" cy="1243440"/>
                  </a:xfrm>
                  <a:custGeom>
                    <a:avLst/>
                    <a:gdLst>
                      <a:gd name="textAreaLeft" fmla="*/ 708840 w 995040"/>
                      <a:gd name="textAreaRight" fmla="*/ 995400 w 995040"/>
                      <a:gd name="textAreaTop" fmla="*/ 72360 h 1243440"/>
                      <a:gd name="textAreaBottom" fmla="*/ 1184760 h 12434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901959" y="150783"/>
                        </a:moveTo>
                        <a:lnTo>
                          <a:pt x="1901959" y="150783"/>
                        </a:lnTo>
                        <a:arcTo wR="1295400" hR="1295400" stAng="-3724791" swAng="7616947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ovéPole 159"/>
                  <p:cNvSpPr/>
                  <p:nvPr/>
                </p:nvSpPr>
                <p:spPr>
                  <a:xfrm>
                    <a:off x="2560320" y="4568760"/>
                    <a:ext cx="8193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3" name="Skupina 113"/>
                <p:cNvGrpSpPr/>
                <p:nvPr/>
              </p:nvGrpSpPr>
              <p:grpSpPr>
                <a:xfrm>
                  <a:off x="585000" y="3398400"/>
                  <a:ext cx="2560320" cy="2487240"/>
                  <a:chOff x="585000" y="3398400"/>
                  <a:chExt cx="2560320" cy="2487240"/>
                </a:xfrm>
              </p:grpSpPr>
              <p:sp>
                <p:nvSpPr>
                  <p:cNvPr id="2124" name="Oblouk 156"/>
                  <p:cNvSpPr/>
                  <p:nvPr/>
                </p:nvSpPr>
                <p:spPr>
                  <a:xfrm>
                    <a:off x="658080" y="3398400"/>
                    <a:ext cx="2487240" cy="2487240"/>
                  </a:xfrm>
                  <a:custGeom>
                    <a:avLst/>
                    <a:gdLst>
                      <a:gd name="textAreaLeft" fmla="*/ 23760 w 2487240"/>
                      <a:gd name="textAreaRight" fmla="*/ 1253160 w 2487240"/>
                      <a:gd name="textAreaTop" fmla="*/ 1485720 h 2487240"/>
                      <a:gd name="textAreaBottom" fmla="*/ 2487600 h 2487240"/>
                    </a:gdLst>
                    <a:ahLst/>
                    <a:rect l="textAreaLeft" t="textAreaTop" r="textAreaRight" b="textAreaBottom"/>
                    <a:pathLst>
                      <a:path stroke="0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  <a:lnTo>
                          <a:pt x="1295400" y="1295400"/>
                        </a:lnTo>
                        <a:close/>
                      </a:path>
                      <a:path fill="none" w="2590800" h="2590800">
                        <a:moveTo>
                          <a:pt x="1305364" y="2590762"/>
                        </a:moveTo>
                        <a:lnTo>
                          <a:pt x="1305364" y="2590762"/>
                        </a:lnTo>
                        <a:arcTo wR="1295400" hR="1295400" stAng="5373557" swAng="4753014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ovéPole 157"/>
                  <p:cNvSpPr/>
                  <p:nvPr/>
                </p:nvSpPr>
                <p:spPr>
                  <a:xfrm>
                    <a:off x="585000" y="5373720"/>
                    <a:ext cx="862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B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6" name="Skupina 147"/>
              <p:cNvGrpSpPr/>
              <p:nvPr/>
            </p:nvGrpSpPr>
            <p:grpSpPr>
              <a:xfrm>
                <a:off x="1871640" y="2514240"/>
                <a:ext cx="304560" cy="4289760"/>
                <a:chOff x="1871640" y="2514240"/>
                <a:chExt cx="304560" cy="4289760"/>
              </a:xfrm>
            </p:grpSpPr>
            <p:sp>
              <p:nvSpPr>
                <p:cNvPr id="2127" name="Obdélník 148"/>
                <p:cNvSpPr/>
                <p:nvPr/>
              </p:nvSpPr>
              <p:spPr>
                <a:xfrm rot="5400000">
                  <a:off x="1642680" y="318564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Přímá spojovací čára 149"/>
                <p:cNvSpPr/>
                <p:nvPr/>
              </p:nvSpPr>
              <p:spPr>
                <a:xfrm>
                  <a:off x="2023920" y="3719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Přímá spojovací čára 150"/>
                <p:cNvSpPr/>
                <p:nvPr/>
              </p:nvSpPr>
              <p:spPr>
                <a:xfrm>
                  <a:off x="2023920" y="2514240"/>
                  <a:ext cx="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Obdélník 148"/>
                <p:cNvSpPr/>
                <p:nvPr/>
              </p:nvSpPr>
              <p:spPr>
                <a:xfrm rot="5400000">
                  <a:off x="1642680" y="5943600"/>
                  <a:ext cx="762120" cy="304560"/>
                </a:xfrm>
                <a:prstGeom prst="rect">
                  <a:avLst/>
                </a:prstGeom>
                <a:noFill/>
                <a:ln w="381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Přímá spojovací čára 149"/>
                <p:cNvSpPr/>
                <p:nvPr/>
              </p:nvSpPr>
              <p:spPr>
                <a:xfrm>
                  <a:off x="2023920" y="6477120"/>
                  <a:ext cx="0" cy="3268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2" name="TextovéPole 146"/>
              <p:cNvSpPr/>
              <p:nvPr/>
            </p:nvSpPr>
            <p:spPr>
              <a:xfrm>
                <a:off x="2210040" y="289548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TextovéPole 147"/>
              <p:cNvSpPr/>
              <p:nvPr/>
            </p:nvSpPr>
            <p:spPr>
              <a:xfrm>
                <a:off x="2210040" y="5715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TextovéPole 188"/>
              <p:cNvSpPr/>
              <p:nvPr/>
            </p:nvSpPr>
            <p:spPr>
              <a:xfrm>
                <a:off x="0" y="342900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5" name="TextovéPole 128"/>
            <p:cNvSpPr/>
            <p:nvPr/>
          </p:nvSpPr>
          <p:spPr>
            <a:xfrm>
              <a:off x="2210040" y="60199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0,5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TextovéPole 129"/>
            <p:cNvSpPr/>
            <p:nvPr/>
          </p:nvSpPr>
          <p:spPr>
            <a:xfrm>
              <a:off x="2133720" y="3276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1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TextovéPole 174"/>
            <p:cNvSpPr/>
            <p:nvPr/>
          </p:nvSpPr>
          <p:spPr>
            <a:xfrm>
              <a:off x="761760" y="3429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282 k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8" name="Přímá spojovací čára 155"/>
          <p:cNvSpPr/>
          <p:nvPr/>
        </p:nvSpPr>
        <p:spPr>
          <a:xfrm flipV="1">
            <a:off x="5410080" y="4952880"/>
            <a:ext cx="0" cy="14479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římá spojovací čára 160"/>
          <p:cNvSpPr/>
          <p:nvPr/>
        </p:nvSpPr>
        <p:spPr>
          <a:xfrm flipH="1">
            <a:off x="3198960" y="4876920"/>
            <a:ext cx="2211120" cy="48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1" name="Skupina 147"/>
          <p:cNvGrpSpPr/>
          <p:nvPr/>
        </p:nvGrpSpPr>
        <p:grpSpPr>
          <a:xfrm>
            <a:off x="456840" y="2514600"/>
            <a:ext cx="304920" cy="2286000"/>
            <a:chOff x="456840" y="2514600"/>
            <a:chExt cx="304920" cy="2286000"/>
          </a:xfrm>
        </p:grpSpPr>
        <p:sp>
          <p:nvSpPr>
            <p:cNvPr id="2142" name="Obdélník 148"/>
            <p:cNvSpPr/>
            <p:nvPr/>
          </p:nvSpPr>
          <p:spPr>
            <a:xfrm rot="5400000">
              <a:off x="228240" y="3504600"/>
              <a:ext cx="761760" cy="304920"/>
            </a:xfrm>
            <a:prstGeom prst="rect">
              <a:avLst/>
            </a:prstGeom>
            <a:noFill/>
            <a:ln w="381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Přímá spojovací čára 149"/>
            <p:cNvSpPr/>
            <p:nvPr/>
          </p:nvSpPr>
          <p:spPr>
            <a:xfrm>
              <a:off x="609480" y="4038480"/>
              <a:ext cx="0" cy="7621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Přímá spojovací čára 150"/>
            <p:cNvSpPr/>
            <p:nvPr/>
          </p:nvSpPr>
          <p:spPr>
            <a:xfrm>
              <a:off x="609480" y="2514600"/>
              <a:ext cx="0" cy="7617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Přímá spojovací čára 167"/>
          <p:cNvSpPr/>
          <p:nvPr/>
        </p:nvSpPr>
        <p:spPr>
          <a:xfrm>
            <a:off x="1371600" y="2514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ovéPole 144"/>
          <p:cNvSpPr/>
          <p:nvPr/>
        </p:nvSpPr>
        <p:spPr>
          <a:xfrm>
            <a:off x="53341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ovéPole 2"/>
          <p:cNvSpPr/>
          <p:nvPr/>
        </p:nvSpPr>
        <p:spPr>
          <a:xfrm>
            <a:off x="152280" y="9907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máme nastaven pracovní 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ovéPole 2"/>
          <p:cNvSpPr/>
          <p:nvPr/>
        </p:nvSpPr>
        <p:spPr>
          <a:xfrm>
            <a:off x="457200" y="1447920"/>
            <a:ext cx="8305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musíme nastavit pracovní bod tranzist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tranzistor správně fungo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á z následující tvrzení jsou pravdiv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tavení pracovního bodu tranzistoru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působ připojení tranzistoru ke zdroji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znamená vhodné nastavení výstupních klidových veličin (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mená zabráněnu průchodu vstupních velič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ovéPole 2"/>
          <p:cNvSpPr/>
          <p:nvPr/>
        </p:nvSpPr>
        <p:spPr>
          <a:xfrm>
            <a:off x="457200" y="1447920"/>
            <a:ext cx="8305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musíme nastavit pracovní bod tranzist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tranzistor správně fungo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á z následující tvrzení jsou pravdiv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tavení pracovního bodu tranzistoru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je způsob připojení tranzistoru ke zdroj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znamená vhodné nastavení výstupních klidových veličin (U</a:t>
            </a:r>
            <a:r>
              <a:rPr b="0" lang="cs-CZ" sz="2800" spc="-1" strike="noStrike" baseline="-25000">
                <a:solidFill>
                  <a:srgbClr val="00b050"/>
                </a:solidFill>
                <a:latin typeface="Arial"/>
              </a:rPr>
              <a:t>CE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 a I</a:t>
            </a:r>
            <a:r>
              <a:rPr b="0" lang="cs-CZ" sz="2800" spc="-1" strike="noStrike" baseline="-25000">
                <a:solidFill>
                  <a:srgbClr val="00b05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mená zabráněnu průchodu vstupních velič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ovéPole 2"/>
          <p:cNvSpPr/>
          <p:nvPr/>
        </p:nvSpPr>
        <p:spPr>
          <a:xfrm>
            <a:off x="457200" y="14479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správnou funkci tranzistoru v aplikaci je nutné nastavit požadovaný klidový pracovní 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dstatě nastavujeme sklon zatěžovací charakteristiky a polohu pracovního bodu bez přítomnosti vstupn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ASTAVENÍ PRACOVNÍHO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9907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mohl tranzistor správně fungovat, musí mít správně nastaven pracovní 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deme se zabývat zapojení tranzistoru v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13"/>
          <p:cNvGrpSpPr/>
          <p:nvPr/>
        </p:nvGrpSpPr>
        <p:grpSpPr>
          <a:xfrm>
            <a:off x="1219320" y="3200400"/>
            <a:ext cx="6629400" cy="3092400"/>
            <a:chOff x="1219320" y="3200400"/>
            <a:chExt cx="6629400" cy="3092400"/>
          </a:xfrm>
        </p:grpSpPr>
        <p:cxnSp>
          <p:nvCxnSpPr>
            <p:cNvPr id="49" name="Přímá spojovací šipka 77"/>
            <p:cNvCxnSpPr/>
            <p:nvPr/>
          </p:nvCxnSpPr>
          <p:spPr>
            <a:xfrm>
              <a:off x="5257440" y="5292000"/>
              <a:ext cx="1080" cy="584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" name="TextovéPole 86"/>
            <p:cNvSpPr/>
            <p:nvPr/>
          </p:nvSpPr>
          <p:spPr>
            <a:xfrm>
              <a:off x="5257800" y="5292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Skupina 112"/>
            <p:cNvGrpSpPr/>
            <p:nvPr/>
          </p:nvGrpSpPr>
          <p:grpSpPr>
            <a:xfrm>
              <a:off x="1219320" y="3200400"/>
              <a:ext cx="6629400" cy="3092400"/>
              <a:chOff x="1219320" y="3200400"/>
              <a:chExt cx="6629400" cy="3092400"/>
            </a:xfrm>
          </p:grpSpPr>
          <p:cxnSp>
            <p:nvCxnSpPr>
              <p:cNvPr id="52" name="Přímá spojovací šipka 78"/>
              <p:cNvCxnSpPr/>
              <p:nvPr/>
            </p:nvCxnSpPr>
            <p:spPr>
              <a:xfrm>
                <a:off x="2209320" y="3661560"/>
                <a:ext cx="53388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3" name="Přímá spojovací šipka 79"/>
              <p:cNvCxnSpPr/>
              <p:nvPr/>
            </p:nvCxnSpPr>
            <p:spPr>
              <a:xfrm flipH="1">
                <a:off x="6095520" y="3661560"/>
                <a:ext cx="6102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54" name="TextovéPole 87"/>
              <p:cNvSpPr/>
              <p:nvPr/>
            </p:nvSpPr>
            <p:spPr>
              <a:xfrm>
                <a:off x="6324840" y="32004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ovéPole 88"/>
              <p:cNvSpPr/>
              <p:nvPr/>
            </p:nvSpPr>
            <p:spPr>
              <a:xfrm>
                <a:off x="2209680" y="32004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Skupina 111"/>
              <p:cNvGrpSpPr/>
              <p:nvPr/>
            </p:nvGrpSpPr>
            <p:grpSpPr>
              <a:xfrm>
                <a:off x="1219320" y="3321360"/>
                <a:ext cx="6629400" cy="2971440"/>
                <a:chOff x="1219320" y="3321360"/>
                <a:chExt cx="6629400" cy="2971440"/>
              </a:xfrm>
            </p:grpSpPr>
            <p:grpSp>
              <p:nvGrpSpPr>
                <p:cNvPr id="57" name="Skupina 75"/>
                <p:cNvGrpSpPr/>
                <p:nvPr/>
              </p:nvGrpSpPr>
              <p:grpSpPr>
                <a:xfrm>
                  <a:off x="1828800" y="3321360"/>
                  <a:ext cx="5257800" cy="2971440"/>
                  <a:chOff x="1828800" y="3321360"/>
                  <a:chExt cx="5257800" cy="2971440"/>
                </a:xfrm>
              </p:grpSpPr>
              <p:grpSp>
                <p:nvGrpSpPr>
                  <p:cNvPr id="58" name="Skupina 1"/>
                  <p:cNvGrpSpPr/>
                  <p:nvPr/>
                </p:nvGrpSpPr>
                <p:grpSpPr>
                  <a:xfrm>
                    <a:off x="3581280" y="3737880"/>
                    <a:ext cx="1676160" cy="2250000"/>
                    <a:chOff x="3581280" y="3737880"/>
                    <a:chExt cx="1676160" cy="2250000"/>
                  </a:xfrm>
                </p:grpSpPr>
                <p:grpSp>
                  <p:nvGrpSpPr>
                    <p:cNvPr id="59" name="Skupina 3"/>
                    <p:cNvGrpSpPr/>
                    <p:nvPr/>
                  </p:nvGrpSpPr>
                  <p:grpSpPr>
                    <a:xfrm>
                      <a:off x="3581280" y="3737880"/>
                      <a:ext cx="1676160" cy="2250000"/>
                      <a:chOff x="3581280" y="3737880"/>
                      <a:chExt cx="1676160" cy="2250000"/>
                    </a:xfrm>
                  </p:grpSpPr>
                  <p:sp>
                    <p:nvSpPr>
                      <p:cNvPr id="60" name="Elipsa 6"/>
                      <p:cNvSpPr/>
                      <p:nvPr/>
                    </p:nvSpPr>
                    <p:spPr>
                      <a:xfrm>
                        <a:off x="4038480" y="4207680"/>
                        <a:ext cx="1218960" cy="127008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" name="Přímá spojovací čára 7"/>
                      <p:cNvSpPr/>
                      <p:nvPr/>
                    </p:nvSpPr>
                    <p:spPr>
                      <a:xfrm>
                        <a:off x="4343040" y="4525200"/>
                        <a:ext cx="0" cy="635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" name="Přímá spojovací čára 8"/>
                      <p:cNvSpPr/>
                      <p:nvPr/>
                    </p:nvSpPr>
                    <p:spPr>
                      <a:xfrm flipV="1">
                        <a:off x="4343040" y="4393440"/>
                        <a:ext cx="735840" cy="448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" name="Přímá spojovací čára 9"/>
                      <p:cNvSpPr/>
                      <p:nvPr/>
                    </p:nvSpPr>
                    <p:spPr>
                      <a:xfrm>
                        <a:off x="4343040" y="4842720"/>
                        <a:ext cx="735840" cy="448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" name="Přímá spojovací čára 10"/>
                      <p:cNvSpPr/>
                      <p:nvPr/>
                    </p:nvSpPr>
                    <p:spPr>
                      <a:xfrm flipH="1">
                        <a:off x="4038480" y="484272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" name="Přímá spojovací čára 11"/>
                      <p:cNvSpPr/>
                      <p:nvPr/>
                    </p:nvSpPr>
                    <p:spPr>
                      <a:xfrm>
                        <a:off x="5078880" y="3737880"/>
                        <a:ext cx="0" cy="655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" name="Přímá spojovací čára 12"/>
                      <p:cNvSpPr/>
                      <p:nvPr/>
                    </p:nvSpPr>
                    <p:spPr>
                      <a:xfrm>
                        <a:off x="5078880" y="5291640"/>
                        <a:ext cx="0" cy="6962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" name="Přímá spojovací čára 13"/>
                      <p:cNvSpPr/>
                      <p:nvPr/>
                    </p:nvSpPr>
                    <p:spPr>
                      <a:xfrm flipH="1">
                        <a:off x="3581280" y="4842720"/>
                        <a:ext cx="457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8" name="TextovéPole 3"/>
                    <p:cNvSpPr/>
                    <p:nvPr/>
                  </p:nvSpPr>
                  <p:spPr>
                    <a:xfrm>
                      <a:off x="3733560" y="434736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TextovéPole 4"/>
                    <p:cNvSpPr/>
                    <p:nvPr/>
                  </p:nvSpPr>
                  <p:spPr>
                    <a:xfrm>
                      <a:off x="4647960" y="373788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TextovéPole 5"/>
                    <p:cNvSpPr/>
                    <p:nvPr/>
                  </p:nvSpPr>
                  <p:spPr>
                    <a:xfrm>
                      <a:off x="4647960" y="541440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Skupina 28"/>
                  <p:cNvGrpSpPr/>
                  <p:nvPr/>
                </p:nvGrpSpPr>
                <p:grpSpPr>
                  <a:xfrm>
                    <a:off x="1828800" y="3321360"/>
                    <a:ext cx="5257800" cy="2971440"/>
                    <a:chOff x="1828800" y="3321360"/>
                    <a:chExt cx="5257800" cy="2971440"/>
                  </a:xfrm>
                </p:grpSpPr>
                <p:sp>
                  <p:nvSpPr>
                    <p:cNvPr id="72" name="Obdélník 14"/>
                    <p:cNvSpPr/>
                    <p:nvPr/>
                  </p:nvSpPr>
                  <p:spPr>
                    <a:xfrm>
                      <a:off x="3047760" y="3321360"/>
                      <a:ext cx="2819520" cy="297144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" name="Skupina 18"/>
                    <p:cNvGrpSpPr/>
                    <p:nvPr/>
                  </p:nvGrpSpPr>
                  <p:grpSpPr>
                    <a:xfrm>
                      <a:off x="1828800" y="3661920"/>
                      <a:ext cx="1218600" cy="152280"/>
                      <a:chOff x="1828800" y="3661920"/>
                      <a:chExt cx="1218600" cy="152280"/>
                    </a:xfrm>
                  </p:grpSpPr>
                  <p:sp>
                    <p:nvSpPr>
                      <p:cNvPr id="74" name="Přímá spojovací čára 16"/>
                      <p:cNvSpPr/>
                      <p:nvPr/>
                    </p:nvSpPr>
                    <p:spPr>
                      <a:xfrm flipH="1">
                        <a:off x="1980720" y="3737880"/>
                        <a:ext cx="1066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" name="Elipsa 17"/>
                      <p:cNvSpPr/>
                      <p:nvPr/>
                    </p:nvSpPr>
                    <p:spPr>
                      <a:xfrm>
                        <a:off x="1828800" y="3661920"/>
                        <a:ext cx="152280" cy="15228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" name="Skupina 19"/>
                    <p:cNvGrpSpPr/>
                    <p:nvPr/>
                  </p:nvGrpSpPr>
                  <p:grpSpPr>
                    <a:xfrm>
                      <a:off x="1828800" y="5911920"/>
                      <a:ext cx="1218600" cy="152280"/>
                      <a:chOff x="1828800" y="5911920"/>
                      <a:chExt cx="1218600" cy="152280"/>
                    </a:xfrm>
                  </p:grpSpPr>
                  <p:sp>
                    <p:nvSpPr>
                      <p:cNvPr id="77" name="Přímá spojovací čára 20"/>
                      <p:cNvSpPr/>
                      <p:nvPr/>
                    </p:nvSpPr>
                    <p:spPr>
                      <a:xfrm flipH="1">
                        <a:off x="1980720" y="5987880"/>
                        <a:ext cx="1066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" name="Elipsa 21"/>
                      <p:cNvSpPr/>
                      <p:nvPr/>
                    </p:nvSpPr>
                    <p:spPr>
                      <a:xfrm>
                        <a:off x="1828800" y="5911920"/>
                        <a:ext cx="152280" cy="15228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" name="Skupina 22"/>
                    <p:cNvGrpSpPr/>
                    <p:nvPr/>
                  </p:nvGrpSpPr>
                  <p:grpSpPr>
                    <a:xfrm>
                      <a:off x="5868000" y="3661560"/>
                      <a:ext cx="1218600" cy="152280"/>
                      <a:chOff x="5868000" y="3661560"/>
                      <a:chExt cx="1218600" cy="152280"/>
                    </a:xfrm>
                  </p:grpSpPr>
                  <p:sp>
                    <p:nvSpPr>
                      <p:cNvPr id="80" name="Přímá spojovací čára 23"/>
                      <p:cNvSpPr/>
                      <p:nvPr/>
                    </p:nvSpPr>
                    <p:spPr>
                      <a:xfrm>
                        <a:off x="5868000" y="3737880"/>
                        <a:ext cx="1066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" name="Elipsa 24"/>
                      <p:cNvSpPr/>
                      <p:nvPr/>
                    </p:nvSpPr>
                    <p:spPr>
                      <a:xfrm rot="10800000">
                        <a:off x="6934320" y="3661560"/>
                        <a:ext cx="152280" cy="15228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" name="Skupina 25"/>
                    <p:cNvGrpSpPr/>
                    <p:nvPr/>
                  </p:nvGrpSpPr>
                  <p:grpSpPr>
                    <a:xfrm>
                      <a:off x="5868000" y="5911560"/>
                      <a:ext cx="1218600" cy="152280"/>
                      <a:chOff x="5868000" y="5911560"/>
                      <a:chExt cx="1218600" cy="152280"/>
                    </a:xfrm>
                  </p:grpSpPr>
                  <p:sp>
                    <p:nvSpPr>
                      <p:cNvPr id="83" name="Přímá spojovací čára 26"/>
                      <p:cNvSpPr/>
                      <p:nvPr/>
                    </p:nvSpPr>
                    <p:spPr>
                      <a:xfrm>
                        <a:off x="5868000" y="5987880"/>
                        <a:ext cx="1066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" name="Elipsa 27"/>
                      <p:cNvSpPr/>
                      <p:nvPr/>
                    </p:nvSpPr>
                    <p:spPr>
                      <a:xfrm rot="10800000">
                        <a:off x="6934320" y="5911560"/>
                        <a:ext cx="152280" cy="15228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5" name="Přímá spojovací čára 30"/>
                  <p:cNvSpPr/>
                  <p:nvPr/>
                </p:nvSpPr>
                <p:spPr>
                  <a:xfrm>
                    <a:off x="3047760" y="5988240"/>
                    <a:ext cx="2819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Přímá spojovací čára 32"/>
                  <p:cNvSpPr/>
                  <p:nvPr/>
                </p:nvSpPr>
                <p:spPr>
                  <a:xfrm flipH="1">
                    <a:off x="5078880" y="3737880"/>
                    <a:ext cx="788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Přímá spojovací čára 39"/>
                  <p:cNvSpPr/>
                  <p:nvPr/>
                </p:nvSpPr>
                <p:spPr>
                  <a:xfrm flipV="1">
                    <a:off x="3581280" y="3737520"/>
                    <a:ext cx="0" cy="1104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Přímá spojovací čára 41"/>
                  <p:cNvSpPr/>
                  <p:nvPr/>
                </p:nvSpPr>
                <p:spPr>
                  <a:xfrm flipH="1">
                    <a:off x="2895120" y="37378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Elipsa 42"/>
                  <p:cNvSpPr/>
                  <p:nvPr/>
                </p:nvSpPr>
                <p:spPr>
                  <a:xfrm>
                    <a:off x="5002920" y="587628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90" name="Přímá spojovací šipka 82"/>
                <p:cNvCxnSpPr/>
                <p:nvPr/>
              </p:nvCxnSpPr>
              <p:spPr>
                <a:xfrm>
                  <a:off x="7086600" y="3907440"/>
                  <a:ext cx="1080" cy="19684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91" name="Přímá spojovací šipka 83"/>
                <p:cNvCxnSpPr/>
                <p:nvPr/>
              </p:nvCxnSpPr>
              <p:spPr>
                <a:xfrm>
                  <a:off x="1828440" y="3907440"/>
                  <a:ext cx="1080" cy="19684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92" name="TextovéPole 89"/>
                <p:cNvSpPr/>
                <p:nvPr/>
              </p:nvSpPr>
              <p:spPr>
                <a:xfrm>
                  <a:off x="1219320" y="4578480"/>
                  <a:ext cx="7617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B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ovéPole 90"/>
                <p:cNvSpPr/>
                <p:nvPr/>
              </p:nvSpPr>
              <p:spPr>
                <a:xfrm>
                  <a:off x="7086960" y="4578480"/>
                  <a:ext cx="7617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ASTAVENÍ PRACOVNÍHO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"/>
          <p:cNvSpPr/>
          <p:nvPr/>
        </p:nvSpPr>
        <p:spPr>
          <a:xfrm>
            <a:off x="457200" y="9907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 mohl tranzistor správně fungovat, musí mít správně nastaven pracovní b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deme se zabývat zapojení tranzistoru v SE, jak jej správně připojit na napá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Přímá spojovací šipka 77"/>
          <p:cNvCxnSpPr/>
          <p:nvPr/>
        </p:nvCxnSpPr>
        <p:spPr>
          <a:xfrm>
            <a:off x="5257440" y="5292720"/>
            <a:ext cx="1080" cy="58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Přímá spojovací šipka 78"/>
          <p:cNvCxnSpPr/>
          <p:nvPr/>
        </p:nvCxnSpPr>
        <p:spPr>
          <a:xfrm>
            <a:off x="2209680" y="36619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Přímá spojovací šipka 79"/>
          <p:cNvCxnSpPr/>
          <p:nvPr/>
        </p:nvCxnSpPr>
        <p:spPr>
          <a:xfrm flipH="1">
            <a:off x="6095520" y="3661920"/>
            <a:ext cx="610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ovéPole 86"/>
          <p:cNvSpPr/>
          <p:nvPr/>
        </p:nvSpPr>
        <p:spPr>
          <a:xfrm>
            <a:off x="5257800" y="5292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87"/>
          <p:cNvSpPr/>
          <p:nvPr/>
        </p:nvSpPr>
        <p:spPr>
          <a:xfrm>
            <a:off x="6324480" y="3200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88"/>
          <p:cNvSpPr/>
          <p:nvPr/>
        </p:nvSpPr>
        <p:spPr>
          <a:xfrm>
            <a:off x="2209680" y="3200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11"/>
          <p:cNvGrpSpPr/>
          <p:nvPr/>
        </p:nvGrpSpPr>
        <p:grpSpPr>
          <a:xfrm>
            <a:off x="1219320" y="3321000"/>
            <a:ext cx="6629400" cy="2971800"/>
            <a:chOff x="1219320" y="3321000"/>
            <a:chExt cx="6629400" cy="2971800"/>
          </a:xfrm>
        </p:grpSpPr>
        <p:grpSp>
          <p:nvGrpSpPr>
            <p:cNvPr id="103" name="Skupina 75"/>
            <p:cNvGrpSpPr/>
            <p:nvPr/>
          </p:nvGrpSpPr>
          <p:grpSpPr>
            <a:xfrm>
              <a:off x="1828800" y="3321000"/>
              <a:ext cx="5257800" cy="2971800"/>
              <a:chOff x="1828800" y="3321000"/>
              <a:chExt cx="5257800" cy="2971800"/>
            </a:xfrm>
          </p:grpSpPr>
          <p:grpSp>
            <p:nvGrpSpPr>
              <p:cNvPr id="104" name="Skupina 1"/>
              <p:cNvGrpSpPr/>
              <p:nvPr/>
            </p:nvGrpSpPr>
            <p:grpSpPr>
              <a:xfrm>
                <a:off x="3581280" y="3737880"/>
                <a:ext cx="1676160" cy="2250360"/>
                <a:chOff x="3581280" y="3737880"/>
                <a:chExt cx="1676160" cy="2250360"/>
              </a:xfrm>
            </p:grpSpPr>
            <p:grpSp>
              <p:nvGrpSpPr>
                <p:cNvPr id="105" name="Skupina 3"/>
                <p:cNvGrpSpPr/>
                <p:nvPr/>
              </p:nvGrpSpPr>
              <p:grpSpPr>
                <a:xfrm>
                  <a:off x="3581280" y="3737880"/>
                  <a:ext cx="1676160" cy="2250360"/>
                  <a:chOff x="3581280" y="3737880"/>
                  <a:chExt cx="1676160" cy="2250360"/>
                </a:xfrm>
              </p:grpSpPr>
              <p:sp>
                <p:nvSpPr>
                  <p:cNvPr id="106" name="Elipsa 6"/>
                  <p:cNvSpPr/>
                  <p:nvPr/>
                </p:nvSpPr>
                <p:spPr>
                  <a:xfrm>
                    <a:off x="4038480" y="4207680"/>
                    <a:ext cx="1218960" cy="127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Přímá spojovací čára 7"/>
                  <p:cNvSpPr/>
                  <p:nvPr/>
                </p:nvSpPr>
                <p:spPr>
                  <a:xfrm>
                    <a:off x="4343040" y="4525200"/>
                    <a:ext cx="0" cy="635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Přímá spojovací čára 8"/>
                  <p:cNvSpPr/>
                  <p:nvPr/>
                </p:nvSpPr>
                <p:spPr>
                  <a:xfrm flipV="1">
                    <a:off x="4343040" y="439344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Přímá spojovací čára 9"/>
                  <p:cNvSpPr/>
                  <p:nvPr/>
                </p:nvSpPr>
                <p:spPr>
                  <a:xfrm>
                    <a:off x="4343040" y="484272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Přímá spojovací čára 10"/>
                  <p:cNvSpPr/>
                  <p:nvPr/>
                </p:nvSpPr>
                <p:spPr>
                  <a:xfrm flipH="1">
                    <a:off x="4038480" y="484272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Přímá spojovací čára 11"/>
                  <p:cNvSpPr/>
                  <p:nvPr/>
                </p:nvSpPr>
                <p:spPr>
                  <a:xfrm>
                    <a:off x="5078880" y="3737880"/>
                    <a:ext cx="0" cy="65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Přímá spojovací čára 12"/>
                  <p:cNvSpPr/>
                  <p:nvPr/>
                </p:nvSpPr>
                <p:spPr>
                  <a:xfrm>
                    <a:off x="5078880" y="5292000"/>
                    <a:ext cx="0" cy="696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Přímá spojovací čára 13"/>
                  <p:cNvSpPr/>
                  <p:nvPr/>
                </p:nvSpPr>
                <p:spPr>
                  <a:xfrm flipH="1">
                    <a:off x="3581280" y="48427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TextovéPole 3"/>
                <p:cNvSpPr/>
                <p:nvPr/>
              </p:nvSpPr>
              <p:spPr>
                <a:xfrm>
                  <a:off x="3733560" y="43473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ovéPole 4"/>
                <p:cNvSpPr/>
                <p:nvPr/>
              </p:nvSpPr>
              <p:spPr>
                <a:xfrm>
                  <a:off x="4647960" y="37378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ovéPole 5"/>
                <p:cNvSpPr/>
                <p:nvPr/>
              </p:nvSpPr>
              <p:spPr>
                <a:xfrm>
                  <a:off x="4647960" y="54144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Skupina 28"/>
              <p:cNvGrpSpPr/>
              <p:nvPr/>
            </p:nvGrpSpPr>
            <p:grpSpPr>
              <a:xfrm>
                <a:off x="1828800" y="3321000"/>
                <a:ext cx="5257800" cy="2971800"/>
                <a:chOff x="1828800" y="3321000"/>
                <a:chExt cx="5257800" cy="2971800"/>
              </a:xfrm>
            </p:grpSpPr>
            <p:sp>
              <p:nvSpPr>
                <p:cNvPr id="118" name="Obdélník 14"/>
                <p:cNvSpPr/>
                <p:nvPr/>
              </p:nvSpPr>
              <p:spPr>
                <a:xfrm>
                  <a:off x="3047760" y="3321000"/>
                  <a:ext cx="2819520" cy="2971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Skupina 18"/>
                <p:cNvGrpSpPr/>
                <p:nvPr/>
              </p:nvGrpSpPr>
              <p:grpSpPr>
                <a:xfrm>
                  <a:off x="1828800" y="3661560"/>
                  <a:ext cx="1218600" cy="152280"/>
                  <a:chOff x="1828800" y="3661560"/>
                  <a:chExt cx="1218600" cy="152280"/>
                </a:xfrm>
              </p:grpSpPr>
              <p:sp>
                <p:nvSpPr>
                  <p:cNvPr id="120" name="Přímá spojovací čára 16"/>
                  <p:cNvSpPr/>
                  <p:nvPr/>
                </p:nvSpPr>
                <p:spPr>
                  <a:xfrm flipH="1">
                    <a:off x="1980720" y="37375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Elipsa 17"/>
                  <p:cNvSpPr/>
                  <p:nvPr/>
                </p:nvSpPr>
                <p:spPr>
                  <a:xfrm>
                    <a:off x="1828800" y="36615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Skupina 19"/>
                <p:cNvGrpSpPr/>
                <p:nvPr/>
              </p:nvGrpSpPr>
              <p:grpSpPr>
                <a:xfrm>
                  <a:off x="1828800" y="5911920"/>
                  <a:ext cx="1218600" cy="152280"/>
                  <a:chOff x="1828800" y="5911920"/>
                  <a:chExt cx="1218600" cy="152280"/>
                </a:xfrm>
              </p:grpSpPr>
              <p:sp>
                <p:nvSpPr>
                  <p:cNvPr id="123" name="Přímá spojovací čára 20"/>
                  <p:cNvSpPr/>
                  <p:nvPr/>
                </p:nvSpPr>
                <p:spPr>
                  <a:xfrm flipH="1">
                    <a:off x="1980720" y="59878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Elipsa 21"/>
                  <p:cNvSpPr/>
                  <p:nvPr/>
                </p:nvSpPr>
                <p:spPr>
                  <a:xfrm>
                    <a:off x="1828800" y="59119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Skupina 22"/>
                <p:cNvGrpSpPr/>
                <p:nvPr/>
              </p:nvGrpSpPr>
              <p:grpSpPr>
                <a:xfrm>
                  <a:off x="5868000" y="3661200"/>
                  <a:ext cx="1218600" cy="152280"/>
                  <a:chOff x="5868000" y="3661200"/>
                  <a:chExt cx="1218600" cy="152280"/>
                </a:xfrm>
              </p:grpSpPr>
              <p:sp>
                <p:nvSpPr>
                  <p:cNvPr id="126" name="Přímá spojovací čára 23"/>
                  <p:cNvSpPr/>
                  <p:nvPr/>
                </p:nvSpPr>
                <p:spPr>
                  <a:xfrm>
                    <a:off x="5868000" y="37375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Elipsa 24"/>
                  <p:cNvSpPr/>
                  <p:nvPr/>
                </p:nvSpPr>
                <p:spPr>
                  <a:xfrm rot="10800000">
                    <a:off x="6934320" y="36612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Skupina 25"/>
                <p:cNvGrpSpPr/>
                <p:nvPr/>
              </p:nvGrpSpPr>
              <p:grpSpPr>
                <a:xfrm>
                  <a:off x="5868000" y="5911560"/>
                  <a:ext cx="1218600" cy="152280"/>
                  <a:chOff x="5868000" y="5911560"/>
                  <a:chExt cx="1218600" cy="152280"/>
                </a:xfrm>
              </p:grpSpPr>
              <p:sp>
                <p:nvSpPr>
                  <p:cNvPr id="129" name="Přímá spojovací čára 26"/>
                  <p:cNvSpPr/>
                  <p:nvPr/>
                </p:nvSpPr>
                <p:spPr>
                  <a:xfrm>
                    <a:off x="5868000" y="59878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Elipsa 27"/>
                  <p:cNvSpPr/>
                  <p:nvPr/>
                </p:nvSpPr>
                <p:spPr>
                  <a:xfrm rot="10800000">
                    <a:off x="6934320" y="59115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Přímá spojovací čára 30"/>
              <p:cNvSpPr/>
              <p:nvPr/>
            </p:nvSpPr>
            <p:spPr>
              <a:xfrm>
                <a:off x="3047760" y="598824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Přímá spojovací čára 32"/>
              <p:cNvSpPr/>
              <p:nvPr/>
            </p:nvSpPr>
            <p:spPr>
              <a:xfrm flipH="1">
                <a:off x="5078880" y="3737880"/>
                <a:ext cx="78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Přímá spojovací čára 39"/>
              <p:cNvSpPr/>
              <p:nvPr/>
            </p:nvSpPr>
            <p:spPr>
              <a:xfrm flipV="1">
                <a:off x="3581280" y="3737520"/>
                <a:ext cx="0" cy="11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Přímá spojovací čára 41"/>
              <p:cNvSpPr/>
              <p:nvPr/>
            </p:nvSpPr>
            <p:spPr>
              <a:xfrm flipH="1">
                <a:off x="2895120" y="37378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Elipsa 42"/>
              <p:cNvSpPr/>
              <p:nvPr/>
            </p:nvSpPr>
            <p:spPr>
              <a:xfrm>
                <a:off x="5002920" y="5875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6" name="Přímá spojovací šipka 82"/>
            <p:cNvCxnSpPr/>
            <p:nvPr/>
          </p:nvCxnSpPr>
          <p:spPr>
            <a:xfrm>
              <a:off x="7086600" y="390744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" name="Přímá spojovací šipka 83"/>
            <p:cNvCxnSpPr/>
            <p:nvPr/>
          </p:nvCxnSpPr>
          <p:spPr>
            <a:xfrm>
              <a:off x="1828440" y="390744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8" name="TextovéPole 89"/>
            <p:cNvSpPr/>
            <p:nvPr/>
          </p:nvSpPr>
          <p:spPr>
            <a:xfrm>
              <a:off x="1219320" y="4578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ovéPole 90"/>
            <p:cNvSpPr/>
            <p:nvPr/>
          </p:nvSpPr>
          <p:spPr>
            <a:xfrm>
              <a:off x="7086960" y="4578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Skupina 62"/>
          <p:cNvGrpSpPr/>
          <p:nvPr/>
        </p:nvGrpSpPr>
        <p:grpSpPr>
          <a:xfrm>
            <a:off x="4267080" y="2666880"/>
            <a:ext cx="1600200" cy="3962520"/>
            <a:chOff x="4267080" y="2666880"/>
            <a:chExt cx="1600200" cy="3962520"/>
          </a:xfrm>
        </p:grpSpPr>
        <p:sp>
          <p:nvSpPr>
            <p:cNvPr id="141" name="Přímá spojovací čára 65"/>
            <p:cNvSpPr/>
            <p:nvPr/>
          </p:nvSpPr>
          <p:spPr>
            <a:xfrm>
              <a:off x="4419360" y="297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Elipsa 24"/>
            <p:cNvSpPr/>
            <p:nvPr/>
          </p:nvSpPr>
          <p:spPr>
            <a:xfrm rot="10800000">
              <a:off x="4342680" y="281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Skupina 96"/>
            <p:cNvGrpSpPr/>
            <p:nvPr/>
          </p:nvGrpSpPr>
          <p:grpSpPr>
            <a:xfrm>
              <a:off x="4267080" y="6324840"/>
              <a:ext cx="304560" cy="304560"/>
              <a:chOff x="4267080" y="6324840"/>
              <a:chExt cx="304560" cy="304560"/>
            </a:xfrm>
          </p:grpSpPr>
          <p:sp>
            <p:nvSpPr>
              <p:cNvPr id="144" name="Přímá spojovací čára 74"/>
              <p:cNvSpPr/>
              <p:nvPr/>
            </p:nvSpPr>
            <p:spPr>
              <a:xfrm>
                <a:off x="4419360" y="63248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Přímá spojovací čára 94"/>
              <p:cNvSpPr/>
              <p:nvPr/>
            </p:nvSpPr>
            <p:spPr>
              <a:xfrm>
                <a:off x="4267080" y="66294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ovéPole 95"/>
            <p:cNvSpPr/>
            <p:nvPr/>
          </p:nvSpPr>
          <p:spPr>
            <a:xfrm>
              <a:off x="4495680" y="266688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Skupina 63"/>
          <p:cNvGrpSpPr/>
          <p:nvPr/>
        </p:nvGrpSpPr>
        <p:grpSpPr>
          <a:xfrm>
            <a:off x="3581280" y="3352680"/>
            <a:ext cx="1524240" cy="2971800"/>
            <a:chOff x="3581280" y="3352680"/>
            <a:chExt cx="1524240" cy="2971800"/>
          </a:xfrm>
        </p:grpSpPr>
        <p:sp>
          <p:nvSpPr>
            <p:cNvPr id="148" name="Přímá spojovací čára 98"/>
            <p:cNvSpPr/>
            <p:nvPr/>
          </p:nvSpPr>
          <p:spPr>
            <a:xfrm>
              <a:off x="3581280" y="373356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ovací čára 103"/>
            <p:cNvSpPr/>
            <p:nvPr/>
          </p:nvSpPr>
          <p:spPr>
            <a:xfrm>
              <a:off x="4419720" y="3352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Elipsa 24"/>
            <p:cNvSpPr/>
            <p:nvPr/>
          </p:nvSpPr>
          <p:spPr>
            <a:xfrm rot="10800000">
              <a:off x="4343040" y="3656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ovací čára 108"/>
            <p:cNvSpPr/>
            <p:nvPr/>
          </p:nvSpPr>
          <p:spPr>
            <a:xfrm flipV="1">
              <a:off x="4419720" y="5943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Elipsa 42"/>
            <p:cNvSpPr/>
            <p:nvPr/>
          </p:nvSpPr>
          <p:spPr>
            <a:xfrm>
              <a:off x="4342680" y="5914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ASTAVENÍ PRACOVNÍHO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2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udeme se zabývat zpracování signál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nebudeme uvažovat vstupní a výstupní svor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Přímá spojovací šipka 77"/>
          <p:cNvCxnSpPr/>
          <p:nvPr/>
        </p:nvCxnSpPr>
        <p:spPr>
          <a:xfrm>
            <a:off x="5257440" y="5292720"/>
            <a:ext cx="1080" cy="58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Přímá spojovací šipka 78"/>
          <p:cNvCxnSpPr/>
          <p:nvPr/>
        </p:nvCxnSpPr>
        <p:spPr>
          <a:xfrm>
            <a:off x="2209680" y="36619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Přímá spojovací šipka 79"/>
          <p:cNvCxnSpPr/>
          <p:nvPr/>
        </p:nvCxnSpPr>
        <p:spPr>
          <a:xfrm flipH="1">
            <a:off x="6095520" y="3661920"/>
            <a:ext cx="610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ovéPole 86"/>
          <p:cNvSpPr/>
          <p:nvPr/>
        </p:nvSpPr>
        <p:spPr>
          <a:xfrm>
            <a:off x="5257800" y="5292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87"/>
          <p:cNvSpPr/>
          <p:nvPr/>
        </p:nvSpPr>
        <p:spPr>
          <a:xfrm>
            <a:off x="6324480" y="3200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88"/>
          <p:cNvSpPr/>
          <p:nvPr/>
        </p:nvSpPr>
        <p:spPr>
          <a:xfrm>
            <a:off x="2209680" y="32004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Skupina 111"/>
          <p:cNvGrpSpPr/>
          <p:nvPr/>
        </p:nvGrpSpPr>
        <p:grpSpPr>
          <a:xfrm>
            <a:off x="1219320" y="3321000"/>
            <a:ext cx="6629400" cy="2971800"/>
            <a:chOff x="1219320" y="3321000"/>
            <a:chExt cx="6629400" cy="2971800"/>
          </a:xfrm>
        </p:grpSpPr>
        <p:grpSp>
          <p:nvGrpSpPr>
            <p:cNvPr id="162" name="Skupina 75"/>
            <p:cNvGrpSpPr/>
            <p:nvPr/>
          </p:nvGrpSpPr>
          <p:grpSpPr>
            <a:xfrm>
              <a:off x="1828800" y="3321000"/>
              <a:ext cx="5257800" cy="2971800"/>
              <a:chOff x="1828800" y="3321000"/>
              <a:chExt cx="5257800" cy="2971800"/>
            </a:xfrm>
          </p:grpSpPr>
          <p:grpSp>
            <p:nvGrpSpPr>
              <p:cNvPr id="163" name="Skupina 1"/>
              <p:cNvGrpSpPr/>
              <p:nvPr/>
            </p:nvGrpSpPr>
            <p:grpSpPr>
              <a:xfrm>
                <a:off x="3581280" y="3737880"/>
                <a:ext cx="1676160" cy="2250360"/>
                <a:chOff x="3581280" y="3737880"/>
                <a:chExt cx="1676160" cy="2250360"/>
              </a:xfrm>
            </p:grpSpPr>
            <p:grpSp>
              <p:nvGrpSpPr>
                <p:cNvPr id="164" name="Skupina 3"/>
                <p:cNvGrpSpPr/>
                <p:nvPr/>
              </p:nvGrpSpPr>
              <p:grpSpPr>
                <a:xfrm>
                  <a:off x="3581280" y="3737880"/>
                  <a:ext cx="1676160" cy="2250360"/>
                  <a:chOff x="3581280" y="3737880"/>
                  <a:chExt cx="1676160" cy="2250360"/>
                </a:xfrm>
              </p:grpSpPr>
              <p:sp>
                <p:nvSpPr>
                  <p:cNvPr id="165" name="Elipsa 6"/>
                  <p:cNvSpPr/>
                  <p:nvPr/>
                </p:nvSpPr>
                <p:spPr>
                  <a:xfrm>
                    <a:off x="4038480" y="4207680"/>
                    <a:ext cx="1218960" cy="127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Přímá spojovací čára 7"/>
                  <p:cNvSpPr/>
                  <p:nvPr/>
                </p:nvSpPr>
                <p:spPr>
                  <a:xfrm>
                    <a:off x="4343040" y="4525200"/>
                    <a:ext cx="0" cy="635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Přímá spojovací čára 8"/>
                  <p:cNvSpPr/>
                  <p:nvPr/>
                </p:nvSpPr>
                <p:spPr>
                  <a:xfrm flipV="1">
                    <a:off x="4343040" y="439344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Přímá spojovací čára 9"/>
                  <p:cNvSpPr/>
                  <p:nvPr/>
                </p:nvSpPr>
                <p:spPr>
                  <a:xfrm>
                    <a:off x="4343040" y="484272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Přímá spojovací čára 10"/>
                  <p:cNvSpPr/>
                  <p:nvPr/>
                </p:nvSpPr>
                <p:spPr>
                  <a:xfrm flipH="1">
                    <a:off x="4038480" y="484272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Přímá spojovací čára 11"/>
                  <p:cNvSpPr/>
                  <p:nvPr/>
                </p:nvSpPr>
                <p:spPr>
                  <a:xfrm>
                    <a:off x="5078880" y="3737880"/>
                    <a:ext cx="0" cy="65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Přímá spojovací čára 12"/>
                  <p:cNvSpPr/>
                  <p:nvPr/>
                </p:nvSpPr>
                <p:spPr>
                  <a:xfrm>
                    <a:off x="5078880" y="5292000"/>
                    <a:ext cx="0" cy="696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Přímá spojovací čára 13"/>
                  <p:cNvSpPr/>
                  <p:nvPr/>
                </p:nvSpPr>
                <p:spPr>
                  <a:xfrm flipH="1">
                    <a:off x="3581280" y="48427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TextovéPole 3"/>
                <p:cNvSpPr/>
                <p:nvPr/>
              </p:nvSpPr>
              <p:spPr>
                <a:xfrm>
                  <a:off x="3733560" y="43473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ovéPole 4"/>
                <p:cNvSpPr/>
                <p:nvPr/>
              </p:nvSpPr>
              <p:spPr>
                <a:xfrm>
                  <a:off x="4647960" y="37378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TextovéPole 5"/>
                <p:cNvSpPr/>
                <p:nvPr/>
              </p:nvSpPr>
              <p:spPr>
                <a:xfrm>
                  <a:off x="4647960" y="54144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Skupina 28"/>
              <p:cNvGrpSpPr/>
              <p:nvPr/>
            </p:nvGrpSpPr>
            <p:grpSpPr>
              <a:xfrm>
                <a:off x="1828800" y="3321000"/>
                <a:ext cx="5257800" cy="2971800"/>
                <a:chOff x="1828800" y="3321000"/>
                <a:chExt cx="5257800" cy="2971800"/>
              </a:xfrm>
            </p:grpSpPr>
            <p:sp>
              <p:nvSpPr>
                <p:cNvPr id="177" name="Obdélník 14"/>
                <p:cNvSpPr/>
                <p:nvPr/>
              </p:nvSpPr>
              <p:spPr>
                <a:xfrm>
                  <a:off x="3047760" y="3321000"/>
                  <a:ext cx="2819520" cy="29718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Skupina 18"/>
                <p:cNvGrpSpPr/>
                <p:nvPr/>
              </p:nvGrpSpPr>
              <p:grpSpPr>
                <a:xfrm>
                  <a:off x="1828800" y="3661560"/>
                  <a:ext cx="1218600" cy="152280"/>
                  <a:chOff x="1828800" y="3661560"/>
                  <a:chExt cx="1218600" cy="152280"/>
                </a:xfrm>
              </p:grpSpPr>
              <p:sp>
                <p:nvSpPr>
                  <p:cNvPr id="179" name="Přímá spojovací čára 16"/>
                  <p:cNvSpPr/>
                  <p:nvPr/>
                </p:nvSpPr>
                <p:spPr>
                  <a:xfrm flipH="1">
                    <a:off x="1980720" y="37375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Elipsa 17"/>
                  <p:cNvSpPr/>
                  <p:nvPr/>
                </p:nvSpPr>
                <p:spPr>
                  <a:xfrm>
                    <a:off x="1828800" y="36615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Skupina 19"/>
                <p:cNvGrpSpPr/>
                <p:nvPr/>
              </p:nvGrpSpPr>
              <p:grpSpPr>
                <a:xfrm>
                  <a:off x="1828800" y="5911920"/>
                  <a:ext cx="1218600" cy="152280"/>
                  <a:chOff x="1828800" y="5911920"/>
                  <a:chExt cx="1218600" cy="152280"/>
                </a:xfrm>
              </p:grpSpPr>
              <p:sp>
                <p:nvSpPr>
                  <p:cNvPr id="182" name="Přímá spojovací čára 20"/>
                  <p:cNvSpPr/>
                  <p:nvPr/>
                </p:nvSpPr>
                <p:spPr>
                  <a:xfrm flipH="1">
                    <a:off x="1980720" y="59878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Elipsa 21"/>
                  <p:cNvSpPr/>
                  <p:nvPr/>
                </p:nvSpPr>
                <p:spPr>
                  <a:xfrm>
                    <a:off x="1828800" y="59119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Skupina 22"/>
                <p:cNvGrpSpPr/>
                <p:nvPr/>
              </p:nvGrpSpPr>
              <p:grpSpPr>
                <a:xfrm>
                  <a:off x="5868000" y="3661200"/>
                  <a:ext cx="1218600" cy="152280"/>
                  <a:chOff x="5868000" y="3661200"/>
                  <a:chExt cx="1218600" cy="152280"/>
                </a:xfrm>
              </p:grpSpPr>
              <p:sp>
                <p:nvSpPr>
                  <p:cNvPr id="185" name="Přímá spojovací čára 23"/>
                  <p:cNvSpPr/>
                  <p:nvPr/>
                </p:nvSpPr>
                <p:spPr>
                  <a:xfrm>
                    <a:off x="5868000" y="37375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Elipsa 24"/>
                  <p:cNvSpPr/>
                  <p:nvPr/>
                </p:nvSpPr>
                <p:spPr>
                  <a:xfrm rot="10800000">
                    <a:off x="6934320" y="36612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Skupina 25"/>
                <p:cNvGrpSpPr/>
                <p:nvPr/>
              </p:nvGrpSpPr>
              <p:grpSpPr>
                <a:xfrm>
                  <a:off x="5868000" y="5911560"/>
                  <a:ext cx="1218600" cy="152280"/>
                  <a:chOff x="5868000" y="5911560"/>
                  <a:chExt cx="1218600" cy="152280"/>
                </a:xfrm>
              </p:grpSpPr>
              <p:sp>
                <p:nvSpPr>
                  <p:cNvPr id="188" name="Přímá spojovací čára 26"/>
                  <p:cNvSpPr/>
                  <p:nvPr/>
                </p:nvSpPr>
                <p:spPr>
                  <a:xfrm>
                    <a:off x="5868000" y="59878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Elipsa 27"/>
                  <p:cNvSpPr/>
                  <p:nvPr/>
                </p:nvSpPr>
                <p:spPr>
                  <a:xfrm rot="10800000">
                    <a:off x="6934320" y="59115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0" name="Přímá spojovací čára 30"/>
              <p:cNvSpPr/>
              <p:nvPr/>
            </p:nvSpPr>
            <p:spPr>
              <a:xfrm>
                <a:off x="3047760" y="598824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Přímá spojovací čára 32"/>
              <p:cNvSpPr/>
              <p:nvPr/>
            </p:nvSpPr>
            <p:spPr>
              <a:xfrm flipH="1">
                <a:off x="5078880" y="3737880"/>
                <a:ext cx="78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Přímá spojovací čára 39"/>
              <p:cNvSpPr/>
              <p:nvPr/>
            </p:nvSpPr>
            <p:spPr>
              <a:xfrm flipV="1">
                <a:off x="3581280" y="3737520"/>
                <a:ext cx="0" cy="11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Přímá spojovací čára 41"/>
              <p:cNvSpPr/>
              <p:nvPr/>
            </p:nvSpPr>
            <p:spPr>
              <a:xfrm flipH="1">
                <a:off x="2895120" y="37378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Elipsa 42"/>
              <p:cNvSpPr/>
              <p:nvPr/>
            </p:nvSpPr>
            <p:spPr>
              <a:xfrm>
                <a:off x="5002920" y="5875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5" name="Přímá spojovací šipka 82"/>
            <p:cNvCxnSpPr/>
            <p:nvPr/>
          </p:nvCxnSpPr>
          <p:spPr>
            <a:xfrm>
              <a:off x="7086600" y="390744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6" name="Přímá spojovací šipka 83"/>
            <p:cNvCxnSpPr/>
            <p:nvPr/>
          </p:nvCxnSpPr>
          <p:spPr>
            <a:xfrm>
              <a:off x="1828440" y="390744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7" name="TextovéPole 89"/>
            <p:cNvSpPr/>
            <p:nvPr/>
          </p:nvSpPr>
          <p:spPr>
            <a:xfrm>
              <a:off x="1219320" y="4578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ovéPole 90"/>
            <p:cNvSpPr/>
            <p:nvPr/>
          </p:nvSpPr>
          <p:spPr>
            <a:xfrm>
              <a:off x="7086960" y="4578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Skupina 62"/>
          <p:cNvGrpSpPr/>
          <p:nvPr/>
        </p:nvGrpSpPr>
        <p:grpSpPr>
          <a:xfrm>
            <a:off x="4267080" y="2666880"/>
            <a:ext cx="1600200" cy="3962520"/>
            <a:chOff x="4267080" y="2666880"/>
            <a:chExt cx="1600200" cy="3962520"/>
          </a:xfrm>
        </p:grpSpPr>
        <p:sp>
          <p:nvSpPr>
            <p:cNvPr id="200" name="Přímá spojovací čára 65"/>
            <p:cNvSpPr/>
            <p:nvPr/>
          </p:nvSpPr>
          <p:spPr>
            <a:xfrm>
              <a:off x="4419360" y="297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Elipsa 24"/>
            <p:cNvSpPr/>
            <p:nvPr/>
          </p:nvSpPr>
          <p:spPr>
            <a:xfrm rot="10800000">
              <a:off x="4342680" y="281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Skupina 96"/>
            <p:cNvGrpSpPr/>
            <p:nvPr/>
          </p:nvGrpSpPr>
          <p:grpSpPr>
            <a:xfrm>
              <a:off x="4267080" y="6324840"/>
              <a:ext cx="304560" cy="304560"/>
              <a:chOff x="4267080" y="6324840"/>
              <a:chExt cx="304560" cy="304560"/>
            </a:xfrm>
          </p:grpSpPr>
          <p:sp>
            <p:nvSpPr>
              <p:cNvPr id="203" name="Přímá spojovací čára 74"/>
              <p:cNvSpPr/>
              <p:nvPr/>
            </p:nvSpPr>
            <p:spPr>
              <a:xfrm>
                <a:off x="4419360" y="63248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Přímá spojovací čára 94"/>
              <p:cNvSpPr/>
              <p:nvPr/>
            </p:nvSpPr>
            <p:spPr>
              <a:xfrm>
                <a:off x="4267080" y="66294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ovéPole 95"/>
            <p:cNvSpPr/>
            <p:nvPr/>
          </p:nvSpPr>
          <p:spPr>
            <a:xfrm>
              <a:off x="4495680" y="266688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Skupina 63"/>
          <p:cNvGrpSpPr/>
          <p:nvPr/>
        </p:nvGrpSpPr>
        <p:grpSpPr>
          <a:xfrm>
            <a:off x="3581280" y="3352680"/>
            <a:ext cx="1524240" cy="2971800"/>
            <a:chOff x="3581280" y="3352680"/>
            <a:chExt cx="1524240" cy="2971800"/>
          </a:xfrm>
        </p:grpSpPr>
        <p:sp>
          <p:nvSpPr>
            <p:cNvPr id="207" name="Přímá spojovací čára 98"/>
            <p:cNvSpPr/>
            <p:nvPr/>
          </p:nvSpPr>
          <p:spPr>
            <a:xfrm>
              <a:off x="3581280" y="373356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Přímá spojovací čára 103"/>
            <p:cNvSpPr/>
            <p:nvPr/>
          </p:nvSpPr>
          <p:spPr>
            <a:xfrm>
              <a:off x="4419720" y="3352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Elipsa 24"/>
            <p:cNvSpPr/>
            <p:nvPr/>
          </p:nvSpPr>
          <p:spPr>
            <a:xfrm rot="10800000">
              <a:off x="4343040" y="3656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římá spojovací čára 108"/>
            <p:cNvSpPr/>
            <p:nvPr/>
          </p:nvSpPr>
          <p:spPr>
            <a:xfrm flipV="1">
              <a:off x="4419720" y="5943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lipsa 42"/>
            <p:cNvSpPr/>
            <p:nvPr/>
          </p:nvSpPr>
          <p:spPr>
            <a:xfrm>
              <a:off x="4342680" y="5914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ASTAVENÍ PRACOVNÍHO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ovéPole 2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udeme se zabývat zpracování signál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nebudeme uvažovat vstupní a výstupní svor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Skupina 111"/>
          <p:cNvGrpSpPr/>
          <p:nvPr/>
        </p:nvGrpSpPr>
        <p:grpSpPr>
          <a:xfrm>
            <a:off x="2971800" y="2666880"/>
            <a:ext cx="3521160" cy="3810240"/>
            <a:chOff x="2971800" y="2666880"/>
            <a:chExt cx="3521160" cy="3810240"/>
          </a:xfrm>
        </p:grpSpPr>
        <p:grpSp>
          <p:nvGrpSpPr>
            <p:cNvPr id="215" name="Skupina 100"/>
            <p:cNvGrpSpPr/>
            <p:nvPr/>
          </p:nvGrpSpPr>
          <p:grpSpPr>
            <a:xfrm>
              <a:off x="2971800" y="2666880"/>
              <a:ext cx="2896200" cy="3810240"/>
              <a:chOff x="2971800" y="2666880"/>
              <a:chExt cx="2896200" cy="3810240"/>
            </a:xfrm>
          </p:grpSpPr>
          <p:grpSp>
            <p:nvGrpSpPr>
              <p:cNvPr id="216" name="Skupina 79"/>
              <p:cNvGrpSpPr/>
              <p:nvPr/>
            </p:nvGrpSpPr>
            <p:grpSpPr>
              <a:xfrm>
                <a:off x="3581280" y="2666880"/>
                <a:ext cx="2286720" cy="3810240"/>
                <a:chOff x="3581280" y="2666880"/>
                <a:chExt cx="2286720" cy="3810240"/>
              </a:xfrm>
            </p:grpSpPr>
            <p:cxnSp>
              <p:nvCxnSpPr>
                <p:cNvPr id="217" name="Přímá spojovací šipka 77"/>
                <p:cNvCxnSpPr/>
                <p:nvPr/>
              </p:nvCxnSpPr>
              <p:spPr>
                <a:xfrm>
                  <a:off x="5257800" y="5292000"/>
                  <a:ext cx="1080" cy="5846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18" name="TextovéPole 86"/>
                <p:cNvSpPr/>
                <p:nvPr/>
              </p:nvSpPr>
              <p:spPr>
                <a:xfrm>
                  <a:off x="5258160" y="5292000"/>
                  <a:ext cx="6098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" name="Skupina 75"/>
                <p:cNvGrpSpPr/>
                <p:nvPr/>
              </p:nvGrpSpPr>
              <p:grpSpPr>
                <a:xfrm>
                  <a:off x="3581280" y="3737880"/>
                  <a:ext cx="1676880" cy="2739240"/>
                  <a:chOff x="3581280" y="3737880"/>
                  <a:chExt cx="1676880" cy="2739240"/>
                </a:xfrm>
              </p:grpSpPr>
              <p:grpSp>
                <p:nvGrpSpPr>
                  <p:cNvPr id="220" name="Skupina 1"/>
                  <p:cNvGrpSpPr/>
                  <p:nvPr/>
                </p:nvGrpSpPr>
                <p:grpSpPr>
                  <a:xfrm>
                    <a:off x="3581280" y="3738240"/>
                    <a:ext cx="1676880" cy="2738880"/>
                    <a:chOff x="3581280" y="3738240"/>
                    <a:chExt cx="1676880" cy="2738880"/>
                  </a:xfrm>
                </p:grpSpPr>
                <p:grpSp>
                  <p:nvGrpSpPr>
                    <p:cNvPr id="221" name="Skupina 3"/>
                    <p:cNvGrpSpPr/>
                    <p:nvPr/>
                  </p:nvGrpSpPr>
                  <p:grpSpPr>
                    <a:xfrm>
                      <a:off x="3581280" y="3738240"/>
                      <a:ext cx="1676880" cy="2738880"/>
                      <a:chOff x="3581280" y="3738240"/>
                      <a:chExt cx="1676880" cy="2738880"/>
                    </a:xfrm>
                  </p:grpSpPr>
                  <p:sp>
                    <p:nvSpPr>
                      <p:cNvPr id="222" name="Elipsa 6"/>
                      <p:cNvSpPr/>
                      <p:nvPr/>
                    </p:nvSpPr>
                    <p:spPr>
                      <a:xfrm>
                        <a:off x="4038480" y="4208040"/>
                        <a:ext cx="1219680" cy="12697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Přímá spojovací čára 7"/>
                      <p:cNvSpPr/>
                      <p:nvPr/>
                    </p:nvSpPr>
                    <p:spPr>
                      <a:xfrm>
                        <a:off x="4343400" y="4525560"/>
                        <a:ext cx="0" cy="63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Přímá spojovací čára 8"/>
                      <p:cNvSpPr/>
                      <p:nvPr/>
                    </p:nvSpPr>
                    <p:spPr>
                      <a:xfrm flipV="1">
                        <a:off x="4343400" y="4393800"/>
                        <a:ext cx="736200" cy="448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Přímá spojovací čára 9"/>
                      <p:cNvSpPr/>
                      <p:nvPr/>
                    </p:nvSpPr>
                    <p:spPr>
                      <a:xfrm>
                        <a:off x="4343400" y="4843080"/>
                        <a:ext cx="736200" cy="448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Přímá spojovací čára 10"/>
                      <p:cNvSpPr/>
                      <p:nvPr/>
                    </p:nvSpPr>
                    <p:spPr>
                      <a:xfrm flipH="1">
                        <a:off x="4038120" y="4843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7" name="Přímá spojovací čára 11"/>
                      <p:cNvSpPr/>
                      <p:nvPr/>
                    </p:nvSpPr>
                    <p:spPr>
                      <a:xfrm>
                        <a:off x="5079600" y="3738240"/>
                        <a:ext cx="0" cy="655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Přímá spojovací čára 12"/>
                      <p:cNvSpPr/>
                      <p:nvPr/>
                    </p:nvSpPr>
                    <p:spPr>
                      <a:xfrm>
                        <a:off x="5079600" y="5292000"/>
                        <a:ext cx="25920" cy="11851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Přímá spojovací čára 13"/>
                      <p:cNvSpPr/>
                      <p:nvPr/>
                    </p:nvSpPr>
                    <p:spPr>
                      <a:xfrm flipH="1">
                        <a:off x="3581280" y="4843080"/>
                        <a:ext cx="457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0" name="TextovéPole 3"/>
                    <p:cNvSpPr/>
                    <p:nvPr/>
                  </p:nvSpPr>
                  <p:spPr>
                    <a:xfrm>
                      <a:off x="3733560" y="434772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TextovéPole 4"/>
                    <p:cNvSpPr/>
                    <p:nvPr/>
                  </p:nvSpPr>
                  <p:spPr>
                    <a:xfrm>
                      <a:off x="4648320" y="373824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TextovéPole 5"/>
                    <p:cNvSpPr/>
                    <p:nvPr/>
                  </p:nvSpPr>
                  <p:spPr>
                    <a:xfrm>
                      <a:off x="4648320" y="541440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3" name="Přímá spojovací čára 39"/>
                  <p:cNvSpPr/>
                  <p:nvPr/>
                </p:nvSpPr>
                <p:spPr>
                  <a:xfrm flipV="1">
                    <a:off x="3581280" y="3737880"/>
                    <a:ext cx="0" cy="1104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Přímá spojovací čára 65"/>
                <p:cNvSpPr/>
                <p:nvPr/>
              </p:nvSpPr>
              <p:spPr>
                <a:xfrm>
                  <a:off x="4419720" y="297144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Elipsa 24"/>
                <p:cNvSpPr/>
                <p:nvPr/>
              </p:nvSpPr>
              <p:spPr>
                <a:xfrm rot="10800000">
                  <a:off x="4343040" y="281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Přímá spojovací čára 94"/>
                <p:cNvSpPr/>
                <p:nvPr/>
              </p:nvSpPr>
              <p:spPr>
                <a:xfrm>
                  <a:off x="4953240" y="647712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ovéPole 95"/>
                <p:cNvSpPr/>
                <p:nvPr/>
              </p:nvSpPr>
              <p:spPr>
                <a:xfrm>
                  <a:off x="4496040" y="2666880"/>
                  <a:ext cx="137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+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Přímá spojovací čára 98"/>
                <p:cNvSpPr/>
                <p:nvPr/>
              </p:nvSpPr>
              <p:spPr>
                <a:xfrm>
                  <a:off x="3581280" y="3733560"/>
                  <a:ext cx="1524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Přímá spojovací čára 103"/>
                <p:cNvSpPr/>
                <p:nvPr/>
              </p:nvSpPr>
              <p:spPr>
                <a:xfrm>
                  <a:off x="4419720" y="335268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Elipsa 24"/>
                <p:cNvSpPr/>
                <p:nvPr/>
              </p:nvSpPr>
              <p:spPr>
                <a:xfrm rot="10800000">
                  <a:off x="4343040" y="365724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41" name="Přímá spojovací šipka 79"/>
              <p:cNvCxnSpPr/>
              <p:nvPr/>
            </p:nvCxnSpPr>
            <p:spPr>
              <a:xfrm>
                <a:off x="5181840" y="3809880"/>
                <a:ext cx="1080" cy="457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42" name="TextovéPole 87"/>
              <p:cNvSpPr/>
              <p:nvPr/>
            </p:nvSpPr>
            <p:spPr>
              <a:xfrm>
                <a:off x="5258520" y="373356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ovéPole 88"/>
              <p:cNvSpPr/>
              <p:nvPr/>
            </p:nvSpPr>
            <p:spPr>
              <a:xfrm>
                <a:off x="2971800" y="41148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4" name="Přímá spojovací šipka 78"/>
              <p:cNvCxnSpPr/>
              <p:nvPr/>
            </p:nvCxnSpPr>
            <p:spPr>
              <a:xfrm>
                <a:off x="3428640" y="4114440"/>
                <a:ext cx="1080" cy="533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45" name="Skupina 111"/>
            <p:cNvGrpSpPr/>
            <p:nvPr/>
          </p:nvGrpSpPr>
          <p:grpSpPr>
            <a:xfrm>
              <a:off x="4648680" y="4190760"/>
              <a:ext cx="1844280" cy="1295280"/>
              <a:chOff x="4648680" y="4190760"/>
              <a:chExt cx="1844280" cy="1295280"/>
            </a:xfrm>
          </p:grpSpPr>
          <p:sp>
            <p:nvSpPr>
              <p:cNvPr id="246" name="Oblouk 102"/>
              <p:cNvSpPr/>
              <p:nvPr/>
            </p:nvSpPr>
            <p:spPr>
              <a:xfrm>
                <a:off x="4648680" y="4190760"/>
                <a:ext cx="1036440" cy="1295280"/>
              </a:xfrm>
              <a:custGeom>
                <a:avLst/>
                <a:gdLst>
                  <a:gd name="textAreaLeft" fmla="*/ 738360 w 1036440"/>
                  <a:gd name="textAreaRight" fmla="*/ 1036800 w 1036440"/>
                  <a:gd name="textAreaTop" fmla="*/ 75240 h 1295280"/>
                  <a:gd name="textAreaBottom" fmla="*/ 1234080 h 129528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ovéPole 104"/>
              <p:cNvSpPr/>
              <p:nvPr/>
            </p:nvSpPr>
            <p:spPr>
              <a:xfrm>
                <a:off x="5639400" y="4647960"/>
                <a:ext cx="853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Skupina 113"/>
            <p:cNvGrpSpPr/>
            <p:nvPr/>
          </p:nvGrpSpPr>
          <p:grpSpPr>
            <a:xfrm>
              <a:off x="3581280" y="3429000"/>
              <a:ext cx="2667600" cy="2590920"/>
              <a:chOff x="3581280" y="3429000"/>
              <a:chExt cx="2667600" cy="2590920"/>
            </a:xfrm>
          </p:grpSpPr>
          <p:sp>
            <p:nvSpPr>
              <p:cNvPr id="249" name="Oblouk 107"/>
              <p:cNvSpPr/>
              <p:nvPr/>
            </p:nvSpPr>
            <p:spPr>
              <a:xfrm>
                <a:off x="3657240" y="3429000"/>
                <a:ext cx="2591640" cy="2590920"/>
              </a:xfrm>
              <a:custGeom>
                <a:avLst/>
                <a:gdLst>
                  <a:gd name="textAreaLeft" fmla="*/ 24480 w 2591640"/>
                  <a:gd name="textAreaRight" fmla="*/ 1305720 w 2591640"/>
                  <a:gd name="textAreaTop" fmla="*/ 154764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ovéPole 109"/>
              <p:cNvSpPr/>
              <p:nvPr/>
            </p:nvSpPr>
            <p:spPr>
              <a:xfrm>
                <a:off x="3581280" y="5486760"/>
                <a:ext cx="609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ASTAVENÍ PRACOVNÍHO BODU 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2"/>
          <p:cNvSpPr/>
          <p:nvPr/>
        </p:nvSpPr>
        <p:spPr>
          <a:xfrm>
            <a:off x="457200" y="9907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prve si připomeňme jak vypadají výstupní charakteristiky tranzistoru SE a omezení pracovní obla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Skupina 44"/>
          <p:cNvGrpSpPr/>
          <p:nvPr/>
        </p:nvGrpSpPr>
        <p:grpSpPr>
          <a:xfrm>
            <a:off x="2362320" y="-1452600"/>
            <a:ext cx="9136080" cy="8398080"/>
            <a:chOff x="2362320" y="-1452600"/>
            <a:chExt cx="9136080" cy="8398080"/>
          </a:xfrm>
        </p:grpSpPr>
        <p:sp>
          <p:nvSpPr>
            <p:cNvPr id="254" name="Oblouk 4"/>
            <p:cNvSpPr/>
            <p:nvPr/>
          </p:nvSpPr>
          <p:spPr>
            <a:xfrm rot="10800000">
              <a:off x="4588560" y="-1452600"/>
              <a:ext cx="6909840" cy="6631200"/>
            </a:xfrm>
            <a:custGeom>
              <a:avLst/>
              <a:gdLst>
                <a:gd name="textAreaLeft" fmla="*/ 3509640 w 6909840"/>
                <a:gd name="textAreaRight" fmla="*/ 6763320 w 6909840"/>
                <a:gd name="textAreaTop" fmla="*/ 360 h 6631200"/>
                <a:gd name="textAreaBottom" fmla="*/ 2359080 h 6631200"/>
              </a:gdLst>
              <a:ahLst/>
              <a:rect l="textAreaLeft" t="textAreaTop" r="textAreaRight" b="textAreaBottom"/>
              <a:pathLst>
                <a:path stroke="0" w="7543438" h="7238764">
                  <a:moveTo>
                    <a:pt x="3831480" y="454"/>
                  </a:moveTo>
                  <a:lnTo>
                    <a:pt x="3831480" y="454"/>
                  </a:lnTo>
                  <a:arcTo wR="3771719" hR="3619382" stAng="-5343236" swAng="4375900"/>
                  <a:lnTo>
                    <a:pt x="3771719" y="3619382"/>
                  </a:lnTo>
                  <a:close/>
                </a:path>
                <a:path fill="none" w="7543438" h="7238764">
                  <a:moveTo>
                    <a:pt x="3831480" y="454"/>
                  </a:moveTo>
                  <a:lnTo>
                    <a:pt x="3831480" y="454"/>
                  </a:lnTo>
                  <a:arcTo wR="3771719" hR="3619382" stAng="-5343236" swAng="4375900"/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bdélník 42"/>
            <p:cNvSpPr/>
            <p:nvPr/>
          </p:nvSpPr>
          <p:spPr>
            <a:xfrm>
              <a:off x="7939440" y="5946480"/>
              <a:ext cx="279000" cy="62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Volný tvar 45"/>
            <p:cNvSpPr/>
            <p:nvPr/>
          </p:nvSpPr>
          <p:spPr>
            <a:xfrm>
              <a:off x="3114720" y="2052360"/>
              <a:ext cx="833040" cy="439236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4392360"/>
                <a:gd name="textAreaBottom" fmla="*/ 4392720 h 4392360"/>
              </a:gdLst>
              <a:ahLst/>
              <a:rect l="textAreaLeft" t="textAreaTop" r="textAreaRight" b="textAreaBottom"/>
              <a:pathLst>
                <a:path w="909710" h="4794738">
                  <a:moveTo>
                    <a:pt x="0" y="4761914"/>
                  </a:moveTo>
                  <a:cubicBezTo>
                    <a:pt x="158261" y="4778326"/>
                    <a:pt x="316522" y="4794738"/>
                    <a:pt x="464233" y="4072597"/>
                  </a:cubicBezTo>
                  <a:cubicBezTo>
                    <a:pt x="611944" y="3350456"/>
                    <a:pt x="909710" y="1038665"/>
                    <a:pt x="886264" y="429065"/>
                  </a:cubicBezTo>
                  <a:cubicBezTo>
                    <a:pt x="595532" y="438443"/>
                    <a:pt x="154744" y="0"/>
                    <a:pt x="14067" y="4572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bdélník 46"/>
            <p:cNvSpPr/>
            <p:nvPr/>
          </p:nvSpPr>
          <p:spPr>
            <a:xfrm>
              <a:off x="2844000" y="2177280"/>
              <a:ext cx="13957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Přímá spojovací čára 48"/>
            <p:cNvSpPr/>
            <p:nvPr/>
          </p:nvSpPr>
          <p:spPr>
            <a:xfrm>
              <a:off x="3133440" y="6406560"/>
              <a:ext cx="55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Přímá spojovací čára 49"/>
            <p:cNvSpPr/>
            <p:nvPr/>
          </p:nvSpPr>
          <p:spPr>
            <a:xfrm>
              <a:off x="3133440" y="2241360"/>
              <a:ext cx="0" cy="41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ovéPole 50"/>
            <p:cNvSpPr/>
            <p:nvPr/>
          </p:nvSpPr>
          <p:spPr>
            <a:xfrm>
              <a:off x="2590560" y="2241360"/>
              <a:ext cx="99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ovéPole 51"/>
            <p:cNvSpPr/>
            <p:nvPr/>
          </p:nvSpPr>
          <p:spPr>
            <a:xfrm>
              <a:off x="8429040" y="4383360"/>
              <a:ext cx="99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Přímá spojovací šipka 52"/>
            <p:cNvCxnSpPr/>
            <p:nvPr/>
          </p:nvCxnSpPr>
          <p:spPr>
            <a:xfrm>
              <a:off x="8428680" y="4383360"/>
              <a:ext cx="1080" cy="595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263" name="Skupina 38"/>
            <p:cNvGrpSpPr/>
            <p:nvPr/>
          </p:nvGrpSpPr>
          <p:grpSpPr>
            <a:xfrm>
              <a:off x="3123360" y="3014640"/>
              <a:ext cx="4931640" cy="3381840"/>
              <a:chOff x="3123360" y="3014640"/>
              <a:chExt cx="4931640" cy="3381840"/>
            </a:xfrm>
          </p:grpSpPr>
          <p:sp>
            <p:nvSpPr>
              <p:cNvPr id="264" name="Volný tvar 54"/>
              <p:cNvSpPr/>
              <p:nvPr/>
            </p:nvSpPr>
            <p:spPr>
              <a:xfrm>
                <a:off x="3123360" y="3014640"/>
                <a:ext cx="2055600" cy="3381840"/>
              </a:xfrm>
              <a:custGeom>
                <a:avLst/>
                <a:gdLst>
                  <a:gd name="textAreaLeft" fmla="*/ 0 w 2055600"/>
                  <a:gd name="textAreaRight" fmla="*/ 2055960 w 2055600"/>
                  <a:gd name="textAreaTop" fmla="*/ 0 h 3381840"/>
                  <a:gd name="textAreaBottom" fmla="*/ 3382200 h 338184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Přímá spojovací čára 55"/>
              <p:cNvSpPr/>
              <p:nvPr/>
            </p:nvSpPr>
            <p:spPr>
              <a:xfrm>
                <a:off x="5178960" y="3014640"/>
                <a:ext cx="287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Skupina 39"/>
            <p:cNvGrpSpPr/>
            <p:nvPr/>
          </p:nvGrpSpPr>
          <p:grpSpPr>
            <a:xfrm>
              <a:off x="3133440" y="4383360"/>
              <a:ext cx="4921200" cy="2008080"/>
              <a:chOff x="3133440" y="4383360"/>
              <a:chExt cx="4921200" cy="2008080"/>
            </a:xfrm>
          </p:grpSpPr>
          <p:sp>
            <p:nvSpPr>
              <p:cNvPr id="267" name="Volný tvar 57"/>
              <p:cNvSpPr/>
              <p:nvPr/>
            </p:nvSpPr>
            <p:spPr>
              <a:xfrm>
                <a:off x="3133440" y="4383360"/>
                <a:ext cx="2051280" cy="2008080"/>
              </a:xfrm>
              <a:custGeom>
                <a:avLst/>
                <a:gdLst>
                  <a:gd name="textAreaLeft" fmla="*/ 0 w 2051280"/>
                  <a:gd name="textAreaRight" fmla="*/ 2051640 w 2051280"/>
                  <a:gd name="textAreaTop" fmla="*/ 0 h 2008080"/>
                  <a:gd name="textAreaBottom" fmla="*/ 2008440 h 200808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Přímá spojovací čára 58"/>
              <p:cNvSpPr/>
              <p:nvPr/>
            </p:nvSpPr>
            <p:spPr>
              <a:xfrm>
                <a:off x="5184720" y="4383360"/>
                <a:ext cx="2869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Skupina 42"/>
            <p:cNvGrpSpPr/>
            <p:nvPr/>
          </p:nvGrpSpPr>
          <p:grpSpPr>
            <a:xfrm>
              <a:off x="3123360" y="3907440"/>
              <a:ext cx="4942080" cy="2499120"/>
              <a:chOff x="3123360" y="3907440"/>
              <a:chExt cx="4942080" cy="2499120"/>
            </a:xfrm>
          </p:grpSpPr>
          <p:sp>
            <p:nvSpPr>
              <p:cNvPr id="270" name="Volný tvar 60"/>
              <p:cNvSpPr/>
              <p:nvPr/>
            </p:nvSpPr>
            <p:spPr>
              <a:xfrm>
                <a:off x="3123360" y="3907440"/>
                <a:ext cx="2059920" cy="2499120"/>
              </a:xfrm>
              <a:custGeom>
                <a:avLst/>
                <a:gdLst>
                  <a:gd name="textAreaLeft" fmla="*/ 0 w 2059920"/>
                  <a:gd name="textAreaRight" fmla="*/ 2060280 w 2059920"/>
                  <a:gd name="textAreaTop" fmla="*/ 0 h 2499120"/>
                  <a:gd name="textAreaBottom" fmla="*/ 2499480 h 249912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Přímá spojovací čára 61"/>
              <p:cNvSpPr/>
              <p:nvPr/>
            </p:nvSpPr>
            <p:spPr>
              <a:xfrm>
                <a:off x="5183280" y="3907440"/>
                <a:ext cx="2882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Skupina 45"/>
            <p:cNvGrpSpPr/>
            <p:nvPr/>
          </p:nvGrpSpPr>
          <p:grpSpPr>
            <a:xfrm>
              <a:off x="3133440" y="3431160"/>
              <a:ext cx="4921200" cy="2975040"/>
              <a:chOff x="3133440" y="3431160"/>
              <a:chExt cx="4921200" cy="2975040"/>
            </a:xfrm>
          </p:grpSpPr>
          <p:sp>
            <p:nvSpPr>
              <p:cNvPr id="273" name="Volný tvar 63"/>
              <p:cNvSpPr/>
              <p:nvPr/>
            </p:nvSpPr>
            <p:spPr>
              <a:xfrm>
                <a:off x="3133440" y="3431160"/>
                <a:ext cx="2051280" cy="2975040"/>
              </a:xfrm>
              <a:custGeom>
                <a:avLst/>
                <a:gdLst>
                  <a:gd name="textAreaLeft" fmla="*/ 0 w 2051280"/>
                  <a:gd name="textAreaRight" fmla="*/ 2051640 w 2051280"/>
                  <a:gd name="textAreaTop" fmla="*/ 0 h 2975040"/>
                  <a:gd name="textAreaBottom" fmla="*/ 2975400 h 297504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Přímá spojovací čára 64"/>
              <p:cNvSpPr/>
              <p:nvPr/>
            </p:nvSpPr>
            <p:spPr>
              <a:xfrm>
                <a:off x="5184720" y="3431160"/>
                <a:ext cx="2869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Skupina 54"/>
            <p:cNvGrpSpPr/>
            <p:nvPr/>
          </p:nvGrpSpPr>
          <p:grpSpPr>
            <a:xfrm>
              <a:off x="3133440" y="4869720"/>
              <a:ext cx="4921200" cy="1536480"/>
              <a:chOff x="3133440" y="4869720"/>
              <a:chExt cx="4921200" cy="1536480"/>
            </a:xfrm>
          </p:grpSpPr>
          <p:sp>
            <p:nvSpPr>
              <p:cNvPr id="276" name="Volný tvar 66"/>
              <p:cNvSpPr/>
              <p:nvPr/>
            </p:nvSpPr>
            <p:spPr>
              <a:xfrm>
                <a:off x="3133440" y="4869720"/>
                <a:ext cx="2051280" cy="1536480"/>
              </a:xfrm>
              <a:custGeom>
                <a:avLst/>
                <a:gdLst>
                  <a:gd name="textAreaLeft" fmla="*/ 0 w 2051280"/>
                  <a:gd name="textAreaRight" fmla="*/ 2051640 w 2051280"/>
                  <a:gd name="textAreaTop" fmla="*/ 0 h 1536480"/>
                  <a:gd name="textAreaBottom" fmla="*/ 1536840 h 153648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Přímá spojovací čára 67"/>
              <p:cNvSpPr/>
              <p:nvPr/>
            </p:nvSpPr>
            <p:spPr>
              <a:xfrm>
                <a:off x="5184720" y="4869720"/>
                <a:ext cx="2869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ovéPole 68"/>
            <p:cNvSpPr/>
            <p:nvPr/>
          </p:nvSpPr>
          <p:spPr>
            <a:xfrm>
              <a:off x="2362320" y="2873160"/>
              <a:ext cx="963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Přímá spojovací čára 19"/>
            <p:cNvSpPr/>
            <p:nvPr/>
          </p:nvSpPr>
          <p:spPr>
            <a:xfrm>
              <a:off x="3122640" y="3154320"/>
              <a:ext cx="5236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Přímá spojovací čára 20"/>
            <p:cNvSpPr/>
            <p:nvPr/>
          </p:nvSpPr>
          <p:spPr>
            <a:xfrm flipV="1">
              <a:off x="7800840" y="2665440"/>
              <a:ext cx="0" cy="3769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ovéPole 72"/>
            <p:cNvSpPr/>
            <p:nvPr/>
          </p:nvSpPr>
          <p:spPr>
            <a:xfrm>
              <a:off x="3406320" y="2172960"/>
              <a:ext cx="138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B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= 0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ovéPole 73"/>
            <p:cNvSpPr/>
            <p:nvPr/>
          </p:nvSpPr>
          <p:spPr>
            <a:xfrm>
              <a:off x="7311240" y="6435360"/>
              <a:ext cx="138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ovéPole 74"/>
            <p:cNvSpPr/>
            <p:nvPr/>
          </p:nvSpPr>
          <p:spPr>
            <a:xfrm>
              <a:off x="8009280" y="5807160"/>
              <a:ext cx="138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= 0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ovéPole 75"/>
            <p:cNvSpPr/>
            <p:nvPr/>
          </p:nvSpPr>
          <p:spPr>
            <a:xfrm>
              <a:off x="7939440" y="5031720"/>
              <a:ext cx="138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Skupina 51"/>
            <p:cNvGrpSpPr/>
            <p:nvPr/>
          </p:nvGrpSpPr>
          <p:grpSpPr>
            <a:xfrm>
              <a:off x="3133440" y="5454360"/>
              <a:ext cx="4931640" cy="951840"/>
              <a:chOff x="3133440" y="5454360"/>
              <a:chExt cx="4931640" cy="951840"/>
            </a:xfrm>
          </p:grpSpPr>
          <p:sp>
            <p:nvSpPr>
              <p:cNvPr id="286" name="Volný tvar 77"/>
              <p:cNvSpPr/>
              <p:nvPr/>
            </p:nvSpPr>
            <p:spPr>
              <a:xfrm>
                <a:off x="3133440" y="5454360"/>
                <a:ext cx="2055600" cy="951840"/>
              </a:xfrm>
              <a:custGeom>
                <a:avLst/>
                <a:gdLst>
                  <a:gd name="textAreaLeft" fmla="*/ 0 w 2055600"/>
                  <a:gd name="textAreaRight" fmla="*/ 2055960 w 2055600"/>
                  <a:gd name="textAreaTop" fmla="*/ 0 h 951840"/>
                  <a:gd name="textAreaBottom" fmla="*/ 952200 h 95184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Přímá spojovací čára 78"/>
              <p:cNvSpPr/>
              <p:nvPr/>
            </p:nvSpPr>
            <p:spPr>
              <a:xfrm>
                <a:off x="5189040" y="5454360"/>
                <a:ext cx="287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Skupina 48"/>
            <p:cNvGrpSpPr/>
            <p:nvPr/>
          </p:nvGrpSpPr>
          <p:grpSpPr>
            <a:xfrm>
              <a:off x="3123360" y="6086160"/>
              <a:ext cx="4931640" cy="297720"/>
              <a:chOff x="3123360" y="6086160"/>
              <a:chExt cx="4931640" cy="297720"/>
            </a:xfrm>
          </p:grpSpPr>
          <p:sp>
            <p:nvSpPr>
              <p:cNvPr id="289" name="Volný tvar 80"/>
              <p:cNvSpPr/>
              <p:nvPr/>
            </p:nvSpPr>
            <p:spPr>
              <a:xfrm>
                <a:off x="3123360" y="6086160"/>
                <a:ext cx="2055600" cy="297720"/>
              </a:xfrm>
              <a:custGeom>
                <a:avLst/>
                <a:gdLst>
                  <a:gd name="textAreaLeft" fmla="*/ 0 w 2055600"/>
                  <a:gd name="textAreaRight" fmla="*/ 2055960 w 205560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Přímá spojovací čára 81"/>
              <p:cNvSpPr/>
              <p:nvPr/>
            </p:nvSpPr>
            <p:spPr>
              <a:xfrm>
                <a:off x="5178960" y="6086160"/>
                <a:ext cx="287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ovéPole 53"/>
          <p:cNvSpPr/>
          <p:nvPr/>
        </p:nvSpPr>
        <p:spPr>
          <a:xfrm>
            <a:off x="8305920" y="6396120"/>
            <a:ext cx="108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ovéPole 2"/>
          <p:cNvSpPr/>
          <p:nvPr/>
        </p:nvSpPr>
        <p:spPr>
          <a:xfrm>
            <a:off x="457200" y="990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dříve potřebujeme určit průsečíky s osou napětí (bod A) a proudu (bod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295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296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304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307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310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313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316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322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325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328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Skupina 244"/>
          <p:cNvGrpSpPr/>
          <p:nvPr/>
        </p:nvGrpSpPr>
        <p:grpSpPr>
          <a:xfrm>
            <a:off x="0" y="3048120"/>
            <a:ext cx="3379680" cy="3657600"/>
            <a:chOff x="0" y="3048120"/>
            <a:chExt cx="3379680" cy="3657600"/>
          </a:xfrm>
        </p:grpSpPr>
        <p:grpSp>
          <p:nvGrpSpPr>
            <p:cNvPr id="366" name="Skupina 100"/>
            <p:cNvGrpSpPr/>
            <p:nvPr/>
          </p:nvGrpSpPr>
          <p:grpSpPr>
            <a:xfrm>
              <a:off x="0" y="3048120"/>
              <a:ext cx="2779920" cy="3657600"/>
              <a:chOff x="0" y="3048120"/>
              <a:chExt cx="2779920" cy="3657600"/>
            </a:xfrm>
          </p:grpSpPr>
          <p:grpSp>
            <p:nvGrpSpPr>
              <p:cNvPr id="367" name="Skupina 79"/>
              <p:cNvGrpSpPr/>
              <p:nvPr/>
            </p:nvGrpSpPr>
            <p:grpSpPr>
              <a:xfrm>
                <a:off x="584640" y="3048120"/>
                <a:ext cx="2195280" cy="3657600"/>
                <a:chOff x="584640" y="3048120"/>
                <a:chExt cx="2195280" cy="3657600"/>
              </a:xfrm>
            </p:grpSpPr>
            <p:cxnSp>
              <p:nvCxnSpPr>
                <p:cNvPr id="368" name="Přímá spojovací šipka 77"/>
                <p:cNvCxnSpPr/>
                <p:nvPr/>
              </p:nvCxnSpPr>
              <p:spPr>
                <a:xfrm>
                  <a:off x="2194200" y="5567760"/>
                  <a:ext cx="1080" cy="5612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369" name="TextovéPole 86"/>
                <p:cNvSpPr/>
                <p:nvPr/>
              </p:nvSpPr>
              <p:spPr>
                <a:xfrm>
                  <a:off x="2194560" y="5568120"/>
                  <a:ext cx="58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0" name="Skupina 75"/>
                <p:cNvGrpSpPr/>
                <p:nvPr/>
              </p:nvGrpSpPr>
              <p:grpSpPr>
                <a:xfrm>
                  <a:off x="584640" y="4076280"/>
                  <a:ext cx="1609920" cy="2629440"/>
                  <a:chOff x="584640" y="4076280"/>
                  <a:chExt cx="1609920" cy="2629440"/>
                </a:xfrm>
              </p:grpSpPr>
              <p:grpSp>
                <p:nvGrpSpPr>
                  <p:cNvPr id="371" name="Skupina 1"/>
                  <p:cNvGrpSpPr/>
                  <p:nvPr/>
                </p:nvGrpSpPr>
                <p:grpSpPr>
                  <a:xfrm>
                    <a:off x="584640" y="4076280"/>
                    <a:ext cx="1609920" cy="2629440"/>
                    <a:chOff x="584640" y="4076280"/>
                    <a:chExt cx="1609920" cy="2629440"/>
                  </a:xfrm>
                </p:grpSpPr>
                <p:grpSp>
                  <p:nvGrpSpPr>
                    <p:cNvPr id="372" name="Skupina 3"/>
                    <p:cNvGrpSpPr/>
                    <p:nvPr/>
                  </p:nvGrpSpPr>
                  <p:grpSpPr>
                    <a:xfrm>
                      <a:off x="584640" y="4076280"/>
                      <a:ext cx="1609920" cy="2629440"/>
                      <a:chOff x="584640" y="4076280"/>
                      <a:chExt cx="1609920" cy="2629440"/>
                    </a:xfrm>
                  </p:grpSpPr>
                  <p:sp>
                    <p:nvSpPr>
                      <p:cNvPr id="373" name="Elipsa 6"/>
                      <p:cNvSpPr/>
                      <p:nvPr/>
                    </p:nvSpPr>
                    <p:spPr>
                      <a:xfrm>
                        <a:off x="1023840" y="4527360"/>
                        <a:ext cx="1170720" cy="121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" name="Přímá spojovací čára 7"/>
                      <p:cNvSpPr/>
                      <p:nvPr/>
                    </p:nvSpPr>
                    <p:spPr>
                      <a:xfrm>
                        <a:off x="1316520" y="4831920"/>
                        <a:ext cx="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Přímá spojovací čára 8"/>
                      <p:cNvSpPr/>
                      <p:nvPr/>
                    </p:nvSpPr>
                    <p:spPr>
                      <a:xfrm flipV="1">
                        <a:off x="1316520" y="470556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Přímá spojovací čára 9"/>
                      <p:cNvSpPr/>
                      <p:nvPr/>
                    </p:nvSpPr>
                    <p:spPr>
                      <a:xfrm>
                        <a:off x="1316520" y="513684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Přímá spojovací čára 10"/>
                      <p:cNvSpPr/>
                      <p:nvPr/>
                    </p:nvSpPr>
                    <p:spPr>
                      <a:xfrm flipH="1">
                        <a:off x="1023480" y="5136840"/>
                        <a:ext cx="292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Přímá spojovací čára 11"/>
                      <p:cNvSpPr/>
                      <p:nvPr/>
                    </p:nvSpPr>
                    <p:spPr>
                      <a:xfrm>
                        <a:off x="2023200" y="4076280"/>
                        <a:ext cx="0" cy="6296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Přímá spojovací čára 12"/>
                      <p:cNvSpPr/>
                      <p:nvPr/>
                    </p:nvSpPr>
                    <p:spPr>
                      <a:xfrm>
                        <a:off x="2023200" y="5568120"/>
                        <a:ext cx="24840" cy="1137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Přímá spojovací čára 13"/>
                      <p:cNvSpPr/>
                      <p:nvPr/>
                    </p:nvSpPr>
                    <p:spPr>
                      <a:xfrm flipH="1">
                        <a:off x="584640" y="5136840"/>
                        <a:ext cx="4388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1" name="TextovéPole 3"/>
                    <p:cNvSpPr/>
                    <p:nvPr/>
                  </p:nvSpPr>
                  <p:spPr>
                    <a:xfrm>
                      <a:off x="731160" y="4661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TextovéPole 4"/>
                    <p:cNvSpPr/>
                    <p:nvPr/>
                  </p:nvSpPr>
                  <p:spPr>
                    <a:xfrm>
                      <a:off x="1609200" y="4076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TextovéPole 5"/>
                    <p:cNvSpPr/>
                    <p:nvPr/>
                  </p:nvSpPr>
                  <p:spPr>
                    <a:xfrm>
                      <a:off x="1609200" y="56854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Přímá spojovací čára 39"/>
                  <p:cNvSpPr/>
                  <p:nvPr/>
                </p:nvSpPr>
                <p:spPr>
                  <a:xfrm flipV="1">
                    <a:off x="585000" y="4076280"/>
                    <a:ext cx="0" cy="1060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5" name="Přímá spojovací čára 260"/>
                <p:cNvSpPr/>
                <p:nvPr/>
              </p:nvSpPr>
              <p:spPr>
                <a:xfrm>
                  <a:off x="1389600" y="334044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Elipsa 24"/>
                <p:cNvSpPr/>
                <p:nvPr/>
              </p:nvSpPr>
              <p:spPr>
                <a:xfrm rot="10800000">
                  <a:off x="1316520" y="3194280"/>
                  <a:ext cx="146160" cy="146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Přímá spojovací čára 262"/>
                <p:cNvSpPr/>
                <p:nvPr/>
              </p:nvSpPr>
              <p:spPr>
                <a:xfrm>
                  <a:off x="1901880" y="6705720"/>
                  <a:ext cx="29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ovéPole 263"/>
                <p:cNvSpPr/>
                <p:nvPr/>
              </p:nvSpPr>
              <p:spPr>
                <a:xfrm>
                  <a:off x="1463040" y="3048120"/>
                  <a:ext cx="131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+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Přímá spojovací čára 264"/>
                <p:cNvSpPr/>
                <p:nvPr/>
              </p:nvSpPr>
              <p:spPr>
                <a:xfrm>
                  <a:off x="585000" y="4072320"/>
                  <a:ext cx="1463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Přímá spojovací čára 265"/>
                <p:cNvSpPr/>
                <p:nvPr/>
              </p:nvSpPr>
              <p:spPr>
                <a:xfrm>
                  <a:off x="1389600" y="370620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Elipsa 24"/>
                <p:cNvSpPr/>
                <p:nvPr/>
              </p:nvSpPr>
              <p:spPr>
                <a:xfrm rot="10800000">
                  <a:off x="1316520" y="3998880"/>
                  <a:ext cx="146160" cy="146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92" name="Přímá spojovací šipka 79"/>
              <p:cNvCxnSpPr/>
              <p:nvPr/>
            </p:nvCxnSpPr>
            <p:spPr>
              <a:xfrm>
                <a:off x="2121120" y="4145040"/>
                <a:ext cx="1080" cy="439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93" name="TextovéPole 87"/>
              <p:cNvSpPr/>
              <p:nvPr/>
            </p:nvSpPr>
            <p:spPr>
              <a:xfrm>
                <a:off x="2194920" y="407232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ovéPole 88"/>
              <p:cNvSpPr/>
              <p:nvPr/>
            </p:nvSpPr>
            <p:spPr>
              <a:xfrm>
                <a:off x="0" y="443808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5" name="Přímá spojovací šipka 78"/>
              <p:cNvCxnSpPr/>
              <p:nvPr/>
            </p:nvCxnSpPr>
            <p:spPr>
              <a:xfrm>
                <a:off x="438480" y="4438080"/>
                <a:ext cx="1080" cy="512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396" name="Skupina 111"/>
            <p:cNvGrpSpPr/>
            <p:nvPr/>
          </p:nvGrpSpPr>
          <p:grpSpPr>
            <a:xfrm>
              <a:off x="1609200" y="4511160"/>
              <a:ext cx="1770480" cy="1243440"/>
              <a:chOff x="1609200" y="4511160"/>
              <a:chExt cx="1770480" cy="1243440"/>
            </a:xfrm>
          </p:grpSpPr>
          <p:sp>
            <p:nvSpPr>
              <p:cNvPr id="397" name="Oblouk 250"/>
              <p:cNvSpPr/>
              <p:nvPr/>
            </p:nvSpPr>
            <p:spPr>
              <a:xfrm>
                <a:off x="1609200" y="4511160"/>
                <a:ext cx="995040" cy="1243440"/>
              </a:xfrm>
              <a:custGeom>
                <a:avLst/>
                <a:gdLst>
                  <a:gd name="textAreaLeft" fmla="*/ 708840 w 995040"/>
                  <a:gd name="textAreaRight" fmla="*/ 995400 w 995040"/>
                  <a:gd name="textAreaTop" fmla="*/ 72360 h 1243440"/>
                  <a:gd name="textAreaBottom" fmla="*/ 1184760 h 12434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ovéPole 251"/>
              <p:cNvSpPr/>
              <p:nvPr/>
            </p:nvSpPr>
            <p:spPr>
              <a:xfrm>
                <a:off x="2560320" y="4950000"/>
                <a:ext cx="819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Skupina 113"/>
            <p:cNvGrpSpPr/>
            <p:nvPr/>
          </p:nvGrpSpPr>
          <p:grpSpPr>
            <a:xfrm>
              <a:off x="585000" y="3779640"/>
              <a:ext cx="2560320" cy="2487240"/>
              <a:chOff x="585000" y="3779640"/>
              <a:chExt cx="2560320" cy="2487240"/>
            </a:xfrm>
          </p:grpSpPr>
          <p:sp>
            <p:nvSpPr>
              <p:cNvPr id="400" name="Oblouk 248"/>
              <p:cNvSpPr/>
              <p:nvPr/>
            </p:nvSpPr>
            <p:spPr>
              <a:xfrm>
                <a:off x="658080" y="3779640"/>
                <a:ext cx="2487240" cy="2487240"/>
              </a:xfrm>
              <a:custGeom>
                <a:avLst/>
                <a:gdLst>
                  <a:gd name="textAreaLeft" fmla="*/ 23760 w 2487240"/>
                  <a:gd name="textAreaRight" fmla="*/ 1253160 w 2487240"/>
                  <a:gd name="textAreaTop" fmla="*/ 1485720 h 2487240"/>
                  <a:gd name="textAreaBottom" fmla="*/ 2487600 h 24872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ovéPole 249"/>
              <p:cNvSpPr/>
              <p:nvPr/>
            </p:nvSpPr>
            <p:spPr>
              <a:xfrm>
                <a:off x="585000" y="5754960"/>
                <a:ext cx="786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Skupina 73"/>
          <p:cNvGrpSpPr/>
          <p:nvPr/>
        </p:nvGrpSpPr>
        <p:grpSpPr>
          <a:xfrm>
            <a:off x="2133720" y="-1452600"/>
            <a:ext cx="9440640" cy="8359200"/>
            <a:chOff x="2133720" y="-1452600"/>
            <a:chExt cx="9440640" cy="8359200"/>
          </a:xfrm>
        </p:grpSpPr>
        <p:grpSp>
          <p:nvGrpSpPr>
            <p:cNvPr id="404" name="Skupina 44"/>
            <p:cNvGrpSpPr/>
            <p:nvPr/>
          </p:nvGrpSpPr>
          <p:grpSpPr>
            <a:xfrm>
              <a:off x="2133720" y="-1452600"/>
              <a:ext cx="9440640" cy="8359200"/>
              <a:chOff x="2133720" y="-1452600"/>
              <a:chExt cx="9440640" cy="8359200"/>
            </a:xfrm>
          </p:grpSpPr>
          <p:sp>
            <p:nvSpPr>
              <p:cNvPr id="405" name="Oblouk 2"/>
              <p:cNvSpPr/>
              <p:nvPr/>
            </p:nvSpPr>
            <p:spPr>
              <a:xfrm rot="10800000">
                <a:off x="4664520" y="-1452600"/>
                <a:ext cx="6909840" cy="6631200"/>
              </a:xfrm>
              <a:custGeom>
                <a:avLst/>
                <a:gdLst>
                  <a:gd name="textAreaLeft" fmla="*/ 3509640 w 6909840"/>
                  <a:gd name="textAreaRight" fmla="*/ 6763320 w 6909840"/>
                  <a:gd name="textAreaTop" fmla="*/ 360 h 6631200"/>
                  <a:gd name="textAreaBottom" fmla="*/ 2359080 h 6631200"/>
                </a:gdLst>
                <a:ahLst/>
                <a:rect l="textAreaLeft" t="textAreaTop" r="textAreaRight" b="textAreaBottom"/>
                <a:pathLst>
                  <a:path stroke="0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  <a:lnTo>
                      <a:pt x="3771719" y="3619382"/>
                    </a:lnTo>
                    <a:close/>
                  </a:path>
                  <a:path fill="none" w="7543438" h="7238764">
                    <a:moveTo>
                      <a:pt x="3831480" y="454"/>
                    </a:moveTo>
                    <a:lnTo>
                      <a:pt x="3831480" y="454"/>
                    </a:lnTo>
                    <a:arcTo wR="3771719" hR="3619382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bdélník 42"/>
              <p:cNvSpPr/>
              <p:nvPr/>
            </p:nvSpPr>
            <p:spPr>
              <a:xfrm>
                <a:off x="8015760" y="5946480"/>
                <a:ext cx="279000" cy="62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Volný tvar 45"/>
              <p:cNvSpPr/>
              <p:nvPr/>
            </p:nvSpPr>
            <p:spPr>
              <a:xfrm>
                <a:off x="3190680" y="2052360"/>
                <a:ext cx="833040" cy="43923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4392360"/>
                  <a:gd name="textAreaBottom" fmla="*/ 4392720 h 439236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bdélník 46"/>
              <p:cNvSpPr/>
              <p:nvPr/>
            </p:nvSpPr>
            <p:spPr>
              <a:xfrm>
                <a:off x="2920320" y="2177280"/>
                <a:ext cx="1395720" cy="41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Přímá spojovací čára 48"/>
              <p:cNvSpPr/>
              <p:nvPr/>
            </p:nvSpPr>
            <p:spPr>
              <a:xfrm>
                <a:off x="3209760" y="6406560"/>
                <a:ext cx="55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Přímá spojovací čára 49"/>
              <p:cNvSpPr/>
              <p:nvPr/>
            </p:nvSpPr>
            <p:spPr>
              <a:xfrm>
                <a:off x="3209760" y="2241360"/>
                <a:ext cx="0" cy="41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ovéPole 50"/>
              <p:cNvSpPr/>
              <p:nvPr/>
            </p:nvSpPr>
            <p:spPr>
              <a:xfrm>
                <a:off x="2133720" y="2241360"/>
                <a:ext cx="16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Skupina 38"/>
              <p:cNvGrpSpPr/>
              <p:nvPr/>
            </p:nvGrpSpPr>
            <p:grpSpPr>
              <a:xfrm>
                <a:off x="3199320" y="3014640"/>
                <a:ext cx="4931640" cy="3381840"/>
                <a:chOff x="3199320" y="3014640"/>
                <a:chExt cx="4931640" cy="3381840"/>
              </a:xfrm>
            </p:grpSpPr>
            <p:sp>
              <p:nvSpPr>
                <p:cNvPr id="413" name="Volný tvar 54"/>
                <p:cNvSpPr/>
                <p:nvPr/>
              </p:nvSpPr>
              <p:spPr>
                <a:xfrm>
                  <a:off x="3199320" y="3014640"/>
                  <a:ext cx="2055600" cy="338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3381840"/>
                    <a:gd name="textAreaBottom" fmla="*/ 3382200 h 338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Přímá spojovací čára 55"/>
                <p:cNvSpPr/>
                <p:nvPr/>
              </p:nvSpPr>
              <p:spPr>
                <a:xfrm>
                  <a:off x="5254920" y="301464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Skupina 39"/>
              <p:cNvGrpSpPr/>
              <p:nvPr/>
            </p:nvGrpSpPr>
            <p:grpSpPr>
              <a:xfrm>
                <a:off x="3209760" y="4383360"/>
                <a:ext cx="4921200" cy="2008080"/>
                <a:chOff x="3209760" y="4383360"/>
                <a:chExt cx="4921200" cy="2008080"/>
              </a:xfrm>
            </p:grpSpPr>
            <p:sp>
              <p:nvSpPr>
                <p:cNvPr id="416" name="Volný tvar 57"/>
                <p:cNvSpPr/>
                <p:nvPr/>
              </p:nvSpPr>
              <p:spPr>
                <a:xfrm>
                  <a:off x="3209760" y="4383360"/>
                  <a:ext cx="2051280" cy="20080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008080"/>
                    <a:gd name="textAreaBottom" fmla="*/ 2008440 h 200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Přímá spojovací čára 58"/>
                <p:cNvSpPr/>
                <p:nvPr/>
              </p:nvSpPr>
              <p:spPr>
                <a:xfrm>
                  <a:off x="5261040" y="43833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Skupina 42"/>
              <p:cNvGrpSpPr/>
              <p:nvPr/>
            </p:nvGrpSpPr>
            <p:grpSpPr>
              <a:xfrm>
                <a:off x="3199320" y="3907440"/>
                <a:ext cx="4942080" cy="2499120"/>
                <a:chOff x="3199320" y="3907440"/>
                <a:chExt cx="4942080" cy="2499120"/>
              </a:xfrm>
            </p:grpSpPr>
            <p:sp>
              <p:nvSpPr>
                <p:cNvPr id="419" name="Volný tvar 60"/>
                <p:cNvSpPr/>
                <p:nvPr/>
              </p:nvSpPr>
              <p:spPr>
                <a:xfrm>
                  <a:off x="3199320" y="3907440"/>
                  <a:ext cx="2059920" cy="2499120"/>
                </a:xfrm>
                <a:custGeom>
                  <a:avLst/>
                  <a:gdLst>
                    <a:gd name="textAreaLeft" fmla="*/ 0 w 2059920"/>
                    <a:gd name="textAreaRight" fmla="*/ 2060280 w 2059920"/>
                    <a:gd name="textAreaTop" fmla="*/ 0 h 2499120"/>
                    <a:gd name="textAreaBottom" fmla="*/ 2499480 h 2499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Přímá spojovací čára 61"/>
                <p:cNvSpPr/>
                <p:nvPr/>
              </p:nvSpPr>
              <p:spPr>
                <a:xfrm>
                  <a:off x="5259240" y="3907440"/>
                  <a:ext cx="288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Skupina 45"/>
              <p:cNvGrpSpPr/>
              <p:nvPr/>
            </p:nvGrpSpPr>
            <p:grpSpPr>
              <a:xfrm>
                <a:off x="3209760" y="3431160"/>
                <a:ext cx="4921200" cy="2975040"/>
                <a:chOff x="3209760" y="3431160"/>
                <a:chExt cx="4921200" cy="2975040"/>
              </a:xfrm>
            </p:grpSpPr>
            <p:sp>
              <p:nvSpPr>
                <p:cNvPr id="422" name="Volný tvar 63"/>
                <p:cNvSpPr/>
                <p:nvPr/>
              </p:nvSpPr>
              <p:spPr>
                <a:xfrm>
                  <a:off x="3209760" y="3431160"/>
                  <a:ext cx="2051280" cy="297504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2975040"/>
                    <a:gd name="textAreaBottom" fmla="*/ 2975400 h 2975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Přímá spojovací čára 64"/>
                <p:cNvSpPr/>
                <p:nvPr/>
              </p:nvSpPr>
              <p:spPr>
                <a:xfrm>
                  <a:off x="5261040" y="343116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Skupina 54"/>
              <p:cNvGrpSpPr/>
              <p:nvPr/>
            </p:nvGrpSpPr>
            <p:grpSpPr>
              <a:xfrm>
                <a:off x="3209760" y="4869720"/>
                <a:ext cx="4921200" cy="1536480"/>
                <a:chOff x="3209760" y="4869720"/>
                <a:chExt cx="4921200" cy="1536480"/>
              </a:xfrm>
            </p:grpSpPr>
            <p:sp>
              <p:nvSpPr>
                <p:cNvPr id="425" name="Volný tvar 66"/>
                <p:cNvSpPr/>
                <p:nvPr/>
              </p:nvSpPr>
              <p:spPr>
                <a:xfrm>
                  <a:off x="3209760" y="4869720"/>
                  <a:ext cx="2051280" cy="1536480"/>
                </a:xfrm>
                <a:custGeom>
                  <a:avLst/>
                  <a:gdLst>
                    <a:gd name="textAreaLeft" fmla="*/ 0 w 2051280"/>
                    <a:gd name="textAreaRight" fmla="*/ 2051640 w 205128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Přímá spojovací čára 67"/>
                <p:cNvSpPr/>
                <p:nvPr/>
              </p:nvSpPr>
              <p:spPr>
                <a:xfrm>
                  <a:off x="5261040" y="4869720"/>
                  <a:ext cx="286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Přímá spojovací čára 125"/>
              <p:cNvSpPr/>
              <p:nvPr/>
            </p:nvSpPr>
            <p:spPr>
              <a:xfrm>
                <a:off x="3198960" y="3154320"/>
                <a:ext cx="523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Přímá spojovací čára 126"/>
              <p:cNvSpPr/>
              <p:nvPr/>
            </p:nvSpPr>
            <p:spPr>
              <a:xfrm flipV="1">
                <a:off x="7876800" y="2665440"/>
                <a:ext cx="0" cy="376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ovéPole 73"/>
              <p:cNvSpPr/>
              <p:nvPr/>
            </p:nvSpPr>
            <p:spPr>
              <a:xfrm>
                <a:off x="7833600" y="6396480"/>
                <a:ext cx="13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[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Skupina 51"/>
              <p:cNvGrpSpPr/>
              <p:nvPr/>
            </p:nvGrpSpPr>
            <p:grpSpPr>
              <a:xfrm>
                <a:off x="3209760" y="5454360"/>
                <a:ext cx="4931640" cy="951840"/>
                <a:chOff x="3209760" y="5454360"/>
                <a:chExt cx="4931640" cy="951840"/>
              </a:xfrm>
            </p:grpSpPr>
            <p:sp>
              <p:nvSpPr>
                <p:cNvPr id="431" name="Volný tvar 77"/>
                <p:cNvSpPr/>
                <p:nvPr/>
              </p:nvSpPr>
              <p:spPr>
                <a:xfrm>
                  <a:off x="3209760" y="5454360"/>
                  <a:ext cx="2055600" cy="95184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951840"/>
                    <a:gd name="textAreaBottom" fmla="*/ 952200 h 9518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Přímá spojovací čára 78"/>
                <p:cNvSpPr/>
                <p:nvPr/>
              </p:nvSpPr>
              <p:spPr>
                <a:xfrm>
                  <a:off x="5265360" y="54543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Skupina 48"/>
              <p:cNvGrpSpPr/>
              <p:nvPr/>
            </p:nvGrpSpPr>
            <p:grpSpPr>
              <a:xfrm>
                <a:off x="3199320" y="6086160"/>
                <a:ext cx="4931640" cy="297720"/>
                <a:chOff x="3199320" y="6086160"/>
                <a:chExt cx="4931640" cy="297720"/>
              </a:xfrm>
            </p:grpSpPr>
            <p:sp>
              <p:nvSpPr>
                <p:cNvPr id="434" name="Volný tvar 80"/>
                <p:cNvSpPr/>
                <p:nvPr/>
              </p:nvSpPr>
              <p:spPr>
                <a:xfrm>
                  <a:off x="3199320" y="6086160"/>
                  <a:ext cx="2055600" cy="297720"/>
                </a:xfrm>
                <a:custGeom>
                  <a:avLst/>
                  <a:gdLst>
                    <a:gd name="textAreaLeft" fmla="*/ 0 w 2055600"/>
                    <a:gd name="textAreaRight" fmla="*/ 2055960 w 205560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Přímá spojovací čára 81"/>
                <p:cNvSpPr/>
                <p:nvPr/>
              </p:nvSpPr>
              <p:spPr>
                <a:xfrm>
                  <a:off x="5254920" y="6086160"/>
                  <a:ext cx="28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6" name="Skupina 108"/>
            <p:cNvGrpSpPr/>
            <p:nvPr/>
          </p:nvGrpSpPr>
          <p:grpSpPr>
            <a:xfrm>
              <a:off x="2839680" y="2706120"/>
              <a:ext cx="5551920" cy="4076280"/>
              <a:chOff x="2839680" y="2706120"/>
              <a:chExt cx="5551920" cy="4076280"/>
            </a:xfrm>
          </p:grpSpPr>
          <p:sp>
            <p:nvSpPr>
              <p:cNvPr id="437" name="Přímá spojovací čára 76"/>
              <p:cNvSpPr/>
              <p:nvPr/>
            </p:nvSpPr>
            <p:spPr>
              <a:xfrm>
                <a:off x="321120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Přímá spojovací čára 77"/>
              <p:cNvSpPr/>
              <p:nvPr/>
            </p:nvSpPr>
            <p:spPr>
              <a:xfrm>
                <a:off x="358128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Přímá spojovací čára 78"/>
              <p:cNvSpPr/>
              <p:nvPr/>
            </p:nvSpPr>
            <p:spPr>
              <a:xfrm>
                <a:off x="3951360" y="639180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Přímá spojovací čára 79"/>
              <p:cNvSpPr/>
              <p:nvPr/>
            </p:nvSpPr>
            <p:spPr>
              <a:xfrm>
                <a:off x="432108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Přímá spojovací čára 80"/>
              <p:cNvSpPr/>
              <p:nvPr/>
            </p:nvSpPr>
            <p:spPr>
              <a:xfrm>
                <a:off x="46911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Přímá spojovací čára 81"/>
              <p:cNvSpPr/>
              <p:nvPr/>
            </p:nvSpPr>
            <p:spPr>
              <a:xfrm>
                <a:off x="50612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Přímá spojovací čára 82"/>
              <p:cNvSpPr/>
              <p:nvPr/>
            </p:nvSpPr>
            <p:spPr>
              <a:xfrm>
                <a:off x="543132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Přímá spojovací čára 83"/>
              <p:cNvSpPr/>
              <p:nvPr/>
            </p:nvSpPr>
            <p:spPr>
              <a:xfrm>
                <a:off x="58014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Přímá spojovací čára 84"/>
              <p:cNvSpPr/>
              <p:nvPr/>
            </p:nvSpPr>
            <p:spPr>
              <a:xfrm>
                <a:off x="617148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Přímá spojovací čára 85"/>
              <p:cNvSpPr/>
              <p:nvPr/>
            </p:nvSpPr>
            <p:spPr>
              <a:xfrm>
                <a:off x="654156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Přímá spojovací čára 86"/>
              <p:cNvSpPr/>
              <p:nvPr/>
            </p:nvSpPr>
            <p:spPr>
              <a:xfrm>
                <a:off x="6911640" y="639684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Přímá spojovací čára 87"/>
              <p:cNvSpPr/>
              <p:nvPr/>
            </p:nvSpPr>
            <p:spPr>
              <a:xfrm>
                <a:off x="728172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Přímá spojovací čára 88"/>
              <p:cNvSpPr/>
              <p:nvPr/>
            </p:nvSpPr>
            <p:spPr>
              <a:xfrm>
                <a:off x="7651800" y="640188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Přímá spojovací čára 89"/>
              <p:cNvSpPr/>
              <p:nvPr/>
            </p:nvSpPr>
            <p:spPr>
              <a:xfrm>
                <a:off x="802188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Přímá spojovací čára 90"/>
              <p:cNvSpPr/>
              <p:nvPr/>
            </p:nvSpPr>
            <p:spPr>
              <a:xfrm>
                <a:off x="8391600" y="6401520"/>
                <a:ext cx="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Přímá spojovací čára 91"/>
              <p:cNvSpPr/>
              <p:nvPr/>
            </p:nvSpPr>
            <p:spPr>
              <a:xfrm>
                <a:off x="3071520" y="64065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Přímá spojovací čára 92"/>
              <p:cNvSpPr/>
              <p:nvPr/>
            </p:nvSpPr>
            <p:spPr>
              <a:xfrm>
                <a:off x="3071520" y="60364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Přímá spojovací čára 93"/>
              <p:cNvSpPr/>
              <p:nvPr/>
            </p:nvSpPr>
            <p:spPr>
              <a:xfrm>
                <a:off x="3071520" y="56664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Přímá spojovací čára 94"/>
              <p:cNvSpPr/>
              <p:nvPr/>
            </p:nvSpPr>
            <p:spPr>
              <a:xfrm>
                <a:off x="3076560" y="52963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Přímá spojovací čára 95"/>
              <p:cNvSpPr/>
              <p:nvPr/>
            </p:nvSpPr>
            <p:spPr>
              <a:xfrm>
                <a:off x="3076560" y="49262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Přímá spojovací čára 96"/>
              <p:cNvSpPr/>
              <p:nvPr/>
            </p:nvSpPr>
            <p:spPr>
              <a:xfrm>
                <a:off x="3076560" y="455616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Přímá spojovací čára 97"/>
              <p:cNvSpPr/>
              <p:nvPr/>
            </p:nvSpPr>
            <p:spPr>
              <a:xfrm>
                <a:off x="3076560" y="418608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Přímá spojovací čára 98"/>
              <p:cNvSpPr/>
              <p:nvPr/>
            </p:nvSpPr>
            <p:spPr>
              <a:xfrm>
                <a:off x="3081600" y="381600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Přímá spojovací čára 99"/>
              <p:cNvSpPr/>
              <p:nvPr/>
            </p:nvSpPr>
            <p:spPr>
              <a:xfrm>
                <a:off x="3081600" y="34459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Přímá spojovací čára 100"/>
              <p:cNvSpPr/>
              <p:nvPr/>
            </p:nvSpPr>
            <p:spPr>
              <a:xfrm>
                <a:off x="3076560" y="307584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Přímá spojovací čára 101"/>
              <p:cNvSpPr/>
              <p:nvPr/>
            </p:nvSpPr>
            <p:spPr>
              <a:xfrm>
                <a:off x="3076560" y="2706120"/>
                <a:ext cx="13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ovéPole 102"/>
              <p:cNvSpPr/>
              <p:nvPr/>
            </p:nvSpPr>
            <p:spPr>
              <a:xfrm>
                <a:off x="37756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ovéPole 103"/>
              <p:cNvSpPr/>
              <p:nvPr/>
            </p:nvSpPr>
            <p:spPr>
              <a:xfrm>
                <a:off x="451584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ovéPole 104"/>
              <p:cNvSpPr/>
              <p:nvPr/>
            </p:nvSpPr>
            <p:spPr>
              <a:xfrm>
                <a:off x="525528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ovéPole 105"/>
              <p:cNvSpPr/>
              <p:nvPr/>
            </p:nvSpPr>
            <p:spPr>
              <a:xfrm>
                <a:off x="599580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ovéPole 106"/>
              <p:cNvSpPr/>
              <p:nvPr/>
            </p:nvSpPr>
            <p:spPr>
              <a:xfrm>
                <a:off x="6643440" y="6445080"/>
                <a:ext cx="5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ovéPole 107"/>
              <p:cNvSpPr/>
              <p:nvPr/>
            </p:nvSpPr>
            <p:spPr>
              <a:xfrm>
                <a:off x="7356960" y="6445080"/>
                <a:ext cx="58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ovéPole 108"/>
              <p:cNvSpPr/>
              <p:nvPr/>
            </p:nvSpPr>
            <p:spPr>
              <a:xfrm>
                <a:off x="2919960" y="64450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ovéPole 109"/>
              <p:cNvSpPr/>
              <p:nvPr/>
            </p:nvSpPr>
            <p:spPr>
              <a:xfrm>
                <a:off x="2839680" y="549720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ovéPole 110"/>
              <p:cNvSpPr/>
              <p:nvPr/>
            </p:nvSpPr>
            <p:spPr>
              <a:xfrm>
                <a:off x="2847960" y="475704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ovéPole 111"/>
              <p:cNvSpPr/>
              <p:nvPr/>
            </p:nvSpPr>
            <p:spPr>
              <a:xfrm>
                <a:off x="2839680" y="401688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ovéPole 112"/>
              <p:cNvSpPr/>
              <p:nvPr/>
            </p:nvSpPr>
            <p:spPr>
              <a:xfrm>
                <a:off x="2847600" y="3261960"/>
                <a:ext cx="35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Skupina 244"/>
          <p:cNvGrpSpPr/>
          <p:nvPr/>
        </p:nvGrpSpPr>
        <p:grpSpPr>
          <a:xfrm>
            <a:off x="0" y="3048120"/>
            <a:ext cx="3379680" cy="3657600"/>
            <a:chOff x="0" y="3048120"/>
            <a:chExt cx="3379680" cy="3657600"/>
          </a:xfrm>
        </p:grpSpPr>
        <p:grpSp>
          <p:nvGrpSpPr>
            <p:cNvPr id="475" name="Skupina 100"/>
            <p:cNvGrpSpPr/>
            <p:nvPr/>
          </p:nvGrpSpPr>
          <p:grpSpPr>
            <a:xfrm>
              <a:off x="0" y="3048120"/>
              <a:ext cx="2779920" cy="3657600"/>
              <a:chOff x="0" y="3048120"/>
              <a:chExt cx="2779920" cy="3657600"/>
            </a:xfrm>
          </p:grpSpPr>
          <p:grpSp>
            <p:nvGrpSpPr>
              <p:cNvPr id="476" name="Skupina 79"/>
              <p:cNvGrpSpPr/>
              <p:nvPr/>
            </p:nvGrpSpPr>
            <p:grpSpPr>
              <a:xfrm>
                <a:off x="584640" y="3048120"/>
                <a:ext cx="2195280" cy="3657600"/>
                <a:chOff x="584640" y="3048120"/>
                <a:chExt cx="2195280" cy="3657600"/>
              </a:xfrm>
            </p:grpSpPr>
            <p:cxnSp>
              <p:nvCxnSpPr>
                <p:cNvPr id="477" name="Přímá spojovací šipka 77"/>
                <p:cNvCxnSpPr/>
                <p:nvPr/>
              </p:nvCxnSpPr>
              <p:spPr>
                <a:xfrm>
                  <a:off x="2194200" y="5567760"/>
                  <a:ext cx="1080" cy="56124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478" name="TextovéPole 86"/>
                <p:cNvSpPr/>
                <p:nvPr/>
              </p:nvSpPr>
              <p:spPr>
                <a:xfrm>
                  <a:off x="2194560" y="5568120"/>
                  <a:ext cx="58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Skupina 75"/>
                <p:cNvGrpSpPr/>
                <p:nvPr/>
              </p:nvGrpSpPr>
              <p:grpSpPr>
                <a:xfrm>
                  <a:off x="584640" y="4076280"/>
                  <a:ext cx="1609920" cy="2629440"/>
                  <a:chOff x="584640" y="4076280"/>
                  <a:chExt cx="1609920" cy="2629440"/>
                </a:xfrm>
              </p:grpSpPr>
              <p:grpSp>
                <p:nvGrpSpPr>
                  <p:cNvPr id="480" name="Skupina 1"/>
                  <p:cNvGrpSpPr/>
                  <p:nvPr/>
                </p:nvGrpSpPr>
                <p:grpSpPr>
                  <a:xfrm>
                    <a:off x="584640" y="4076280"/>
                    <a:ext cx="1609920" cy="2629440"/>
                    <a:chOff x="584640" y="4076280"/>
                    <a:chExt cx="1609920" cy="2629440"/>
                  </a:xfrm>
                </p:grpSpPr>
                <p:grpSp>
                  <p:nvGrpSpPr>
                    <p:cNvPr id="481" name="Skupina 3"/>
                    <p:cNvGrpSpPr/>
                    <p:nvPr/>
                  </p:nvGrpSpPr>
                  <p:grpSpPr>
                    <a:xfrm>
                      <a:off x="584640" y="4076280"/>
                      <a:ext cx="1609920" cy="2629440"/>
                      <a:chOff x="584640" y="4076280"/>
                      <a:chExt cx="1609920" cy="2629440"/>
                    </a:xfrm>
                  </p:grpSpPr>
                  <p:sp>
                    <p:nvSpPr>
                      <p:cNvPr id="482" name="Elipsa 6"/>
                      <p:cNvSpPr/>
                      <p:nvPr/>
                    </p:nvSpPr>
                    <p:spPr>
                      <a:xfrm>
                        <a:off x="1023840" y="4527360"/>
                        <a:ext cx="1170720" cy="1219320"/>
                      </a:xfrm>
                      <a:prstGeom prst="ellipse">
                        <a:avLst/>
                      </a:pr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Přímá spojovací čára 7"/>
                      <p:cNvSpPr/>
                      <p:nvPr/>
                    </p:nvSpPr>
                    <p:spPr>
                      <a:xfrm>
                        <a:off x="1316520" y="4831920"/>
                        <a:ext cx="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Přímá spojovací čára 8"/>
                      <p:cNvSpPr/>
                      <p:nvPr/>
                    </p:nvSpPr>
                    <p:spPr>
                      <a:xfrm flipV="1">
                        <a:off x="1316520" y="470556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Přímá spojovací čára 9"/>
                      <p:cNvSpPr/>
                      <p:nvPr/>
                    </p:nvSpPr>
                    <p:spPr>
                      <a:xfrm>
                        <a:off x="1316520" y="5136840"/>
                        <a:ext cx="706320" cy="430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Přímá spojovací čára 10"/>
                      <p:cNvSpPr/>
                      <p:nvPr/>
                    </p:nvSpPr>
                    <p:spPr>
                      <a:xfrm flipH="1">
                        <a:off x="1023480" y="5136840"/>
                        <a:ext cx="2926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Přímá spojovací čára 11"/>
                      <p:cNvSpPr/>
                      <p:nvPr/>
                    </p:nvSpPr>
                    <p:spPr>
                      <a:xfrm>
                        <a:off x="2023200" y="4076280"/>
                        <a:ext cx="0" cy="6296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Přímá spojovací čára 12"/>
                      <p:cNvSpPr/>
                      <p:nvPr/>
                    </p:nvSpPr>
                    <p:spPr>
                      <a:xfrm>
                        <a:off x="2023200" y="5568120"/>
                        <a:ext cx="24840" cy="1137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Přímá spojovací čára 13"/>
                      <p:cNvSpPr/>
                      <p:nvPr/>
                    </p:nvSpPr>
                    <p:spPr>
                      <a:xfrm flipH="1">
                        <a:off x="584640" y="5136840"/>
                        <a:ext cx="4388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90" name="TextovéPole 3"/>
                    <p:cNvSpPr/>
                    <p:nvPr/>
                  </p:nvSpPr>
                  <p:spPr>
                    <a:xfrm>
                      <a:off x="731160" y="4661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TextovéPole 4"/>
                    <p:cNvSpPr/>
                    <p:nvPr/>
                  </p:nvSpPr>
                  <p:spPr>
                    <a:xfrm>
                      <a:off x="1609200" y="40762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TextovéPole 5"/>
                    <p:cNvSpPr/>
                    <p:nvPr/>
                  </p:nvSpPr>
                  <p:spPr>
                    <a:xfrm>
                      <a:off x="1609200" y="5685480"/>
                      <a:ext cx="3657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Přímá spojovací čára 39"/>
                  <p:cNvSpPr/>
                  <p:nvPr/>
                </p:nvSpPr>
                <p:spPr>
                  <a:xfrm flipV="1">
                    <a:off x="585000" y="4076280"/>
                    <a:ext cx="0" cy="1060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4" name="Přímá spojovací čára 260"/>
                <p:cNvSpPr/>
                <p:nvPr/>
              </p:nvSpPr>
              <p:spPr>
                <a:xfrm>
                  <a:off x="1389600" y="334044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Elipsa 24"/>
                <p:cNvSpPr/>
                <p:nvPr/>
              </p:nvSpPr>
              <p:spPr>
                <a:xfrm rot="10800000">
                  <a:off x="1316520" y="3194280"/>
                  <a:ext cx="146160" cy="1461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Přímá spojovací čára 262"/>
                <p:cNvSpPr/>
                <p:nvPr/>
              </p:nvSpPr>
              <p:spPr>
                <a:xfrm>
                  <a:off x="1901880" y="6705720"/>
                  <a:ext cx="292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TextovéPole 263"/>
                <p:cNvSpPr/>
                <p:nvPr/>
              </p:nvSpPr>
              <p:spPr>
                <a:xfrm>
                  <a:off x="1463040" y="3048120"/>
                  <a:ext cx="131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+U</a:t>
                  </a:r>
                  <a:r>
                    <a:rPr b="0" lang="cs-CZ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Přímá spojovací čára 264"/>
                <p:cNvSpPr/>
                <p:nvPr/>
              </p:nvSpPr>
              <p:spPr>
                <a:xfrm>
                  <a:off x="585000" y="4072320"/>
                  <a:ext cx="1463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Přímá spojovací čára 265"/>
                <p:cNvSpPr/>
                <p:nvPr/>
              </p:nvSpPr>
              <p:spPr>
                <a:xfrm>
                  <a:off x="1389600" y="3706200"/>
                  <a:ext cx="0" cy="365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Elipsa 24"/>
                <p:cNvSpPr/>
                <p:nvPr/>
              </p:nvSpPr>
              <p:spPr>
                <a:xfrm rot="10800000">
                  <a:off x="1316520" y="3998880"/>
                  <a:ext cx="146160" cy="1461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01" name="Přímá spojovací šipka 79"/>
              <p:cNvCxnSpPr/>
              <p:nvPr/>
            </p:nvCxnSpPr>
            <p:spPr>
              <a:xfrm>
                <a:off x="2121120" y="4145040"/>
                <a:ext cx="1080" cy="439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502" name="TextovéPole 87"/>
              <p:cNvSpPr/>
              <p:nvPr/>
            </p:nvSpPr>
            <p:spPr>
              <a:xfrm>
                <a:off x="2194920" y="407232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ovéPole 88"/>
              <p:cNvSpPr/>
              <p:nvPr/>
            </p:nvSpPr>
            <p:spPr>
              <a:xfrm>
                <a:off x="0" y="4438080"/>
                <a:ext cx="5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4" name="Přímá spojovací šipka 78"/>
              <p:cNvCxnSpPr/>
              <p:nvPr/>
            </p:nvCxnSpPr>
            <p:spPr>
              <a:xfrm>
                <a:off x="438480" y="4438080"/>
                <a:ext cx="1080" cy="512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505" name="Skupina 111"/>
            <p:cNvGrpSpPr/>
            <p:nvPr/>
          </p:nvGrpSpPr>
          <p:grpSpPr>
            <a:xfrm>
              <a:off x="1609200" y="4511160"/>
              <a:ext cx="1770480" cy="1243440"/>
              <a:chOff x="1609200" y="4511160"/>
              <a:chExt cx="1770480" cy="1243440"/>
            </a:xfrm>
          </p:grpSpPr>
          <p:sp>
            <p:nvSpPr>
              <p:cNvPr id="506" name="Oblouk 250"/>
              <p:cNvSpPr/>
              <p:nvPr/>
            </p:nvSpPr>
            <p:spPr>
              <a:xfrm>
                <a:off x="1609200" y="4511160"/>
                <a:ext cx="995040" cy="1243440"/>
              </a:xfrm>
              <a:custGeom>
                <a:avLst/>
                <a:gdLst>
                  <a:gd name="textAreaLeft" fmla="*/ 708840 w 995040"/>
                  <a:gd name="textAreaRight" fmla="*/ 995400 w 995040"/>
                  <a:gd name="textAreaTop" fmla="*/ 72360 h 1243440"/>
                  <a:gd name="textAreaBottom" fmla="*/ 1184760 h 12434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901959" y="150783"/>
                    </a:moveTo>
                    <a:lnTo>
                      <a:pt x="1901959" y="150783"/>
                    </a:lnTo>
                    <a:arcTo wR="1295400" hR="1295400" stAng="-3724791" swAng="761694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ovéPole 251"/>
              <p:cNvSpPr/>
              <p:nvPr/>
            </p:nvSpPr>
            <p:spPr>
              <a:xfrm>
                <a:off x="2560320" y="4950000"/>
                <a:ext cx="819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Skupina 113"/>
            <p:cNvGrpSpPr/>
            <p:nvPr/>
          </p:nvGrpSpPr>
          <p:grpSpPr>
            <a:xfrm>
              <a:off x="585000" y="3779640"/>
              <a:ext cx="2560320" cy="2487240"/>
              <a:chOff x="585000" y="3779640"/>
              <a:chExt cx="2560320" cy="2487240"/>
            </a:xfrm>
          </p:grpSpPr>
          <p:sp>
            <p:nvSpPr>
              <p:cNvPr id="509" name="Oblouk 248"/>
              <p:cNvSpPr/>
              <p:nvPr/>
            </p:nvSpPr>
            <p:spPr>
              <a:xfrm>
                <a:off x="658080" y="3779640"/>
                <a:ext cx="2487240" cy="2487240"/>
              </a:xfrm>
              <a:custGeom>
                <a:avLst/>
                <a:gdLst>
                  <a:gd name="textAreaLeft" fmla="*/ 23760 w 2487240"/>
                  <a:gd name="textAreaRight" fmla="*/ 1253160 w 2487240"/>
                  <a:gd name="textAreaTop" fmla="*/ 1485720 h 2487240"/>
                  <a:gd name="textAreaBottom" fmla="*/ 2487600 h 2487240"/>
                </a:gdLst>
                <a:ahLst/>
                <a:rect l="textAreaLeft" t="textAreaTop" r="textAreaRight" b="textAreaBottom"/>
                <a:pathLst>
                  <a:path stroke="0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  <a:lnTo>
                      <a:pt x="1295400" y="1295400"/>
                    </a:lnTo>
                    <a:close/>
                  </a:path>
                  <a:path fill="none" w="2590800" h="2590800">
                    <a:moveTo>
                      <a:pt x="1305364" y="2590762"/>
                    </a:moveTo>
                    <a:lnTo>
                      <a:pt x="1305364" y="2590762"/>
                    </a:lnTo>
                    <a:arcTo wR="1295400" hR="1295400" stAng="5373557" swAng="4753014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ovéPole 249"/>
              <p:cNvSpPr/>
              <p:nvPr/>
            </p:nvSpPr>
            <p:spPr>
              <a:xfrm>
                <a:off x="585000" y="5754960"/>
                <a:ext cx="633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TextovéPole 2"/>
          <p:cNvSpPr/>
          <p:nvPr/>
        </p:nvSpPr>
        <p:spPr>
          <a:xfrm>
            <a:off x="457200" y="990720"/>
            <a:ext cx="83059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sečík s osou napětí (bod 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stíme při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 bude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apř. 12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ovéPole 120"/>
          <p:cNvSpPr/>
          <p:nvPr/>
        </p:nvSpPr>
        <p:spPr>
          <a:xfrm>
            <a:off x="7238880" y="6396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8T18:52:35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