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F84-DA8E-414A-8614-83424B04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D75-E6AF-4731-9892-301C0199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4E1-9F15-4A78-8C0A-C49B44A8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079-76D2-4F63-944B-879016A6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866-47E4-4C17-9DF8-9F2C97C3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6E0-5A54-422A-94BE-70532C91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ECD-6D53-4BCB-8826-3A73CC49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D7C-D676-49E8-BE4F-02544AB1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E70-E0AB-4065-8834-2465ECC7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95F-BF73-4E5D-88DD-69426E7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3C8-4037-4610-8465-50EC8191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121-1E9E-4544-B9F8-07BC7AE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C6EE-3405-4437-95F6-FAA8332A9F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Rozdělení zesilovač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ět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zesilova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- ROZDĚL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ovéPole 2"/>
          <p:cNvSpPr/>
          <p:nvPr/>
        </p:nvSpPr>
        <p:spPr>
          <a:xfrm>
            <a:off x="457200" y="12193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) Podle pracovní třídy zesilovač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dělení zesilovačů do tříd bude vysvětleno pozdě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- ROZDĚL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ovéPole 2"/>
          <p:cNvSpPr/>
          <p:nvPr/>
        </p:nvSpPr>
        <p:spPr>
          <a:xfrm>
            <a:off x="457200" y="1219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) Podle počtu zesilovacích stupň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ostupňové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stupňov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- ROZDĚL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ovéPole 2"/>
          <p:cNvSpPr/>
          <p:nvPr/>
        </p:nvSpPr>
        <p:spPr>
          <a:xfrm>
            <a:off x="457200" y="121932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) Podle druhu vazby mezi zesilovacími stup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jnosměrná-odporová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pacitn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sformátorov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- ROZDĚL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ovéPole 2"/>
          <p:cNvSpPr/>
          <p:nvPr/>
        </p:nvSpPr>
        <p:spPr>
          <a:xfrm>
            <a:off x="457200" y="121932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) Podle zesilovacího prv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ové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ktronkové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grova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- ROZDĚL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2"/>
          <p:cNvSpPr/>
          <p:nvPr/>
        </p:nvSpPr>
        <p:spPr>
          <a:xfrm>
            <a:off x="457200" y="12193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) U tranzistorových zesilovačů rozlišujeme způsob připojení tranzistor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ý emitor (S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é kolektor (S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á báze (S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ovéPole 2"/>
          <p:cNvSpPr/>
          <p:nvPr/>
        </p:nvSpPr>
        <p:spPr>
          <a:xfrm>
            <a:off x="457200" y="1447920"/>
            <a:ext cx="83059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ou vlastnost u vstupního signálu zesiluje zesilova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mplitu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ůže zesilovač fungovat i bez externího napáje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ů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 rozdělujeme zesilovače podle frekv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jnosměr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ofrekven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ofrekven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uls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2"/>
          <p:cNvSpPr/>
          <p:nvPr/>
        </p:nvSpPr>
        <p:spPr>
          <a:xfrm>
            <a:off x="457200" y="14479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e jsou elektronické obvod, které zesilují amplitudu vstupního signálu a ke své funkci potřebují externí napáj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e můžeme dělit z mnoha hledisek, které souvisí se zpracovávaným signálem nebo s konstrukcí zesilovač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399240"/>
            <a:ext cx="85341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úvodní seznámení se zesilovači a jejich rozděl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60020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e jsou elektronické obvody, které zesilují amplitudu signálu, tvar a frekvence zůstává stejn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 je aktivní nelineární čtyřpól, tvořený zesilovacím prvkem pomocnými obv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silovač potřebuje pro svou funkci externí napáj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457200" y="1219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loková schéma střídavého zesilovač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Skupina 73"/>
          <p:cNvGrpSpPr/>
          <p:nvPr/>
        </p:nvGrpSpPr>
        <p:grpSpPr>
          <a:xfrm>
            <a:off x="1371600" y="1676520"/>
            <a:ext cx="6629400" cy="3962160"/>
            <a:chOff x="1371600" y="1676520"/>
            <a:chExt cx="6629400" cy="3962160"/>
          </a:xfrm>
        </p:grpSpPr>
        <p:cxnSp>
          <p:nvCxnSpPr>
            <p:cNvPr id="51" name="Přímá spojovací šipka 77"/>
            <p:cNvCxnSpPr/>
            <p:nvPr/>
          </p:nvCxnSpPr>
          <p:spPr>
            <a:xfrm>
              <a:off x="5409720" y="4302000"/>
              <a:ext cx="1080" cy="583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" name="Přímá spojovací šipka 78"/>
            <p:cNvCxnSpPr/>
            <p:nvPr/>
          </p:nvCxnSpPr>
          <p:spPr>
            <a:xfrm>
              <a:off x="2057040" y="25491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3" name="Přímá spojovací šipka 79"/>
            <p:cNvCxnSpPr/>
            <p:nvPr/>
          </p:nvCxnSpPr>
          <p:spPr>
            <a:xfrm flipH="1">
              <a:off x="6476400" y="2549160"/>
              <a:ext cx="6102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4" name="TextovéPole 86"/>
            <p:cNvSpPr/>
            <p:nvPr/>
          </p:nvSpPr>
          <p:spPr>
            <a:xfrm>
              <a:off x="5410080" y="4302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ovéPole 87"/>
            <p:cNvSpPr/>
            <p:nvPr/>
          </p:nvSpPr>
          <p:spPr>
            <a:xfrm>
              <a:off x="6553440" y="2016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ovéPole 88"/>
            <p:cNvSpPr/>
            <p:nvPr/>
          </p:nvSpPr>
          <p:spPr>
            <a:xfrm>
              <a:off x="2057400" y="2016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Skupina 111"/>
            <p:cNvGrpSpPr/>
            <p:nvPr/>
          </p:nvGrpSpPr>
          <p:grpSpPr>
            <a:xfrm>
              <a:off x="1371600" y="2330280"/>
              <a:ext cx="6629400" cy="2971800"/>
              <a:chOff x="1371600" y="2330280"/>
              <a:chExt cx="6629400" cy="2971800"/>
            </a:xfrm>
          </p:grpSpPr>
          <p:grpSp>
            <p:nvGrpSpPr>
              <p:cNvPr id="58" name="Skupina 75"/>
              <p:cNvGrpSpPr/>
              <p:nvPr/>
            </p:nvGrpSpPr>
            <p:grpSpPr>
              <a:xfrm>
                <a:off x="1981080" y="2330280"/>
                <a:ext cx="5257800" cy="2971800"/>
                <a:chOff x="1981080" y="2330280"/>
                <a:chExt cx="5257800" cy="2971800"/>
              </a:xfrm>
            </p:grpSpPr>
            <p:grpSp>
              <p:nvGrpSpPr>
                <p:cNvPr id="59" name="Skupina 1"/>
                <p:cNvGrpSpPr/>
                <p:nvPr/>
              </p:nvGrpSpPr>
              <p:grpSpPr>
                <a:xfrm>
                  <a:off x="3733560" y="2747160"/>
                  <a:ext cx="1676160" cy="2250360"/>
                  <a:chOff x="3733560" y="2747160"/>
                  <a:chExt cx="1676160" cy="2250360"/>
                </a:xfrm>
              </p:grpSpPr>
              <p:grpSp>
                <p:nvGrpSpPr>
                  <p:cNvPr id="60" name="Skupina 3"/>
                  <p:cNvGrpSpPr/>
                  <p:nvPr/>
                </p:nvGrpSpPr>
                <p:grpSpPr>
                  <a:xfrm>
                    <a:off x="3733560" y="2747160"/>
                    <a:ext cx="1676160" cy="2250360"/>
                    <a:chOff x="3733560" y="2747160"/>
                    <a:chExt cx="1676160" cy="2250360"/>
                  </a:xfrm>
                </p:grpSpPr>
                <p:sp>
                  <p:nvSpPr>
                    <p:cNvPr id="61" name="Elipsa 6"/>
                    <p:cNvSpPr/>
                    <p:nvPr/>
                  </p:nvSpPr>
                  <p:spPr>
                    <a:xfrm>
                      <a:off x="4190760" y="3216960"/>
                      <a:ext cx="1218960" cy="12700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Přímá spojovací čára 7"/>
                    <p:cNvSpPr/>
                    <p:nvPr/>
                  </p:nvSpPr>
                  <p:spPr>
                    <a:xfrm>
                      <a:off x="4495320" y="3534480"/>
                      <a:ext cx="0" cy="63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Přímá spojovací čára 8"/>
                    <p:cNvSpPr/>
                    <p:nvPr/>
                  </p:nvSpPr>
                  <p:spPr>
                    <a:xfrm flipV="1">
                      <a:off x="4495320" y="3402720"/>
                      <a:ext cx="735840" cy="448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Přímá spojovací čára 9"/>
                    <p:cNvSpPr/>
                    <p:nvPr/>
                  </p:nvSpPr>
                  <p:spPr>
                    <a:xfrm>
                      <a:off x="4495320" y="3852000"/>
                      <a:ext cx="735840" cy="448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Přímá spojovací čára 10"/>
                    <p:cNvSpPr/>
                    <p:nvPr/>
                  </p:nvSpPr>
                  <p:spPr>
                    <a:xfrm flipH="1">
                      <a:off x="4190760" y="385200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Přímá spojovací čára 11"/>
                    <p:cNvSpPr/>
                    <p:nvPr/>
                  </p:nvSpPr>
                  <p:spPr>
                    <a:xfrm>
                      <a:off x="5231160" y="2747160"/>
                      <a:ext cx="0" cy="655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Přímá spojovací čára 12"/>
                    <p:cNvSpPr/>
                    <p:nvPr/>
                  </p:nvSpPr>
                  <p:spPr>
                    <a:xfrm>
                      <a:off x="5231160" y="4301280"/>
                      <a:ext cx="0" cy="696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Přímá spojovací čára 13"/>
                    <p:cNvSpPr/>
                    <p:nvPr/>
                  </p:nvSpPr>
                  <p:spPr>
                    <a:xfrm flipH="1">
                      <a:off x="3733560" y="3852000"/>
                      <a:ext cx="457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" name="TextovéPole 3"/>
                  <p:cNvSpPr/>
                  <p:nvPr/>
                </p:nvSpPr>
                <p:spPr>
                  <a:xfrm>
                    <a:off x="3885840" y="335664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TextovéPole 4"/>
                  <p:cNvSpPr/>
                  <p:nvPr/>
                </p:nvSpPr>
                <p:spPr>
                  <a:xfrm>
                    <a:off x="4800240" y="274716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TextovéPole 5"/>
                  <p:cNvSpPr/>
                  <p:nvPr/>
                </p:nvSpPr>
                <p:spPr>
                  <a:xfrm>
                    <a:off x="4800240" y="442368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Skupina 28"/>
                <p:cNvGrpSpPr/>
                <p:nvPr/>
              </p:nvGrpSpPr>
              <p:grpSpPr>
                <a:xfrm>
                  <a:off x="1981080" y="2330280"/>
                  <a:ext cx="5257800" cy="2971800"/>
                  <a:chOff x="1981080" y="2330280"/>
                  <a:chExt cx="5257800" cy="2971800"/>
                </a:xfrm>
              </p:grpSpPr>
              <p:sp>
                <p:nvSpPr>
                  <p:cNvPr id="73" name="Obdélník 14"/>
                  <p:cNvSpPr/>
                  <p:nvPr/>
                </p:nvSpPr>
                <p:spPr>
                  <a:xfrm>
                    <a:off x="3200040" y="2330280"/>
                    <a:ext cx="2819520" cy="297180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" name="Skupina 18"/>
                  <p:cNvGrpSpPr/>
                  <p:nvPr/>
                </p:nvGrpSpPr>
                <p:grpSpPr>
                  <a:xfrm>
                    <a:off x="1981080" y="2670840"/>
                    <a:ext cx="1294920" cy="152280"/>
                    <a:chOff x="1981080" y="2670840"/>
                    <a:chExt cx="1294920" cy="152280"/>
                  </a:xfrm>
                </p:grpSpPr>
                <p:sp>
                  <p:nvSpPr>
                    <p:cNvPr id="75" name="Přímá spojovací čára 16"/>
                    <p:cNvSpPr/>
                    <p:nvPr/>
                  </p:nvSpPr>
                  <p:spPr>
                    <a:xfrm flipH="1">
                      <a:off x="2133000" y="2746800"/>
                      <a:ext cx="5331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Elipsa 17"/>
                    <p:cNvSpPr/>
                    <p:nvPr/>
                  </p:nvSpPr>
                  <p:spPr>
                    <a:xfrm>
                      <a:off x="1981080" y="2670840"/>
                      <a:ext cx="152280" cy="1522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Přímá spojovací čára 16"/>
                    <p:cNvSpPr/>
                    <p:nvPr/>
                  </p:nvSpPr>
                  <p:spPr>
                    <a:xfrm flipH="1">
                      <a:off x="2742840" y="2746800"/>
                      <a:ext cx="5331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" name="Skupina 19"/>
                  <p:cNvGrpSpPr/>
                  <p:nvPr/>
                </p:nvGrpSpPr>
                <p:grpSpPr>
                  <a:xfrm>
                    <a:off x="1981080" y="4921200"/>
                    <a:ext cx="1218600" cy="152280"/>
                    <a:chOff x="1981080" y="4921200"/>
                    <a:chExt cx="1218600" cy="152280"/>
                  </a:xfrm>
                </p:grpSpPr>
                <p:sp>
                  <p:nvSpPr>
                    <p:cNvPr id="79" name="Přímá spojovací čára 20"/>
                    <p:cNvSpPr/>
                    <p:nvPr/>
                  </p:nvSpPr>
                  <p:spPr>
                    <a:xfrm flipH="1">
                      <a:off x="2133000" y="4997160"/>
                      <a:ext cx="1066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Elipsa 21"/>
                    <p:cNvSpPr/>
                    <p:nvPr/>
                  </p:nvSpPr>
                  <p:spPr>
                    <a:xfrm>
                      <a:off x="1981080" y="4921200"/>
                      <a:ext cx="152280" cy="1522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" name="Skupina 22"/>
                  <p:cNvGrpSpPr/>
                  <p:nvPr/>
                </p:nvGrpSpPr>
                <p:grpSpPr>
                  <a:xfrm>
                    <a:off x="5943960" y="2670480"/>
                    <a:ext cx="1294920" cy="152280"/>
                    <a:chOff x="5943960" y="2670480"/>
                    <a:chExt cx="1294920" cy="152280"/>
                  </a:xfrm>
                </p:grpSpPr>
                <p:sp>
                  <p:nvSpPr>
                    <p:cNvPr id="82" name="Přímá spojovací čára 23"/>
                    <p:cNvSpPr/>
                    <p:nvPr/>
                  </p:nvSpPr>
                  <p:spPr>
                    <a:xfrm>
                      <a:off x="6553800" y="2746800"/>
                      <a:ext cx="5331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Elipsa 24"/>
                    <p:cNvSpPr/>
                    <p:nvPr/>
                  </p:nvSpPr>
                  <p:spPr>
                    <a:xfrm rot="10800000">
                      <a:off x="7086600" y="2670480"/>
                      <a:ext cx="152280" cy="1522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Přímá spojovací čára 23"/>
                    <p:cNvSpPr/>
                    <p:nvPr/>
                  </p:nvSpPr>
                  <p:spPr>
                    <a:xfrm>
                      <a:off x="5943960" y="2746800"/>
                      <a:ext cx="5331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" name="Skupina 25"/>
                  <p:cNvGrpSpPr/>
                  <p:nvPr/>
                </p:nvGrpSpPr>
                <p:grpSpPr>
                  <a:xfrm>
                    <a:off x="6020280" y="4920840"/>
                    <a:ext cx="1218600" cy="152280"/>
                    <a:chOff x="6020280" y="4920840"/>
                    <a:chExt cx="1218600" cy="152280"/>
                  </a:xfrm>
                </p:grpSpPr>
                <p:sp>
                  <p:nvSpPr>
                    <p:cNvPr id="86" name="Přímá spojovací čára 26"/>
                    <p:cNvSpPr/>
                    <p:nvPr/>
                  </p:nvSpPr>
                  <p:spPr>
                    <a:xfrm>
                      <a:off x="6020280" y="4997160"/>
                      <a:ext cx="1066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Elipsa 27"/>
                    <p:cNvSpPr/>
                    <p:nvPr/>
                  </p:nvSpPr>
                  <p:spPr>
                    <a:xfrm rot="10800000">
                      <a:off x="7086600" y="4920840"/>
                      <a:ext cx="152280" cy="1522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8" name="Přímá spojovací čára 30"/>
                <p:cNvSpPr/>
                <p:nvPr/>
              </p:nvSpPr>
              <p:spPr>
                <a:xfrm>
                  <a:off x="3200040" y="4997520"/>
                  <a:ext cx="281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Přímá spojovací čára 32"/>
                <p:cNvSpPr/>
                <p:nvPr/>
              </p:nvSpPr>
              <p:spPr>
                <a:xfrm flipH="1">
                  <a:off x="5231160" y="2747160"/>
                  <a:ext cx="788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Přímá spojovací čára 39"/>
                <p:cNvSpPr/>
                <p:nvPr/>
              </p:nvSpPr>
              <p:spPr>
                <a:xfrm flipV="1">
                  <a:off x="3733560" y="2746800"/>
                  <a:ext cx="0" cy="110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Přímá spojovací čára 41"/>
                <p:cNvSpPr/>
                <p:nvPr/>
              </p:nvSpPr>
              <p:spPr>
                <a:xfrm flipH="1">
                  <a:off x="3047400" y="27471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Elipsa 42"/>
                <p:cNvSpPr/>
                <p:nvPr/>
              </p:nvSpPr>
              <p:spPr>
                <a:xfrm>
                  <a:off x="5155200" y="48852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3" name="Přímá spojovací šipka 82"/>
              <p:cNvCxnSpPr/>
              <p:nvPr/>
            </p:nvCxnSpPr>
            <p:spPr>
              <a:xfrm>
                <a:off x="7238880" y="2916720"/>
                <a:ext cx="1080" cy="1969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94" name="Přímá spojovací šipka 83"/>
              <p:cNvCxnSpPr/>
              <p:nvPr/>
            </p:nvCxnSpPr>
            <p:spPr>
              <a:xfrm>
                <a:off x="1980720" y="2916720"/>
                <a:ext cx="1080" cy="1969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5" name="TextovéPole 89"/>
              <p:cNvSpPr/>
              <p:nvPr/>
            </p:nvSpPr>
            <p:spPr>
              <a:xfrm>
                <a:off x="1371600" y="358740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ovéPole 90"/>
              <p:cNvSpPr/>
              <p:nvPr/>
            </p:nvSpPr>
            <p:spPr>
              <a:xfrm>
                <a:off x="7239240" y="358740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Skupina 62"/>
            <p:cNvGrpSpPr/>
            <p:nvPr/>
          </p:nvGrpSpPr>
          <p:grpSpPr>
            <a:xfrm>
              <a:off x="4419720" y="1676520"/>
              <a:ext cx="1600200" cy="3962160"/>
              <a:chOff x="4419720" y="1676520"/>
              <a:chExt cx="1600200" cy="3962160"/>
            </a:xfrm>
          </p:grpSpPr>
          <p:sp>
            <p:nvSpPr>
              <p:cNvPr id="98" name="Přímá spojovací čára 65"/>
              <p:cNvSpPr/>
              <p:nvPr/>
            </p:nvSpPr>
            <p:spPr>
              <a:xfrm>
                <a:off x="4572000" y="198108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Elipsa 24"/>
              <p:cNvSpPr/>
              <p:nvPr/>
            </p:nvSpPr>
            <p:spPr>
              <a:xfrm rot="10800000">
                <a:off x="4495320" y="18284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Skupina 96"/>
              <p:cNvGrpSpPr/>
              <p:nvPr/>
            </p:nvGrpSpPr>
            <p:grpSpPr>
              <a:xfrm>
                <a:off x="4419720" y="5334120"/>
                <a:ext cx="304560" cy="304560"/>
                <a:chOff x="4419720" y="5334120"/>
                <a:chExt cx="304560" cy="304560"/>
              </a:xfrm>
            </p:grpSpPr>
            <p:sp>
              <p:nvSpPr>
                <p:cNvPr id="101" name="Přímá spojovací čára 74"/>
                <p:cNvSpPr/>
                <p:nvPr/>
              </p:nvSpPr>
              <p:spPr>
                <a:xfrm>
                  <a:off x="457200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Přímá spojovací čára 94"/>
                <p:cNvSpPr/>
                <p:nvPr/>
              </p:nvSpPr>
              <p:spPr>
                <a:xfrm>
                  <a:off x="4419720" y="56386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ovéPole 95"/>
              <p:cNvSpPr/>
              <p:nvPr/>
            </p:nvSpPr>
            <p:spPr>
              <a:xfrm>
                <a:off x="4648320" y="1676520"/>
                <a:ext cx="137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+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Skupina 63"/>
            <p:cNvGrpSpPr/>
            <p:nvPr/>
          </p:nvGrpSpPr>
          <p:grpSpPr>
            <a:xfrm>
              <a:off x="4494960" y="4923720"/>
              <a:ext cx="152280" cy="410040"/>
              <a:chOff x="4494960" y="4923720"/>
              <a:chExt cx="152280" cy="410040"/>
            </a:xfrm>
          </p:grpSpPr>
          <p:sp>
            <p:nvSpPr>
              <p:cNvPr id="105" name="Přímá spojovací čára 108"/>
              <p:cNvSpPr/>
              <p:nvPr/>
            </p:nvSpPr>
            <p:spPr>
              <a:xfrm flipV="1">
                <a:off x="4572000" y="495252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Elipsa 42"/>
              <p:cNvSpPr/>
              <p:nvPr/>
            </p:nvSpPr>
            <p:spPr>
              <a:xfrm>
                <a:off x="4494960" y="4923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Přímá spojovací čára 61"/>
            <p:cNvSpPr/>
            <p:nvPr/>
          </p:nvSpPr>
          <p:spPr>
            <a:xfrm>
              <a:off x="6477120" y="2625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Přímá spojovací čára 62"/>
            <p:cNvSpPr/>
            <p:nvPr/>
          </p:nvSpPr>
          <p:spPr>
            <a:xfrm>
              <a:off x="6553440" y="2625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římá spojovací čára 63"/>
            <p:cNvSpPr/>
            <p:nvPr/>
          </p:nvSpPr>
          <p:spPr>
            <a:xfrm>
              <a:off x="2666880" y="2625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římá spojovací čára 64"/>
            <p:cNvSpPr/>
            <p:nvPr/>
          </p:nvSpPr>
          <p:spPr>
            <a:xfrm>
              <a:off x="2743200" y="2625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70"/>
            <p:cNvSpPr/>
            <p:nvPr/>
          </p:nvSpPr>
          <p:spPr>
            <a:xfrm>
              <a:off x="2361960" y="30067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ovéPole 71"/>
            <p:cNvSpPr/>
            <p:nvPr/>
          </p:nvSpPr>
          <p:spPr>
            <a:xfrm>
              <a:off x="6248520" y="30067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ovéPole 72"/>
          <p:cNvSpPr/>
          <p:nvPr/>
        </p:nvSpPr>
        <p:spPr>
          <a:xfrm>
            <a:off x="380880" y="586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ájení zesilovače je stejnosměrné a zpracovávaný signál střídav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"/>
          <p:cNvSpPr/>
          <p:nvPr/>
        </p:nvSpPr>
        <p:spPr>
          <a:xfrm>
            <a:off x="457200" y="1219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loková schéma střídavého zesilovač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Skupina 73"/>
          <p:cNvGrpSpPr/>
          <p:nvPr/>
        </p:nvGrpSpPr>
        <p:grpSpPr>
          <a:xfrm>
            <a:off x="1371600" y="1676520"/>
            <a:ext cx="6629400" cy="3962160"/>
            <a:chOff x="1371600" y="1676520"/>
            <a:chExt cx="6629400" cy="3962160"/>
          </a:xfrm>
        </p:grpSpPr>
        <p:cxnSp>
          <p:nvCxnSpPr>
            <p:cNvPr id="117" name="Přímá spojovací šipka 77"/>
            <p:cNvCxnSpPr/>
            <p:nvPr/>
          </p:nvCxnSpPr>
          <p:spPr>
            <a:xfrm>
              <a:off x="5409720" y="4302000"/>
              <a:ext cx="1080" cy="583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8" name="Přímá spojovací šipka 78"/>
            <p:cNvCxnSpPr/>
            <p:nvPr/>
          </p:nvCxnSpPr>
          <p:spPr>
            <a:xfrm>
              <a:off x="2057040" y="25491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9" name="Přímá spojovací šipka 79"/>
            <p:cNvCxnSpPr/>
            <p:nvPr/>
          </p:nvCxnSpPr>
          <p:spPr>
            <a:xfrm flipH="1">
              <a:off x="6476400" y="2549160"/>
              <a:ext cx="6102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0" name="TextovéPole 86"/>
            <p:cNvSpPr/>
            <p:nvPr/>
          </p:nvSpPr>
          <p:spPr>
            <a:xfrm>
              <a:off x="5410080" y="4302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ovéPole 87"/>
            <p:cNvSpPr/>
            <p:nvPr/>
          </p:nvSpPr>
          <p:spPr>
            <a:xfrm>
              <a:off x="6553440" y="2016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ovéPole 88"/>
            <p:cNvSpPr/>
            <p:nvPr/>
          </p:nvSpPr>
          <p:spPr>
            <a:xfrm>
              <a:off x="2057400" y="2016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Skupina 111"/>
            <p:cNvGrpSpPr/>
            <p:nvPr/>
          </p:nvGrpSpPr>
          <p:grpSpPr>
            <a:xfrm>
              <a:off x="1371600" y="2330280"/>
              <a:ext cx="6629400" cy="2971800"/>
              <a:chOff x="1371600" y="2330280"/>
              <a:chExt cx="6629400" cy="2971800"/>
            </a:xfrm>
          </p:grpSpPr>
          <p:grpSp>
            <p:nvGrpSpPr>
              <p:cNvPr id="124" name="Skupina 75"/>
              <p:cNvGrpSpPr/>
              <p:nvPr/>
            </p:nvGrpSpPr>
            <p:grpSpPr>
              <a:xfrm>
                <a:off x="1981080" y="2330280"/>
                <a:ext cx="5257800" cy="2971800"/>
                <a:chOff x="1981080" y="2330280"/>
                <a:chExt cx="5257800" cy="2971800"/>
              </a:xfrm>
            </p:grpSpPr>
            <p:grpSp>
              <p:nvGrpSpPr>
                <p:cNvPr id="125" name="Skupina 1"/>
                <p:cNvGrpSpPr/>
                <p:nvPr/>
              </p:nvGrpSpPr>
              <p:grpSpPr>
                <a:xfrm>
                  <a:off x="3733560" y="2747160"/>
                  <a:ext cx="1676160" cy="2250360"/>
                  <a:chOff x="3733560" y="2747160"/>
                  <a:chExt cx="1676160" cy="2250360"/>
                </a:xfrm>
              </p:grpSpPr>
              <p:grpSp>
                <p:nvGrpSpPr>
                  <p:cNvPr id="126" name="Skupina 3"/>
                  <p:cNvGrpSpPr/>
                  <p:nvPr/>
                </p:nvGrpSpPr>
                <p:grpSpPr>
                  <a:xfrm>
                    <a:off x="3733560" y="2747160"/>
                    <a:ext cx="1676160" cy="2250360"/>
                    <a:chOff x="3733560" y="2747160"/>
                    <a:chExt cx="1676160" cy="2250360"/>
                  </a:xfrm>
                </p:grpSpPr>
                <p:sp>
                  <p:nvSpPr>
                    <p:cNvPr id="127" name="Elipsa 6"/>
                    <p:cNvSpPr/>
                    <p:nvPr/>
                  </p:nvSpPr>
                  <p:spPr>
                    <a:xfrm>
                      <a:off x="4190760" y="3216960"/>
                      <a:ext cx="1218960" cy="12700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Přímá spojovací čára 7"/>
                    <p:cNvSpPr/>
                    <p:nvPr/>
                  </p:nvSpPr>
                  <p:spPr>
                    <a:xfrm>
                      <a:off x="4495320" y="3534480"/>
                      <a:ext cx="0" cy="63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Přímá spojovací čára 8"/>
                    <p:cNvSpPr/>
                    <p:nvPr/>
                  </p:nvSpPr>
                  <p:spPr>
                    <a:xfrm flipV="1">
                      <a:off x="4495320" y="3402720"/>
                      <a:ext cx="735840" cy="448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Přímá spojovací čára 9"/>
                    <p:cNvSpPr/>
                    <p:nvPr/>
                  </p:nvSpPr>
                  <p:spPr>
                    <a:xfrm>
                      <a:off x="4495320" y="3852000"/>
                      <a:ext cx="735840" cy="448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Přímá spojovací čára 10"/>
                    <p:cNvSpPr/>
                    <p:nvPr/>
                  </p:nvSpPr>
                  <p:spPr>
                    <a:xfrm flipH="1">
                      <a:off x="4190760" y="385200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Přímá spojovací čára 11"/>
                    <p:cNvSpPr/>
                    <p:nvPr/>
                  </p:nvSpPr>
                  <p:spPr>
                    <a:xfrm>
                      <a:off x="5231160" y="2747160"/>
                      <a:ext cx="0" cy="655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Přímá spojovací čára 12"/>
                    <p:cNvSpPr/>
                    <p:nvPr/>
                  </p:nvSpPr>
                  <p:spPr>
                    <a:xfrm>
                      <a:off x="5231160" y="4301280"/>
                      <a:ext cx="0" cy="696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Přímá spojovací čára 13"/>
                    <p:cNvSpPr/>
                    <p:nvPr/>
                  </p:nvSpPr>
                  <p:spPr>
                    <a:xfrm flipH="1">
                      <a:off x="3733560" y="3852000"/>
                      <a:ext cx="457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" name="TextovéPole 3"/>
                  <p:cNvSpPr/>
                  <p:nvPr/>
                </p:nvSpPr>
                <p:spPr>
                  <a:xfrm>
                    <a:off x="3885840" y="335664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ovéPole 4"/>
                  <p:cNvSpPr/>
                  <p:nvPr/>
                </p:nvSpPr>
                <p:spPr>
                  <a:xfrm>
                    <a:off x="4800240" y="274716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TextovéPole 5"/>
                  <p:cNvSpPr/>
                  <p:nvPr/>
                </p:nvSpPr>
                <p:spPr>
                  <a:xfrm>
                    <a:off x="4800240" y="442368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Skupina 28"/>
                <p:cNvGrpSpPr/>
                <p:nvPr/>
              </p:nvGrpSpPr>
              <p:grpSpPr>
                <a:xfrm>
                  <a:off x="1981080" y="2330280"/>
                  <a:ext cx="5257800" cy="2971800"/>
                  <a:chOff x="1981080" y="2330280"/>
                  <a:chExt cx="5257800" cy="2971800"/>
                </a:xfrm>
              </p:grpSpPr>
              <p:sp>
                <p:nvSpPr>
                  <p:cNvPr id="139" name="Obdélník 14"/>
                  <p:cNvSpPr/>
                  <p:nvPr/>
                </p:nvSpPr>
                <p:spPr>
                  <a:xfrm>
                    <a:off x="3200040" y="2330280"/>
                    <a:ext cx="2819520" cy="297180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0" name="Skupina 18"/>
                  <p:cNvGrpSpPr/>
                  <p:nvPr/>
                </p:nvGrpSpPr>
                <p:grpSpPr>
                  <a:xfrm>
                    <a:off x="1981080" y="2670840"/>
                    <a:ext cx="1294920" cy="152280"/>
                    <a:chOff x="1981080" y="2670840"/>
                    <a:chExt cx="1294920" cy="152280"/>
                  </a:xfrm>
                </p:grpSpPr>
                <p:sp>
                  <p:nvSpPr>
                    <p:cNvPr id="141" name="Přímá spojovací čára 16"/>
                    <p:cNvSpPr/>
                    <p:nvPr/>
                  </p:nvSpPr>
                  <p:spPr>
                    <a:xfrm flipH="1">
                      <a:off x="2133000" y="2746800"/>
                      <a:ext cx="5331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Elipsa 17"/>
                    <p:cNvSpPr/>
                    <p:nvPr/>
                  </p:nvSpPr>
                  <p:spPr>
                    <a:xfrm>
                      <a:off x="1981080" y="2670840"/>
                      <a:ext cx="152280" cy="1522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Přímá spojovací čára 16"/>
                    <p:cNvSpPr/>
                    <p:nvPr/>
                  </p:nvSpPr>
                  <p:spPr>
                    <a:xfrm flipH="1">
                      <a:off x="2742840" y="2746800"/>
                      <a:ext cx="5331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" name="Skupina 19"/>
                  <p:cNvGrpSpPr/>
                  <p:nvPr/>
                </p:nvGrpSpPr>
                <p:grpSpPr>
                  <a:xfrm>
                    <a:off x="1981080" y="4921200"/>
                    <a:ext cx="1218600" cy="152280"/>
                    <a:chOff x="1981080" y="4921200"/>
                    <a:chExt cx="1218600" cy="152280"/>
                  </a:xfrm>
                </p:grpSpPr>
                <p:sp>
                  <p:nvSpPr>
                    <p:cNvPr id="145" name="Přímá spojovací čára 20"/>
                    <p:cNvSpPr/>
                    <p:nvPr/>
                  </p:nvSpPr>
                  <p:spPr>
                    <a:xfrm flipH="1">
                      <a:off x="2133000" y="4997160"/>
                      <a:ext cx="1066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Elipsa 21"/>
                    <p:cNvSpPr/>
                    <p:nvPr/>
                  </p:nvSpPr>
                  <p:spPr>
                    <a:xfrm>
                      <a:off x="1981080" y="4921200"/>
                      <a:ext cx="152280" cy="1522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" name="Skupina 22"/>
                  <p:cNvGrpSpPr/>
                  <p:nvPr/>
                </p:nvGrpSpPr>
                <p:grpSpPr>
                  <a:xfrm>
                    <a:off x="5943960" y="2670480"/>
                    <a:ext cx="1294920" cy="152280"/>
                    <a:chOff x="5943960" y="2670480"/>
                    <a:chExt cx="1294920" cy="152280"/>
                  </a:xfrm>
                </p:grpSpPr>
                <p:sp>
                  <p:nvSpPr>
                    <p:cNvPr id="148" name="Přímá spojovací čára 23"/>
                    <p:cNvSpPr/>
                    <p:nvPr/>
                  </p:nvSpPr>
                  <p:spPr>
                    <a:xfrm>
                      <a:off x="6553800" y="2746800"/>
                      <a:ext cx="5331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Elipsa 24"/>
                    <p:cNvSpPr/>
                    <p:nvPr/>
                  </p:nvSpPr>
                  <p:spPr>
                    <a:xfrm rot="10800000">
                      <a:off x="7086600" y="2670480"/>
                      <a:ext cx="152280" cy="1522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Přímá spojovací čára 23"/>
                    <p:cNvSpPr/>
                    <p:nvPr/>
                  </p:nvSpPr>
                  <p:spPr>
                    <a:xfrm>
                      <a:off x="5943960" y="2746800"/>
                      <a:ext cx="5331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Skupina 25"/>
                  <p:cNvGrpSpPr/>
                  <p:nvPr/>
                </p:nvGrpSpPr>
                <p:grpSpPr>
                  <a:xfrm>
                    <a:off x="6020280" y="4920840"/>
                    <a:ext cx="1218600" cy="152280"/>
                    <a:chOff x="6020280" y="4920840"/>
                    <a:chExt cx="1218600" cy="152280"/>
                  </a:xfrm>
                </p:grpSpPr>
                <p:sp>
                  <p:nvSpPr>
                    <p:cNvPr id="152" name="Přímá spojovací čára 26"/>
                    <p:cNvSpPr/>
                    <p:nvPr/>
                  </p:nvSpPr>
                  <p:spPr>
                    <a:xfrm>
                      <a:off x="6020280" y="4997160"/>
                      <a:ext cx="1066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Elipsa 27"/>
                    <p:cNvSpPr/>
                    <p:nvPr/>
                  </p:nvSpPr>
                  <p:spPr>
                    <a:xfrm rot="10800000">
                      <a:off x="7086600" y="4920840"/>
                      <a:ext cx="152280" cy="1522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4" name="Přímá spojovací čára 30"/>
                <p:cNvSpPr/>
                <p:nvPr/>
              </p:nvSpPr>
              <p:spPr>
                <a:xfrm>
                  <a:off x="3200040" y="4997520"/>
                  <a:ext cx="281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Přímá spojovací čára 32"/>
                <p:cNvSpPr/>
                <p:nvPr/>
              </p:nvSpPr>
              <p:spPr>
                <a:xfrm flipH="1">
                  <a:off x="5231160" y="2747160"/>
                  <a:ext cx="788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Přímá spojovací čára 39"/>
                <p:cNvSpPr/>
                <p:nvPr/>
              </p:nvSpPr>
              <p:spPr>
                <a:xfrm flipV="1">
                  <a:off x="3733560" y="2746800"/>
                  <a:ext cx="0" cy="110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Přímá spojovací čára 41"/>
                <p:cNvSpPr/>
                <p:nvPr/>
              </p:nvSpPr>
              <p:spPr>
                <a:xfrm flipH="1">
                  <a:off x="3047400" y="27471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Elipsa 42"/>
                <p:cNvSpPr/>
                <p:nvPr/>
              </p:nvSpPr>
              <p:spPr>
                <a:xfrm>
                  <a:off x="5155200" y="48852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59" name="Přímá spojovací šipka 82"/>
              <p:cNvCxnSpPr/>
              <p:nvPr/>
            </p:nvCxnSpPr>
            <p:spPr>
              <a:xfrm>
                <a:off x="7238880" y="2916720"/>
                <a:ext cx="1080" cy="1969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0" name="Přímá spojovací šipka 83"/>
              <p:cNvCxnSpPr/>
              <p:nvPr/>
            </p:nvCxnSpPr>
            <p:spPr>
              <a:xfrm>
                <a:off x="1980720" y="2916720"/>
                <a:ext cx="1080" cy="1969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61" name="TextovéPole 89"/>
              <p:cNvSpPr/>
              <p:nvPr/>
            </p:nvSpPr>
            <p:spPr>
              <a:xfrm>
                <a:off x="1371600" y="358740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ovéPole 90"/>
              <p:cNvSpPr/>
              <p:nvPr/>
            </p:nvSpPr>
            <p:spPr>
              <a:xfrm>
                <a:off x="7239240" y="358740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Skupina 62"/>
            <p:cNvGrpSpPr/>
            <p:nvPr/>
          </p:nvGrpSpPr>
          <p:grpSpPr>
            <a:xfrm>
              <a:off x="4419720" y="1676520"/>
              <a:ext cx="1600200" cy="3962160"/>
              <a:chOff x="4419720" y="1676520"/>
              <a:chExt cx="1600200" cy="3962160"/>
            </a:xfrm>
          </p:grpSpPr>
          <p:sp>
            <p:nvSpPr>
              <p:cNvPr id="164" name="Přímá spojovací čára 65"/>
              <p:cNvSpPr/>
              <p:nvPr/>
            </p:nvSpPr>
            <p:spPr>
              <a:xfrm>
                <a:off x="4572000" y="198108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Elipsa 24"/>
              <p:cNvSpPr/>
              <p:nvPr/>
            </p:nvSpPr>
            <p:spPr>
              <a:xfrm rot="10800000">
                <a:off x="4495320" y="18284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Skupina 96"/>
              <p:cNvGrpSpPr/>
              <p:nvPr/>
            </p:nvGrpSpPr>
            <p:grpSpPr>
              <a:xfrm>
                <a:off x="4419720" y="5334120"/>
                <a:ext cx="304560" cy="304560"/>
                <a:chOff x="4419720" y="5334120"/>
                <a:chExt cx="304560" cy="304560"/>
              </a:xfrm>
            </p:grpSpPr>
            <p:sp>
              <p:nvSpPr>
                <p:cNvPr id="167" name="Přímá spojovací čára 74"/>
                <p:cNvSpPr/>
                <p:nvPr/>
              </p:nvSpPr>
              <p:spPr>
                <a:xfrm>
                  <a:off x="4572000" y="53341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Přímá spojovací čára 94"/>
                <p:cNvSpPr/>
                <p:nvPr/>
              </p:nvSpPr>
              <p:spPr>
                <a:xfrm>
                  <a:off x="4419720" y="56386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ovéPole 95"/>
              <p:cNvSpPr/>
              <p:nvPr/>
            </p:nvSpPr>
            <p:spPr>
              <a:xfrm>
                <a:off x="4648320" y="1676520"/>
                <a:ext cx="137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+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Skupina 63"/>
            <p:cNvGrpSpPr/>
            <p:nvPr/>
          </p:nvGrpSpPr>
          <p:grpSpPr>
            <a:xfrm>
              <a:off x="4494960" y="4923720"/>
              <a:ext cx="152280" cy="410040"/>
              <a:chOff x="4494960" y="4923720"/>
              <a:chExt cx="152280" cy="410040"/>
            </a:xfrm>
          </p:grpSpPr>
          <p:sp>
            <p:nvSpPr>
              <p:cNvPr id="171" name="Přímá spojovací čára 108"/>
              <p:cNvSpPr/>
              <p:nvPr/>
            </p:nvSpPr>
            <p:spPr>
              <a:xfrm flipV="1">
                <a:off x="4572000" y="495252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Elipsa 42"/>
              <p:cNvSpPr/>
              <p:nvPr/>
            </p:nvSpPr>
            <p:spPr>
              <a:xfrm>
                <a:off x="4494960" y="4923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Přímá spojovací čára 61"/>
            <p:cNvSpPr/>
            <p:nvPr/>
          </p:nvSpPr>
          <p:spPr>
            <a:xfrm>
              <a:off x="6477120" y="2625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Přímá spojovací čára 62"/>
            <p:cNvSpPr/>
            <p:nvPr/>
          </p:nvSpPr>
          <p:spPr>
            <a:xfrm>
              <a:off x="6553440" y="2625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Přímá spojovací čára 63"/>
            <p:cNvSpPr/>
            <p:nvPr/>
          </p:nvSpPr>
          <p:spPr>
            <a:xfrm>
              <a:off x="2666880" y="2625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římá spojovací čára 64"/>
            <p:cNvSpPr/>
            <p:nvPr/>
          </p:nvSpPr>
          <p:spPr>
            <a:xfrm>
              <a:off x="2743200" y="2625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ovéPole 70"/>
            <p:cNvSpPr/>
            <p:nvPr/>
          </p:nvSpPr>
          <p:spPr>
            <a:xfrm>
              <a:off x="2361960" y="30067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ovéPole 71"/>
            <p:cNvSpPr/>
            <p:nvPr/>
          </p:nvSpPr>
          <p:spPr>
            <a:xfrm>
              <a:off x="6248520" y="30067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ovéPole 72"/>
          <p:cNvSpPr/>
          <p:nvPr/>
        </p:nvSpPr>
        <p:spPr>
          <a:xfrm>
            <a:off x="0" y="58672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ební kondenzátory C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V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C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V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e připojují proto, aby se napájecí napětí nedostalo na vstup a výst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ovéPole 2"/>
          <p:cNvSpPr/>
          <p:nvPr/>
        </p:nvSpPr>
        <p:spPr>
          <a:xfrm>
            <a:off x="457200" y="1219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loková schéma střídavého zesilovač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200480" cy="434340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5"/>
          <p:cNvSpPr/>
          <p:nvPr/>
        </p:nvSpPr>
        <p:spPr>
          <a:xfrm>
            <a:off x="5029200" y="28195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6"/>
          <p:cNvSpPr/>
          <p:nvPr/>
        </p:nvSpPr>
        <p:spPr>
          <a:xfrm>
            <a:off x="5029200" y="49528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ovéPole 7"/>
          <p:cNvSpPr/>
          <p:nvPr/>
        </p:nvSpPr>
        <p:spPr>
          <a:xfrm>
            <a:off x="3200400" y="28195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ovéPole 8"/>
          <p:cNvSpPr/>
          <p:nvPr/>
        </p:nvSpPr>
        <p:spPr>
          <a:xfrm>
            <a:off x="3200400" y="4876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76"/>
          <p:cNvSpPr/>
          <p:nvPr/>
        </p:nvSpPr>
        <p:spPr>
          <a:xfrm>
            <a:off x="3124080" y="43434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77"/>
          <p:cNvSpPr/>
          <p:nvPr/>
        </p:nvSpPr>
        <p:spPr>
          <a:xfrm>
            <a:off x="5257800" y="38098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ovéPole 78"/>
          <p:cNvSpPr/>
          <p:nvPr/>
        </p:nvSpPr>
        <p:spPr>
          <a:xfrm>
            <a:off x="304920" y="5904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 vytvoření zesilovače z můstkově stabilizovaného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- ROZDĚL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ovéPole 2"/>
          <p:cNvSpPr/>
          <p:nvPr/>
        </p:nvSpPr>
        <p:spPr>
          <a:xfrm>
            <a:off x="457200" y="12193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Podle frekvence zesilovaných signál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jnosměrné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ofrekven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ofrekven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ulsov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- ROZDĚL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2"/>
          <p:cNvSpPr/>
          <p:nvPr/>
        </p:nvSpPr>
        <p:spPr>
          <a:xfrm>
            <a:off x="457200" y="1219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Podle velikosti vstupního signál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zesilovač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onové zesilovač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Č - ROZDĚL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ovéPole 2"/>
          <p:cNvSpPr/>
          <p:nvPr/>
        </p:nvSpPr>
        <p:spPr>
          <a:xfrm>
            <a:off x="457200" y="1219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) Podle šířky přenášeného frekvenčního pás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kopásmové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irokopásmov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9T00:43:33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