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9F7-5ADC-4904-8827-32698017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9E1-14F8-4176-9D7F-BB353A2C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055-BDBA-4A3F-B4A2-F3F85E68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578-863D-4E78-97E2-6165B84C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C4F-545D-4ABF-9FDF-00691473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67F-C965-4DD7-BD2B-2D2C4EB8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113-1337-4F81-8E6F-9A49832A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21A-F3B8-42C3-8D8B-9CA9FA1F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C9B-FEFC-4E3C-8EB3-7B29DD93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2FE-B14B-4B41-A571-A0CFE151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E58-AA02-44D4-8C06-191DF254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EFA-1AC4-4295-878A-E550F0AF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BB69-483A-473B-89D8-040447B4D58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Statické  volt-ampérové charakteristiky bipolárního tranzis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řez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společný emitor, </a:t>
                      </a:r>
                      <a:br>
                        <a:rPr sz="1400"/>
                      </a:b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-ampérová charakterist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vysvětlení tvorby a významu volt-ampérových charakteristik tranzistoru v zapojení se společným emito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PLNÉ VOLT-AMPÉROVÉ CHARAKTERISTIKY TR.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380880" y="190512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ychom mohli popisovat chování tranzistor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zapojení se společným emitorem (zesilovače), potřebujeme umět sestrojit jeho úplní statické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lt-ampérové charakteristi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PLNÉ VOLT-AMPÉROVÉ CHARAKTERISTIKY TR.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380880" y="1905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připomenutí tranzistor v zapojení 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2"/>
          <p:cNvSpPr/>
          <p:nvPr/>
        </p:nvSpPr>
        <p:spPr>
          <a:xfrm>
            <a:off x="533520" y="5562720"/>
            <a:ext cx="3733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ní veličiny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Skupina 54"/>
          <p:cNvGrpSpPr/>
          <p:nvPr/>
        </p:nvGrpSpPr>
        <p:grpSpPr>
          <a:xfrm>
            <a:off x="1447920" y="2475000"/>
            <a:ext cx="6629400" cy="2863800"/>
            <a:chOff x="1447920" y="2475000"/>
            <a:chExt cx="6629400" cy="2863800"/>
          </a:xfrm>
        </p:grpSpPr>
        <p:grpSp>
          <p:nvGrpSpPr>
            <p:cNvPr id="52" name="Skupina 75"/>
            <p:cNvGrpSpPr/>
            <p:nvPr/>
          </p:nvGrpSpPr>
          <p:grpSpPr>
            <a:xfrm>
              <a:off x="2057400" y="2935800"/>
              <a:ext cx="5257800" cy="2403000"/>
              <a:chOff x="2057400" y="2935800"/>
              <a:chExt cx="5257800" cy="2403000"/>
            </a:xfrm>
          </p:grpSpPr>
          <p:grpSp>
            <p:nvGrpSpPr>
              <p:cNvPr id="53" name="Skupina 1"/>
              <p:cNvGrpSpPr/>
              <p:nvPr/>
            </p:nvGrpSpPr>
            <p:grpSpPr>
              <a:xfrm>
                <a:off x="3809880" y="3012120"/>
                <a:ext cx="1676160" cy="2250360"/>
                <a:chOff x="3809880" y="3012120"/>
                <a:chExt cx="1676160" cy="2250360"/>
              </a:xfrm>
            </p:grpSpPr>
            <p:grpSp>
              <p:nvGrpSpPr>
                <p:cNvPr id="54" name="Skupina 3"/>
                <p:cNvGrpSpPr/>
                <p:nvPr/>
              </p:nvGrpSpPr>
              <p:grpSpPr>
                <a:xfrm>
                  <a:off x="3809880" y="3012120"/>
                  <a:ext cx="1676160" cy="2250360"/>
                  <a:chOff x="3809880" y="3012120"/>
                  <a:chExt cx="1676160" cy="2250360"/>
                </a:xfrm>
              </p:grpSpPr>
              <p:sp>
                <p:nvSpPr>
                  <p:cNvPr id="55" name="Elipsa 6"/>
                  <p:cNvSpPr/>
                  <p:nvPr/>
                </p:nvSpPr>
                <p:spPr>
                  <a:xfrm>
                    <a:off x="4267080" y="3481920"/>
                    <a:ext cx="1218960" cy="127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Přímá spojovací čára 7"/>
                  <p:cNvSpPr/>
                  <p:nvPr/>
                </p:nvSpPr>
                <p:spPr>
                  <a:xfrm>
                    <a:off x="4571640" y="3799440"/>
                    <a:ext cx="0" cy="635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Přímá spojovací čára 8"/>
                  <p:cNvSpPr/>
                  <p:nvPr/>
                </p:nvSpPr>
                <p:spPr>
                  <a:xfrm flipV="1">
                    <a:off x="4571640" y="3667680"/>
                    <a:ext cx="735840" cy="44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Přímá spojovací čára 9"/>
                  <p:cNvSpPr/>
                  <p:nvPr/>
                </p:nvSpPr>
                <p:spPr>
                  <a:xfrm>
                    <a:off x="4571640" y="4116960"/>
                    <a:ext cx="735840" cy="44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Přímá spojovací čára 10"/>
                  <p:cNvSpPr/>
                  <p:nvPr/>
                </p:nvSpPr>
                <p:spPr>
                  <a:xfrm flipH="1">
                    <a:off x="4267080" y="411696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Přímá spojovací čára 11"/>
                  <p:cNvSpPr/>
                  <p:nvPr/>
                </p:nvSpPr>
                <p:spPr>
                  <a:xfrm>
                    <a:off x="5307480" y="3012120"/>
                    <a:ext cx="0" cy="65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Přímá spojovací čára 12"/>
                  <p:cNvSpPr/>
                  <p:nvPr/>
                </p:nvSpPr>
                <p:spPr>
                  <a:xfrm>
                    <a:off x="5307480" y="4566240"/>
                    <a:ext cx="0" cy="696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Přímá spojovací čára 13"/>
                  <p:cNvSpPr/>
                  <p:nvPr/>
                </p:nvSpPr>
                <p:spPr>
                  <a:xfrm flipH="1">
                    <a:off x="3809880" y="411696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" name="TextovéPole 3"/>
                <p:cNvSpPr/>
                <p:nvPr/>
              </p:nvSpPr>
              <p:spPr>
                <a:xfrm>
                  <a:off x="3962160" y="36216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TextovéPole 4"/>
                <p:cNvSpPr/>
                <p:nvPr/>
              </p:nvSpPr>
              <p:spPr>
                <a:xfrm>
                  <a:off x="4876560" y="30121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extovéPole 5"/>
                <p:cNvSpPr/>
                <p:nvPr/>
              </p:nvSpPr>
              <p:spPr>
                <a:xfrm>
                  <a:off x="4876560" y="468864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Skupina 28"/>
              <p:cNvGrpSpPr/>
              <p:nvPr/>
            </p:nvGrpSpPr>
            <p:grpSpPr>
              <a:xfrm>
                <a:off x="2057400" y="2935800"/>
                <a:ext cx="5257800" cy="2403000"/>
                <a:chOff x="2057400" y="2935800"/>
                <a:chExt cx="5257800" cy="2403000"/>
              </a:xfrm>
            </p:grpSpPr>
            <p:grpSp>
              <p:nvGrpSpPr>
                <p:cNvPr id="67" name="Skupina 18"/>
                <p:cNvGrpSpPr/>
                <p:nvPr/>
              </p:nvGrpSpPr>
              <p:grpSpPr>
                <a:xfrm>
                  <a:off x="2057400" y="2936160"/>
                  <a:ext cx="1218600" cy="152280"/>
                  <a:chOff x="2057400" y="2936160"/>
                  <a:chExt cx="1218600" cy="152280"/>
                </a:xfrm>
              </p:grpSpPr>
              <p:sp>
                <p:nvSpPr>
                  <p:cNvPr id="68" name="Přímá spojovací čára 49"/>
                  <p:cNvSpPr/>
                  <p:nvPr/>
                </p:nvSpPr>
                <p:spPr>
                  <a:xfrm flipH="1">
                    <a:off x="2209320" y="301212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Elipsa 50"/>
                  <p:cNvSpPr/>
                  <p:nvPr/>
                </p:nvSpPr>
                <p:spPr>
                  <a:xfrm>
                    <a:off x="2057400" y="293616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Skupina 19"/>
                <p:cNvGrpSpPr/>
                <p:nvPr/>
              </p:nvGrpSpPr>
              <p:grpSpPr>
                <a:xfrm>
                  <a:off x="2057400" y="5186520"/>
                  <a:ext cx="1218600" cy="152280"/>
                  <a:chOff x="2057400" y="5186520"/>
                  <a:chExt cx="1218600" cy="152280"/>
                </a:xfrm>
              </p:grpSpPr>
              <p:sp>
                <p:nvSpPr>
                  <p:cNvPr id="71" name="Přímá spojovací čára 47"/>
                  <p:cNvSpPr/>
                  <p:nvPr/>
                </p:nvSpPr>
                <p:spPr>
                  <a:xfrm flipH="1">
                    <a:off x="2209320" y="526248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Elipsa 21"/>
                  <p:cNvSpPr/>
                  <p:nvPr/>
                </p:nvSpPr>
                <p:spPr>
                  <a:xfrm>
                    <a:off x="2057400" y="518652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Skupina 22"/>
                <p:cNvGrpSpPr/>
                <p:nvPr/>
              </p:nvGrpSpPr>
              <p:grpSpPr>
                <a:xfrm>
                  <a:off x="6096600" y="2935800"/>
                  <a:ext cx="1218600" cy="152280"/>
                  <a:chOff x="6096600" y="2935800"/>
                  <a:chExt cx="1218600" cy="152280"/>
                </a:xfrm>
              </p:grpSpPr>
              <p:sp>
                <p:nvSpPr>
                  <p:cNvPr id="74" name="Přímá spojovací čára 23"/>
                  <p:cNvSpPr/>
                  <p:nvPr/>
                </p:nvSpPr>
                <p:spPr>
                  <a:xfrm>
                    <a:off x="6096600" y="301212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Elipsa 24"/>
                  <p:cNvSpPr/>
                  <p:nvPr/>
                </p:nvSpPr>
                <p:spPr>
                  <a:xfrm rot="10800000">
                    <a:off x="7162920" y="293580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Skupina 25"/>
                <p:cNvGrpSpPr/>
                <p:nvPr/>
              </p:nvGrpSpPr>
              <p:grpSpPr>
                <a:xfrm>
                  <a:off x="6096600" y="5186160"/>
                  <a:ext cx="1218600" cy="152280"/>
                  <a:chOff x="6096600" y="5186160"/>
                  <a:chExt cx="1218600" cy="152280"/>
                </a:xfrm>
              </p:grpSpPr>
              <p:sp>
                <p:nvSpPr>
                  <p:cNvPr id="77" name="Přímá spojovací čára 43"/>
                  <p:cNvSpPr/>
                  <p:nvPr/>
                </p:nvSpPr>
                <p:spPr>
                  <a:xfrm>
                    <a:off x="6096600" y="526248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Elipsa 44"/>
                  <p:cNvSpPr/>
                  <p:nvPr/>
                </p:nvSpPr>
                <p:spPr>
                  <a:xfrm rot="10800000">
                    <a:off x="7162920" y="518616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" name="Přímá spojovací čára 33"/>
              <p:cNvSpPr/>
              <p:nvPr/>
            </p:nvSpPr>
            <p:spPr>
              <a:xfrm>
                <a:off x="3276360" y="5262840"/>
                <a:ext cx="281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Přímá spojovací čára 34"/>
              <p:cNvSpPr/>
              <p:nvPr/>
            </p:nvSpPr>
            <p:spPr>
              <a:xfrm flipH="1">
                <a:off x="5307480" y="3012120"/>
                <a:ext cx="788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Přímá spojovací čára 35"/>
              <p:cNvSpPr/>
              <p:nvPr/>
            </p:nvSpPr>
            <p:spPr>
              <a:xfrm flipV="1">
                <a:off x="3809880" y="3011760"/>
                <a:ext cx="0" cy="110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Přímá spojovací čára 36"/>
              <p:cNvSpPr/>
              <p:nvPr/>
            </p:nvSpPr>
            <p:spPr>
              <a:xfrm flipH="1">
                <a:off x="3123720" y="30121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Elipsa 37"/>
              <p:cNvSpPr/>
              <p:nvPr/>
            </p:nvSpPr>
            <p:spPr>
              <a:xfrm>
                <a:off x="5231520" y="5150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Skupina 64"/>
            <p:cNvGrpSpPr/>
            <p:nvPr/>
          </p:nvGrpSpPr>
          <p:grpSpPr>
            <a:xfrm>
              <a:off x="5486040" y="4567320"/>
              <a:ext cx="609840" cy="584280"/>
              <a:chOff x="5486040" y="4567320"/>
              <a:chExt cx="609840" cy="584280"/>
            </a:xfrm>
          </p:grpSpPr>
          <p:cxnSp>
            <p:nvCxnSpPr>
              <p:cNvPr id="85" name="Přímá spojovací šipka 21"/>
              <p:cNvCxnSpPr/>
              <p:nvPr/>
            </p:nvCxnSpPr>
            <p:spPr>
              <a:xfrm>
                <a:off x="5486040" y="4567320"/>
                <a:ext cx="1080" cy="584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86" name="TextovéPole 26"/>
              <p:cNvSpPr/>
              <p:nvPr/>
            </p:nvSpPr>
            <p:spPr>
              <a:xfrm>
                <a:off x="5486400" y="45673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Skupina 67"/>
            <p:cNvGrpSpPr/>
            <p:nvPr/>
          </p:nvGrpSpPr>
          <p:grpSpPr>
            <a:xfrm>
              <a:off x="6324120" y="2475000"/>
              <a:ext cx="838800" cy="510120"/>
              <a:chOff x="6324120" y="2475000"/>
              <a:chExt cx="838800" cy="510120"/>
            </a:xfrm>
          </p:grpSpPr>
          <p:cxnSp>
            <p:nvCxnSpPr>
              <p:cNvPr id="88" name="Přímá spojovací šipka 23"/>
              <p:cNvCxnSpPr/>
              <p:nvPr/>
            </p:nvCxnSpPr>
            <p:spPr>
              <a:xfrm flipH="1">
                <a:off x="6324120" y="2936520"/>
                <a:ext cx="6102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89" name="TextovéPole 27"/>
              <p:cNvSpPr/>
              <p:nvPr/>
            </p:nvSpPr>
            <p:spPr>
              <a:xfrm>
                <a:off x="6553440" y="24750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Skupina 65"/>
            <p:cNvGrpSpPr/>
            <p:nvPr/>
          </p:nvGrpSpPr>
          <p:grpSpPr>
            <a:xfrm>
              <a:off x="2438280" y="2475000"/>
              <a:ext cx="609480" cy="510120"/>
              <a:chOff x="2438280" y="2475000"/>
              <a:chExt cx="609480" cy="510120"/>
            </a:xfrm>
          </p:grpSpPr>
          <p:cxnSp>
            <p:nvCxnSpPr>
              <p:cNvPr id="91" name="Přímá spojovací šipka 22"/>
              <p:cNvCxnSpPr/>
              <p:nvPr/>
            </p:nvCxnSpPr>
            <p:spPr>
              <a:xfrm>
                <a:off x="2438280" y="2936520"/>
                <a:ext cx="5342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92" name="TextovéPole 28"/>
              <p:cNvSpPr/>
              <p:nvPr/>
            </p:nvSpPr>
            <p:spPr>
              <a:xfrm>
                <a:off x="2438280" y="24750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Skupina 66"/>
            <p:cNvGrpSpPr/>
            <p:nvPr/>
          </p:nvGrpSpPr>
          <p:grpSpPr>
            <a:xfrm>
              <a:off x="1447920" y="3182760"/>
              <a:ext cx="761760" cy="1968840"/>
              <a:chOff x="1447920" y="3182760"/>
              <a:chExt cx="761760" cy="1968840"/>
            </a:xfrm>
          </p:grpSpPr>
          <p:cxnSp>
            <p:nvCxnSpPr>
              <p:cNvPr id="94" name="Přímá spojovací šipka 25"/>
              <p:cNvCxnSpPr/>
              <p:nvPr/>
            </p:nvCxnSpPr>
            <p:spPr>
              <a:xfrm>
                <a:off x="2057040" y="3182760"/>
                <a:ext cx="1080" cy="1969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95" name="TextovéPole 29"/>
              <p:cNvSpPr/>
              <p:nvPr/>
            </p:nvSpPr>
            <p:spPr>
              <a:xfrm>
                <a:off x="1447920" y="385344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Skupina 68"/>
            <p:cNvGrpSpPr/>
            <p:nvPr/>
          </p:nvGrpSpPr>
          <p:grpSpPr>
            <a:xfrm>
              <a:off x="7315200" y="3182760"/>
              <a:ext cx="762120" cy="1968840"/>
              <a:chOff x="7315200" y="3182760"/>
              <a:chExt cx="762120" cy="1968840"/>
            </a:xfrm>
          </p:grpSpPr>
          <p:cxnSp>
            <p:nvCxnSpPr>
              <p:cNvPr id="97" name="Přímá spojovací šipka 24"/>
              <p:cNvCxnSpPr/>
              <p:nvPr/>
            </p:nvCxnSpPr>
            <p:spPr>
              <a:xfrm>
                <a:off x="7315200" y="3182760"/>
                <a:ext cx="1080" cy="1969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98" name="TextovéPole 30"/>
              <p:cNvSpPr/>
              <p:nvPr/>
            </p:nvSpPr>
            <p:spPr>
              <a:xfrm>
                <a:off x="7315560" y="385344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ovéPole 2"/>
          <p:cNvSpPr/>
          <p:nvPr/>
        </p:nvSpPr>
        <p:spPr>
          <a:xfrm>
            <a:off x="4952880" y="5562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 veličiny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2"/>
          <p:cNvSpPr/>
          <p:nvPr/>
        </p:nvSpPr>
        <p:spPr>
          <a:xfrm>
            <a:off x="4952880" y="5943600"/>
            <a:ext cx="373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PLNÉ V-A CHAR. TR.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římá spojovací čára 54"/>
          <p:cNvSpPr/>
          <p:nvPr/>
        </p:nvSpPr>
        <p:spPr>
          <a:xfrm>
            <a:off x="1143000" y="40384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55"/>
          <p:cNvSpPr/>
          <p:nvPr/>
        </p:nvSpPr>
        <p:spPr>
          <a:xfrm>
            <a:off x="4533840" y="13716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56"/>
          <p:cNvSpPr/>
          <p:nvPr/>
        </p:nvSpPr>
        <p:spPr>
          <a:xfrm>
            <a:off x="22860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k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57"/>
          <p:cNvSpPr/>
          <p:nvPr/>
        </p:nvSpPr>
        <p:spPr>
          <a:xfrm>
            <a:off x="79246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k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58"/>
          <p:cNvSpPr/>
          <p:nvPr/>
        </p:nvSpPr>
        <p:spPr>
          <a:xfrm>
            <a:off x="7924680" y="6292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k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59"/>
          <p:cNvSpPr/>
          <p:nvPr/>
        </p:nvSpPr>
        <p:spPr>
          <a:xfrm>
            <a:off x="228600" y="6292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k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60"/>
          <p:cNvSpPr/>
          <p:nvPr/>
        </p:nvSpPr>
        <p:spPr>
          <a:xfrm>
            <a:off x="5029200" y="1371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tupní ch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61"/>
          <p:cNvSpPr/>
          <p:nvPr/>
        </p:nvSpPr>
        <p:spPr>
          <a:xfrm>
            <a:off x="990720" y="1371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vodní ch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62"/>
          <p:cNvSpPr/>
          <p:nvPr/>
        </p:nvSpPr>
        <p:spPr>
          <a:xfrm>
            <a:off x="990720" y="62006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ní ch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63"/>
          <p:cNvSpPr/>
          <p:nvPr/>
        </p:nvSpPr>
        <p:spPr>
          <a:xfrm>
            <a:off x="4800600" y="62006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ětná převodní ch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64"/>
          <p:cNvSpPr/>
          <p:nvPr/>
        </p:nvSpPr>
        <p:spPr>
          <a:xfrm>
            <a:off x="4533840" y="13716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65"/>
          <p:cNvSpPr/>
          <p:nvPr/>
        </p:nvSpPr>
        <p:spPr>
          <a:xfrm>
            <a:off x="838080" y="380844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66"/>
          <p:cNvSpPr/>
          <p:nvPr/>
        </p:nvSpPr>
        <p:spPr>
          <a:xfrm>
            <a:off x="3886200" y="620064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67"/>
          <p:cNvSpPr/>
          <p:nvPr/>
        </p:nvSpPr>
        <p:spPr>
          <a:xfrm>
            <a:off x="7772400" y="4038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70"/>
          <p:cNvSpPr/>
          <p:nvPr/>
        </p:nvSpPr>
        <p:spPr>
          <a:xfrm>
            <a:off x="228600" y="4952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71"/>
          <p:cNvSpPr/>
          <p:nvPr/>
        </p:nvSpPr>
        <p:spPr>
          <a:xfrm>
            <a:off x="228600" y="259236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Skupina 106"/>
          <p:cNvGrpSpPr/>
          <p:nvPr/>
        </p:nvGrpSpPr>
        <p:grpSpPr>
          <a:xfrm>
            <a:off x="8229240" y="2362320"/>
            <a:ext cx="609840" cy="584280"/>
            <a:chOff x="8229240" y="2362320"/>
            <a:chExt cx="609840" cy="584280"/>
          </a:xfrm>
        </p:grpSpPr>
        <p:sp>
          <p:nvSpPr>
            <p:cNvPr id="119" name="TextovéPole 68"/>
            <p:cNvSpPr/>
            <p:nvPr/>
          </p:nvSpPr>
          <p:spPr>
            <a:xfrm>
              <a:off x="8229600" y="23623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Přímá spojovací šipka 72"/>
            <p:cNvCxnSpPr/>
            <p:nvPr/>
          </p:nvCxnSpPr>
          <p:spPr>
            <a:xfrm>
              <a:off x="8229240" y="2362320"/>
              <a:ext cx="1080" cy="584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121" name="Skupina 105"/>
          <p:cNvGrpSpPr/>
          <p:nvPr/>
        </p:nvGrpSpPr>
        <p:grpSpPr>
          <a:xfrm>
            <a:off x="8229240" y="4952520"/>
            <a:ext cx="609840" cy="584640"/>
            <a:chOff x="8229240" y="4952520"/>
            <a:chExt cx="609840" cy="584640"/>
          </a:xfrm>
        </p:grpSpPr>
        <p:sp>
          <p:nvSpPr>
            <p:cNvPr id="122" name="TextovéPole 69"/>
            <p:cNvSpPr/>
            <p:nvPr/>
          </p:nvSpPr>
          <p:spPr>
            <a:xfrm>
              <a:off x="8229600" y="49528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Přímá spojovací šipka 73"/>
            <p:cNvCxnSpPr/>
            <p:nvPr/>
          </p:nvCxnSpPr>
          <p:spPr>
            <a:xfrm>
              <a:off x="8229240" y="4952520"/>
              <a:ext cx="1080" cy="585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4" name="Skupina 74"/>
          <p:cNvGrpSpPr/>
          <p:nvPr/>
        </p:nvGrpSpPr>
        <p:grpSpPr>
          <a:xfrm>
            <a:off x="4527720" y="1866960"/>
            <a:ext cx="3016080" cy="2165400"/>
            <a:chOff x="4527720" y="1866960"/>
            <a:chExt cx="3016080" cy="2165400"/>
          </a:xfrm>
        </p:grpSpPr>
        <p:sp>
          <p:nvSpPr>
            <p:cNvPr id="125" name="Volný tvar 75"/>
            <p:cNvSpPr/>
            <p:nvPr/>
          </p:nvSpPr>
          <p:spPr>
            <a:xfrm>
              <a:off x="4527720" y="1866960"/>
              <a:ext cx="1257120" cy="2165400"/>
            </a:xfrm>
            <a:custGeom>
              <a:avLst/>
              <a:gdLst/>
              <a:ahLst/>
              <a:rect l="l" t="t" r="r" b="b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  <a:lnTo>
                    <a:pt x="125730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římá spojovací čára 76"/>
            <p:cNvSpPr/>
            <p:nvPr/>
          </p:nvSpPr>
          <p:spPr>
            <a:xfrm>
              <a:off x="5784840" y="1866960"/>
              <a:ext cx="175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Skupina 77"/>
          <p:cNvGrpSpPr/>
          <p:nvPr/>
        </p:nvGrpSpPr>
        <p:grpSpPr>
          <a:xfrm>
            <a:off x="4533840" y="2743200"/>
            <a:ext cx="3009960" cy="1285920"/>
            <a:chOff x="4533840" y="2743200"/>
            <a:chExt cx="3009960" cy="1285920"/>
          </a:xfrm>
        </p:grpSpPr>
        <p:sp>
          <p:nvSpPr>
            <p:cNvPr id="128" name="Volný tvar 78"/>
            <p:cNvSpPr/>
            <p:nvPr/>
          </p:nvSpPr>
          <p:spPr>
            <a:xfrm>
              <a:off x="4533840" y="2743200"/>
              <a:ext cx="1254600" cy="1285920"/>
            </a:xfrm>
            <a:custGeom>
              <a:avLst/>
              <a:gdLst/>
              <a:ahLst/>
              <a:rect l="l" t="t" r="r" b="b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  <a:lnTo>
                    <a:pt x="125730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Přímá spojovací čára 79"/>
            <p:cNvSpPr/>
            <p:nvPr/>
          </p:nvSpPr>
          <p:spPr>
            <a:xfrm>
              <a:off x="5788440" y="2743200"/>
              <a:ext cx="175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Skupina 80"/>
          <p:cNvGrpSpPr/>
          <p:nvPr/>
        </p:nvGrpSpPr>
        <p:grpSpPr>
          <a:xfrm>
            <a:off x="4527720" y="2438280"/>
            <a:ext cx="3022560" cy="1600200"/>
            <a:chOff x="4527720" y="2438280"/>
            <a:chExt cx="3022560" cy="1600200"/>
          </a:xfrm>
        </p:grpSpPr>
        <p:sp>
          <p:nvSpPr>
            <p:cNvPr id="131" name="Volný tvar 81"/>
            <p:cNvSpPr/>
            <p:nvPr/>
          </p:nvSpPr>
          <p:spPr>
            <a:xfrm>
              <a:off x="4527720" y="2438280"/>
              <a:ext cx="1260000" cy="1600200"/>
            </a:xfrm>
            <a:custGeom>
              <a:avLst/>
              <a:gdLst/>
              <a:ahLst/>
              <a:rect l="l" t="t" r="r" b="b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  <a:lnTo>
                    <a:pt x="125730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Přímá spojovací čára 82"/>
            <p:cNvSpPr/>
            <p:nvPr/>
          </p:nvSpPr>
          <p:spPr>
            <a:xfrm>
              <a:off x="5787720" y="2438280"/>
              <a:ext cx="176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Skupina 83"/>
          <p:cNvGrpSpPr/>
          <p:nvPr/>
        </p:nvGrpSpPr>
        <p:grpSpPr>
          <a:xfrm>
            <a:off x="4533840" y="2133720"/>
            <a:ext cx="3009960" cy="1904760"/>
            <a:chOff x="4533840" y="2133720"/>
            <a:chExt cx="3009960" cy="1904760"/>
          </a:xfrm>
        </p:grpSpPr>
        <p:sp>
          <p:nvSpPr>
            <p:cNvPr id="134" name="Volný tvar 84"/>
            <p:cNvSpPr/>
            <p:nvPr/>
          </p:nvSpPr>
          <p:spPr>
            <a:xfrm>
              <a:off x="4533840" y="2133720"/>
              <a:ext cx="1254600" cy="1904760"/>
            </a:xfrm>
            <a:custGeom>
              <a:avLst/>
              <a:gdLst/>
              <a:ahLst/>
              <a:rect l="l" t="t" r="r" b="b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  <a:lnTo>
                    <a:pt x="125730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římá spojovací čára 85"/>
            <p:cNvSpPr/>
            <p:nvPr/>
          </p:nvSpPr>
          <p:spPr>
            <a:xfrm>
              <a:off x="5788440" y="2133720"/>
              <a:ext cx="175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Skupina 86"/>
          <p:cNvGrpSpPr/>
          <p:nvPr/>
        </p:nvGrpSpPr>
        <p:grpSpPr>
          <a:xfrm>
            <a:off x="4533840" y="3808440"/>
            <a:ext cx="3016440" cy="190440"/>
            <a:chOff x="4533840" y="3808440"/>
            <a:chExt cx="3016440" cy="190440"/>
          </a:xfrm>
        </p:grpSpPr>
        <p:sp>
          <p:nvSpPr>
            <p:cNvPr id="137" name="Volný tvar 87"/>
            <p:cNvSpPr/>
            <p:nvPr/>
          </p:nvSpPr>
          <p:spPr>
            <a:xfrm>
              <a:off x="4533840" y="3808440"/>
              <a:ext cx="1257480" cy="190440"/>
            </a:xfrm>
            <a:custGeom>
              <a:avLst/>
              <a:gdLst/>
              <a:ahLst/>
              <a:rect l="l" t="t" r="r" b="b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  <a:lnTo>
                    <a:pt x="125730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Přímá spojovací čára 88"/>
            <p:cNvSpPr/>
            <p:nvPr/>
          </p:nvSpPr>
          <p:spPr>
            <a:xfrm>
              <a:off x="5791320" y="3808440"/>
              <a:ext cx="175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Skupina 89"/>
          <p:cNvGrpSpPr/>
          <p:nvPr/>
        </p:nvGrpSpPr>
        <p:grpSpPr>
          <a:xfrm>
            <a:off x="4533840" y="3429000"/>
            <a:ext cx="3016440" cy="609480"/>
            <a:chOff x="4533840" y="3429000"/>
            <a:chExt cx="3016440" cy="609480"/>
          </a:xfrm>
        </p:grpSpPr>
        <p:sp>
          <p:nvSpPr>
            <p:cNvPr id="140" name="Volný tvar 90"/>
            <p:cNvSpPr/>
            <p:nvPr/>
          </p:nvSpPr>
          <p:spPr>
            <a:xfrm>
              <a:off x="4533840" y="3429000"/>
              <a:ext cx="1257480" cy="609480"/>
            </a:xfrm>
            <a:custGeom>
              <a:avLst/>
              <a:gdLst/>
              <a:ahLst/>
              <a:rect l="l" t="t" r="r" b="b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  <a:lnTo>
                    <a:pt x="125730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římá spojovací čára 91"/>
            <p:cNvSpPr/>
            <p:nvPr/>
          </p:nvSpPr>
          <p:spPr>
            <a:xfrm>
              <a:off x="5791320" y="3429000"/>
              <a:ext cx="175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Skupina 92"/>
          <p:cNvGrpSpPr/>
          <p:nvPr/>
        </p:nvGrpSpPr>
        <p:grpSpPr>
          <a:xfrm>
            <a:off x="4533840" y="3054240"/>
            <a:ext cx="3009960" cy="984240"/>
            <a:chOff x="4533840" y="3054240"/>
            <a:chExt cx="3009960" cy="984240"/>
          </a:xfrm>
        </p:grpSpPr>
        <p:sp>
          <p:nvSpPr>
            <p:cNvPr id="143" name="Volný tvar 93"/>
            <p:cNvSpPr/>
            <p:nvPr/>
          </p:nvSpPr>
          <p:spPr>
            <a:xfrm>
              <a:off x="4533840" y="3054240"/>
              <a:ext cx="1254600" cy="984240"/>
            </a:xfrm>
            <a:custGeom>
              <a:avLst/>
              <a:gdLst/>
              <a:ahLst/>
              <a:rect l="l" t="t" r="r" b="b"/>
              <a:pathLst>
                <a:path w="1257300" h="2165350">
                  <a:moveTo>
                    <a:pt x="0" y="2165350"/>
                  </a:moveTo>
                  <a:cubicBezTo>
                    <a:pt x="57150" y="1453621"/>
                    <a:pt x="114300" y="741892"/>
                    <a:pt x="323850" y="381000"/>
                  </a:cubicBezTo>
                  <a:cubicBezTo>
                    <a:pt x="533400" y="20108"/>
                    <a:pt x="1257300" y="0"/>
                    <a:pt x="1257300" y="0"/>
                  </a:cubicBezTo>
                  <a:lnTo>
                    <a:pt x="125730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římá spojovací čára 94"/>
            <p:cNvSpPr/>
            <p:nvPr/>
          </p:nvSpPr>
          <p:spPr>
            <a:xfrm>
              <a:off x="5788440" y="3054240"/>
              <a:ext cx="175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římá spojovací čára 95"/>
          <p:cNvSpPr/>
          <p:nvPr/>
        </p:nvSpPr>
        <p:spPr>
          <a:xfrm flipV="1">
            <a:off x="4800600" y="4457520"/>
            <a:ext cx="278136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římá spojovací čára 96"/>
          <p:cNvSpPr/>
          <p:nvPr/>
        </p:nvSpPr>
        <p:spPr>
          <a:xfrm flipV="1">
            <a:off x="4800600" y="4723920"/>
            <a:ext cx="278136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římá spojovací čára 97"/>
          <p:cNvSpPr/>
          <p:nvPr/>
        </p:nvSpPr>
        <p:spPr>
          <a:xfrm flipV="1">
            <a:off x="4800600" y="4952520"/>
            <a:ext cx="278136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římá spojovací čára 98"/>
          <p:cNvSpPr/>
          <p:nvPr/>
        </p:nvSpPr>
        <p:spPr>
          <a:xfrm flipV="1">
            <a:off x="4800600" y="5219280"/>
            <a:ext cx="278136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99"/>
          <p:cNvSpPr/>
          <p:nvPr/>
        </p:nvSpPr>
        <p:spPr>
          <a:xfrm flipV="1">
            <a:off x="4800600" y="5536800"/>
            <a:ext cx="278136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00"/>
          <p:cNvSpPr/>
          <p:nvPr/>
        </p:nvSpPr>
        <p:spPr>
          <a:xfrm flipV="1">
            <a:off x="4800600" y="5803560"/>
            <a:ext cx="278136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Volný tvar 101"/>
          <p:cNvSpPr/>
          <p:nvPr/>
        </p:nvSpPr>
        <p:spPr>
          <a:xfrm>
            <a:off x="1447920" y="4038480"/>
            <a:ext cx="3085920" cy="2197080"/>
          </a:xfrm>
          <a:custGeom>
            <a:avLst/>
            <a:gdLst/>
            <a:ahLst/>
            <a:rect l="l" t="t" r="r" b="b"/>
            <a:pathLst>
              <a:path w="2641600" h="2197100">
                <a:moveTo>
                  <a:pt x="2641600" y="0"/>
                </a:moveTo>
                <a:cubicBezTo>
                  <a:pt x="2334683" y="636058"/>
                  <a:pt x="2027767" y="1272117"/>
                  <a:pt x="1587500" y="1638300"/>
                </a:cubicBezTo>
                <a:cubicBezTo>
                  <a:pt x="1147233" y="2004483"/>
                  <a:pt x="529167" y="2180167"/>
                  <a:pt x="0" y="21971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02"/>
          <p:cNvSpPr/>
          <p:nvPr/>
        </p:nvSpPr>
        <p:spPr>
          <a:xfrm>
            <a:off x="2209680" y="1981080"/>
            <a:ext cx="2318040" cy="2044800"/>
          </a:xfrm>
          <a:custGeom>
            <a:avLst/>
            <a:gdLst/>
            <a:ahLst/>
            <a:rect l="l" t="t" r="r" b="b"/>
            <a:pathLst>
              <a:path w="2559050" h="2146300">
                <a:moveTo>
                  <a:pt x="2559050" y="2146300"/>
                </a:moveTo>
                <a:cubicBezTo>
                  <a:pt x="2242079" y="1537758"/>
                  <a:pt x="1925108" y="929217"/>
                  <a:pt x="1498600" y="571500"/>
                </a:cubicBezTo>
                <a:cubicBezTo>
                  <a:pt x="1072092" y="213783"/>
                  <a:pt x="306917" y="11430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03"/>
          <p:cNvSpPr/>
          <p:nvPr/>
        </p:nvSpPr>
        <p:spPr>
          <a:xfrm>
            <a:off x="1600200" y="2362320"/>
            <a:ext cx="2933640" cy="1676160"/>
          </a:xfrm>
          <a:custGeom>
            <a:avLst/>
            <a:gdLst/>
            <a:ahLst/>
            <a:rect l="l" t="t" r="r" b="b"/>
            <a:pathLst>
              <a:path w="2559050" h="2146300">
                <a:moveTo>
                  <a:pt x="2559050" y="2146300"/>
                </a:moveTo>
                <a:cubicBezTo>
                  <a:pt x="2242079" y="1537758"/>
                  <a:pt x="1925108" y="929217"/>
                  <a:pt x="1498600" y="571500"/>
                </a:cubicBezTo>
                <a:cubicBezTo>
                  <a:pt x="1072092" y="213783"/>
                  <a:pt x="306917" y="11430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Volný tvar 104"/>
          <p:cNvSpPr/>
          <p:nvPr/>
        </p:nvSpPr>
        <p:spPr>
          <a:xfrm>
            <a:off x="3048120" y="1892160"/>
            <a:ext cx="1485720" cy="2146320"/>
          </a:xfrm>
          <a:custGeom>
            <a:avLst/>
            <a:gdLst/>
            <a:ahLst/>
            <a:rect l="l" t="t" r="r" b="b"/>
            <a:pathLst>
              <a:path w="2559050" h="2146300">
                <a:moveTo>
                  <a:pt x="2559050" y="2146300"/>
                </a:moveTo>
                <a:cubicBezTo>
                  <a:pt x="2242079" y="1537758"/>
                  <a:pt x="1925108" y="929217"/>
                  <a:pt x="1498600" y="571500"/>
                </a:cubicBezTo>
                <a:cubicBezTo>
                  <a:pt x="1072092" y="213783"/>
                  <a:pt x="306917" y="11430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"/>
          <p:cNvSpPr/>
          <p:nvPr/>
        </p:nvSpPr>
        <p:spPr>
          <a:xfrm>
            <a:off x="304920" y="1447920"/>
            <a:ext cx="8534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č potřebujeme znát statické V-A char. tranzistor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ychom mohli popisovat chování tranzist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teré charakteristiky zobrazujeme v úplných V-A charakteristiká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n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vodn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ětné převod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ovéPole 2"/>
          <p:cNvSpPr/>
          <p:nvPr/>
        </p:nvSpPr>
        <p:spPr>
          <a:xfrm>
            <a:off x="457200" y="14479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má tranzistor nelineární volt-ampérové charakteristiky, potřebujeme pro popis chování tr. znát jejich průbě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úplných V-A charakteristikách, kreslíme do jednoho grafu: výstupní,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ní, převodní a zpětné převodní charakteristi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1371600"/>
            <a:ext cx="800100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anzistory. In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UČEBNÍ TEXTY PRO VÝUKU PŘEDMĚTU MIKROELEKTRONICKÉ SYSTÉM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[online]. [cit. 2014-3-20]. Dostupné z: http://352lab.vsb.cz/ServerFinalVer/Tonhauser/tr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5T20:41:0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