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C05-B43B-47D7-8F4B-942D9CA0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E6F-CF41-4B5B-8F3F-C04D277D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BA3-CF3B-4930-8151-2408420B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9A2-0008-467F-AFF0-0DD27D81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2F2-1B7C-4F8B-876D-166FB427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C3D-F52D-457D-A9F6-6125BE7A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5FC-DFC4-4126-B800-134E4637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5C5-A610-44B5-BD80-1ED0A7D4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3F0-DD03-4485-A5D2-AD402FF6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D99-7835-4E79-BBCC-9763FF00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ED3-1253-4073-BD2C-984E3F24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413-50A8-4BF0-9566-8330D549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D0BB-70CA-4866-9AC1-A2CFA08D86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Zesilovače třídy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rv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zesilovač, třída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399240"/>
            <a:ext cx="85341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zesilovače ve třídě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129528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to zesilovače jsou po většinu periody zavřeny (úhel otevření je &lt;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180°). Zesilují pouze špičku jedné půlper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48"/>
          <p:cNvSpPr/>
          <p:nvPr/>
        </p:nvSpPr>
        <p:spPr>
          <a:xfrm>
            <a:off x="3429000" y="4572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49"/>
          <p:cNvSpPr/>
          <p:nvPr/>
        </p:nvSpPr>
        <p:spPr>
          <a:xfrm>
            <a:off x="1752480" y="3124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50"/>
          <p:cNvSpPr/>
          <p:nvPr/>
        </p:nvSpPr>
        <p:spPr>
          <a:xfrm>
            <a:off x="5715000" y="3124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Skupina 51"/>
          <p:cNvGrpSpPr/>
          <p:nvPr/>
        </p:nvGrpSpPr>
        <p:grpSpPr>
          <a:xfrm>
            <a:off x="0" y="3962520"/>
            <a:ext cx="3048120" cy="1829160"/>
            <a:chOff x="0" y="3962520"/>
            <a:chExt cx="3048120" cy="1829160"/>
          </a:xfrm>
        </p:grpSpPr>
        <p:cxnSp>
          <p:nvCxnSpPr>
            <p:cNvPr id="52" name="Přímá spojovací šipka 52"/>
            <p:cNvCxnSpPr/>
            <p:nvPr/>
          </p:nvCxnSpPr>
          <p:spPr>
            <a:xfrm>
              <a:off x="151920" y="4876560"/>
              <a:ext cx="26679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3" name="Přímá spojovací šipka 53"/>
            <p:cNvCxnSpPr/>
            <p:nvPr/>
          </p:nvCxnSpPr>
          <p:spPr>
            <a:xfrm>
              <a:off x="456840" y="3962520"/>
              <a:ext cx="1080" cy="182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4" name="Volný tvar 54"/>
            <p:cNvSpPr/>
            <p:nvPr/>
          </p:nvSpPr>
          <p:spPr>
            <a:xfrm>
              <a:off x="457200" y="4004280"/>
              <a:ext cx="1905120" cy="174528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1745280"/>
                <a:gd name="textAreaBottom" fmla="*/ 1745640 h 1745280"/>
              </a:gdLst>
              <a:ahLst/>
              <a:rect l="textAreaLeft" t="textAreaTop" r="textAreaRight" b="textAreaBottom"/>
              <a:pathLst>
                <a:path w="939800" h="1012825">
                  <a:moveTo>
                    <a:pt x="0" y="525992"/>
                  </a:moveTo>
                  <a:cubicBezTo>
                    <a:pt x="94721" y="262996"/>
                    <a:pt x="189442" y="0"/>
                    <a:pt x="292100" y="68792"/>
                  </a:cubicBezTo>
                  <a:cubicBezTo>
                    <a:pt x="394758" y="137584"/>
                    <a:pt x="508000" y="864659"/>
                    <a:pt x="615950" y="938742"/>
                  </a:cubicBezTo>
                  <a:cubicBezTo>
                    <a:pt x="723900" y="1012825"/>
                    <a:pt x="886883" y="587375"/>
                    <a:pt x="939800" y="51329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ovéPole 55"/>
            <p:cNvSpPr/>
            <p:nvPr/>
          </p:nvSpPr>
          <p:spPr>
            <a:xfrm>
              <a:off x="2667240" y="5105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ovéPole 56"/>
            <p:cNvSpPr/>
            <p:nvPr/>
          </p:nvSpPr>
          <p:spPr>
            <a:xfrm>
              <a:off x="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Skupina 36"/>
          <p:cNvGrpSpPr/>
          <p:nvPr/>
        </p:nvGrpSpPr>
        <p:grpSpPr>
          <a:xfrm>
            <a:off x="6324480" y="2743200"/>
            <a:ext cx="3009960" cy="7075440"/>
            <a:chOff x="6324480" y="2743200"/>
            <a:chExt cx="3009960" cy="7075440"/>
          </a:xfrm>
        </p:grpSpPr>
        <p:sp>
          <p:nvSpPr>
            <p:cNvPr id="58" name="Volný tvar 43"/>
            <p:cNvSpPr/>
            <p:nvPr/>
          </p:nvSpPr>
          <p:spPr>
            <a:xfrm>
              <a:off x="6781680" y="2743200"/>
              <a:ext cx="1905120" cy="707544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075440"/>
                <a:gd name="textAreaBottom" fmla="*/ 7075800 h 7075440"/>
              </a:gdLst>
              <a:ahLst/>
              <a:rect l="textAreaLeft" t="textAreaTop" r="textAreaRight" b="textAreaBottom"/>
              <a:pathLst>
                <a:path w="939800" h="1012825">
                  <a:moveTo>
                    <a:pt x="0" y="525992"/>
                  </a:moveTo>
                  <a:cubicBezTo>
                    <a:pt x="94721" y="262996"/>
                    <a:pt x="189442" y="0"/>
                    <a:pt x="292100" y="68792"/>
                  </a:cubicBezTo>
                  <a:cubicBezTo>
                    <a:pt x="394758" y="137584"/>
                    <a:pt x="508000" y="864659"/>
                    <a:pt x="615950" y="938742"/>
                  </a:cubicBezTo>
                  <a:cubicBezTo>
                    <a:pt x="723900" y="1012825"/>
                    <a:pt x="886883" y="587375"/>
                    <a:pt x="939800" y="51329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ovéPole 44"/>
            <p:cNvSpPr/>
            <p:nvPr/>
          </p:nvSpPr>
          <p:spPr>
            <a:xfrm>
              <a:off x="8953560" y="513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ovéPole 45"/>
            <p:cNvSpPr/>
            <p:nvPr/>
          </p:nvSpPr>
          <p:spPr>
            <a:xfrm>
              <a:off x="6324480" y="399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bdélník 46"/>
            <p:cNvSpPr/>
            <p:nvPr/>
          </p:nvSpPr>
          <p:spPr>
            <a:xfrm>
              <a:off x="6476760" y="4911480"/>
              <a:ext cx="2362320" cy="22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Přímá spojovací šipka 47"/>
            <p:cNvCxnSpPr/>
            <p:nvPr/>
          </p:nvCxnSpPr>
          <p:spPr>
            <a:xfrm>
              <a:off x="6476400" y="4911120"/>
              <a:ext cx="26679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" name="Přímá spojovací šipka 51"/>
            <p:cNvCxnSpPr/>
            <p:nvPr/>
          </p:nvCxnSpPr>
          <p:spPr>
            <a:xfrm>
              <a:off x="6781320" y="3996720"/>
              <a:ext cx="1080" cy="182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64" name="Skupina 28"/>
          <p:cNvGrpSpPr/>
          <p:nvPr/>
        </p:nvGrpSpPr>
        <p:grpSpPr>
          <a:xfrm>
            <a:off x="1752480" y="3429000"/>
            <a:ext cx="5257800" cy="2971800"/>
            <a:chOff x="1752480" y="3429000"/>
            <a:chExt cx="5257800" cy="2971800"/>
          </a:xfrm>
        </p:grpSpPr>
        <p:sp>
          <p:nvSpPr>
            <p:cNvPr id="65" name="Obdélník 14"/>
            <p:cNvSpPr/>
            <p:nvPr/>
          </p:nvSpPr>
          <p:spPr>
            <a:xfrm>
              <a:off x="2971440" y="3429000"/>
              <a:ext cx="2819520" cy="2971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Skupina 18"/>
            <p:cNvGrpSpPr/>
            <p:nvPr/>
          </p:nvGrpSpPr>
          <p:grpSpPr>
            <a:xfrm>
              <a:off x="1752480" y="3769560"/>
              <a:ext cx="1218600" cy="152280"/>
              <a:chOff x="1752480" y="3769560"/>
              <a:chExt cx="1218600" cy="152280"/>
            </a:xfrm>
          </p:grpSpPr>
          <p:sp>
            <p:nvSpPr>
              <p:cNvPr id="67" name="Přímá spojovací čára 16"/>
              <p:cNvSpPr/>
              <p:nvPr/>
            </p:nvSpPr>
            <p:spPr>
              <a:xfrm flipH="1">
                <a:off x="1904400" y="38455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Elipsa 17"/>
              <p:cNvSpPr/>
              <p:nvPr/>
            </p:nvSpPr>
            <p:spPr>
              <a:xfrm>
                <a:off x="1752480" y="3769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Skupina 19"/>
            <p:cNvGrpSpPr/>
            <p:nvPr/>
          </p:nvGrpSpPr>
          <p:grpSpPr>
            <a:xfrm>
              <a:off x="1752480" y="6019920"/>
              <a:ext cx="1218600" cy="152280"/>
              <a:chOff x="1752480" y="6019920"/>
              <a:chExt cx="1218600" cy="152280"/>
            </a:xfrm>
          </p:grpSpPr>
          <p:sp>
            <p:nvSpPr>
              <p:cNvPr id="70" name="Přímá spojovací čára 20"/>
              <p:cNvSpPr/>
              <p:nvPr/>
            </p:nvSpPr>
            <p:spPr>
              <a:xfrm flipH="1">
                <a:off x="1904400" y="60958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Elipsa 21"/>
              <p:cNvSpPr/>
              <p:nvPr/>
            </p:nvSpPr>
            <p:spPr>
              <a:xfrm>
                <a:off x="1752480" y="6019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Skupina 22"/>
            <p:cNvGrpSpPr/>
            <p:nvPr/>
          </p:nvGrpSpPr>
          <p:grpSpPr>
            <a:xfrm>
              <a:off x="5791680" y="3769200"/>
              <a:ext cx="1218600" cy="152280"/>
              <a:chOff x="5791680" y="3769200"/>
              <a:chExt cx="1218600" cy="152280"/>
            </a:xfrm>
          </p:grpSpPr>
          <p:sp>
            <p:nvSpPr>
              <p:cNvPr id="73" name="Přímá spojovací čára 23"/>
              <p:cNvSpPr/>
              <p:nvPr/>
            </p:nvSpPr>
            <p:spPr>
              <a:xfrm>
                <a:off x="5791680" y="38455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Elipsa 24"/>
              <p:cNvSpPr/>
              <p:nvPr/>
            </p:nvSpPr>
            <p:spPr>
              <a:xfrm rot="10800000">
                <a:off x="6858000" y="37692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Skupina 25"/>
            <p:cNvGrpSpPr/>
            <p:nvPr/>
          </p:nvGrpSpPr>
          <p:grpSpPr>
            <a:xfrm>
              <a:off x="5791680" y="6019560"/>
              <a:ext cx="1218600" cy="152280"/>
              <a:chOff x="5791680" y="6019560"/>
              <a:chExt cx="1218600" cy="152280"/>
            </a:xfrm>
          </p:grpSpPr>
          <p:sp>
            <p:nvSpPr>
              <p:cNvPr id="76" name="Elipsa 27"/>
              <p:cNvSpPr/>
              <p:nvPr/>
            </p:nvSpPr>
            <p:spPr>
              <a:xfrm rot="10800000">
                <a:off x="6858000" y="6019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Přímá spojovací čára 26"/>
              <p:cNvSpPr/>
              <p:nvPr/>
            </p:nvSpPr>
            <p:spPr>
              <a:xfrm>
                <a:off x="5791680" y="60958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Skupina 121"/>
          <p:cNvGrpSpPr/>
          <p:nvPr/>
        </p:nvGrpSpPr>
        <p:grpSpPr>
          <a:xfrm>
            <a:off x="304920" y="-1905120"/>
            <a:ext cx="9440280" cy="8359200"/>
            <a:chOff x="304920" y="-1905120"/>
            <a:chExt cx="9440280" cy="8359200"/>
          </a:xfrm>
        </p:grpSpPr>
        <p:grpSp>
          <p:nvGrpSpPr>
            <p:cNvPr id="80" name="Skupina 109"/>
            <p:cNvGrpSpPr/>
            <p:nvPr/>
          </p:nvGrpSpPr>
          <p:grpSpPr>
            <a:xfrm>
              <a:off x="304920" y="-1905120"/>
              <a:ext cx="9440280" cy="8359200"/>
              <a:chOff x="304920" y="-1905120"/>
              <a:chExt cx="9440280" cy="8359200"/>
            </a:xfrm>
          </p:grpSpPr>
          <p:grpSp>
            <p:nvGrpSpPr>
              <p:cNvPr id="81" name="Skupina 44"/>
              <p:cNvGrpSpPr/>
              <p:nvPr/>
            </p:nvGrpSpPr>
            <p:grpSpPr>
              <a:xfrm>
                <a:off x="304920" y="-1905120"/>
                <a:ext cx="9440280" cy="8359200"/>
                <a:chOff x="304920" y="-1905120"/>
                <a:chExt cx="9440280" cy="8359200"/>
              </a:xfrm>
            </p:grpSpPr>
            <p:sp>
              <p:nvSpPr>
                <p:cNvPr id="82" name="Oblouk 2"/>
                <p:cNvSpPr/>
                <p:nvPr/>
              </p:nvSpPr>
              <p:spPr>
                <a:xfrm rot="10800000">
                  <a:off x="2835000" y="-1905120"/>
                  <a:ext cx="6910200" cy="6631200"/>
                </a:xfrm>
                <a:custGeom>
                  <a:avLst/>
                  <a:gdLst>
                    <a:gd name="textAreaLeft" fmla="*/ 3510000 w 6910200"/>
                    <a:gd name="textAreaRight" fmla="*/ 6763680 w 6910200"/>
                    <a:gd name="textAreaTop" fmla="*/ 360 h 6631200"/>
                    <a:gd name="textAreaBottom" fmla="*/ 2359080 h 6631200"/>
                  </a:gdLst>
                  <a:ahLst/>
                  <a:rect l="textAreaLeft" t="textAreaTop" r="textAreaRight" b="textAreaBottom"/>
                  <a:pathLst>
                    <a:path stroke="0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  <a:lnTo>
                        <a:pt x="3772008" y="3619376"/>
                      </a:lnTo>
                      <a:close/>
                    </a:path>
                    <a:path fill="none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Obdélník 42"/>
                <p:cNvSpPr/>
                <p:nvPr/>
              </p:nvSpPr>
              <p:spPr>
                <a:xfrm>
                  <a:off x="6186960" y="5493960"/>
                  <a:ext cx="279000" cy="62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Volný tvar 45"/>
                <p:cNvSpPr/>
                <p:nvPr/>
              </p:nvSpPr>
              <p:spPr>
                <a:xfrm>
                  <a:off x="1361880" y="1599840"/>
                  <a:ext cx="833040" cy="4392360"/>
                </a:xfrm>
                <a:custGeom>
                  <a:avLst/>
                  <a:gdLst>
                    <a:gd name="textAreaLeft" fmla="*/ 0 w 833040"/>
                    <a:gd name="textAreaRight" fmla="*/ 833400 w 833040"/>
                    <a:gd name="textAreaTop" fmla="*/ 0 h 4392360"/>
                    <a:gd name="textAreaBottom" fmla="*/ 4392720 h 4392360"/>
                  </a:gdLst>
                  <a:ahLst/>
                  <a:rect l="textAreaLeft" t="textAreaTop" r="textAreaRight" b="textAreaBottom"/>
                  <a:pathLst>
                    <a:path w="909710" h="4794738">
                      <a:moveTo>
                        <a:pt x="0" y="4761914"/>
                      </a:moveTo>
                      <a:cubicBezTo>
                        <a:pt x="158261" y="4778326"/>
                        <a:pt x="316522" y="4794738"/>
                        <a:pt x="464233" y="4072597"/>
                      </a:cubicBezTo>
                      <a:cubicBezTo>
                        <a:pt x="611944" y="3350456"/>
                        <a:pt x="909710" y="1038665"/>
                        <a:pt x="886264" y="429065"/>
                      </a:cubicBezTo>
                      <a:cubicBezTo>
                        <a:pt x="595532" y="438443"/>
                        <a:pt x="154744" y="0"/>
                        <a:pt x="14067" y="4572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Obdélník 46"/>
                <p:cNvSpPr/>
                <p:nvPr/>
              </p:nvSpPr>
              <p:spPr>
                <a:xfrm>
                  <a:off x="1091520" y="1724760"/>
                  <a:ext cx="1395720" cy="41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Přímá spojovací čára 48"/>
                <p:cNvSpPr/>
                <p:nvPr/>
              </p:nvSpPr>
              <p:spPr>
                <a:xfrm>
                  <a:off x="1380960" y="5954040"/>
                  <a:ext cx="55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Přímá spojovací čára 49"/>
                <p:cNvSpPr/>
                <p:nvPr/>
              </p:nvSpPr>
              <p:spPr>
                <a:xfrm>
                  <a:off x="1380960" y="1788840"/>
                  <a:ext cx="0" cy="416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ovéPole 50"/>
                <p:cNvSpPr/>
                <p:nvPr/>
              </p:nvSpPr>
              <p:spPr>
                <a:xfrm>
                  <a:off x="304920" y="1788840"/>
                  <a:ext cx="1606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m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Skupina 38"/>
                <p:cNvGrpSpPr/>
                <p:nvPr/>
              </p:nvGrpSpPr>
              <p:grpSpPr>
                <a:xfrm>
                  <a:off x="1370520" y="2562120"/>
                  <a:ext cx="4931640" cy="3381840"/>
                  <a:chOff x="1370520" y="2562120"/>
                  <a:chExt cx="4931640" cy="3381840"/>
                </a:xfrm>
              </p:grpSpPr>
              <p:sp>
                <p:nvSpPr>
                  <p:cNvPr id="90" name="Volný tvar 54"/>
                  <p:cNvSpPr/>
                  <p:nvPr/>
                </p:nvSpPr>
                <p:spPr>
                  <a:xfrm>
                    <a:off x="1370520" y="2562120"/>
                    <a:ext cx="2055600" cy="338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3381840"/>
                      <a:gd name="textAreaBottom" fmla="*/ 3382200 h 338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Přímá spojovací čára 55"/>
                  <p:cNvSpPr/>
                  <p:nvPr/>
                </p:nvSpPr>
                <p:spPr>
                  <a:xfrm>
                    <a:off x="3426120" y="256212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Skupina 39"/>
                <p:cNvGrpSpPr/>
                <p:nvPr/>
              </p:nvGrpSpPr>
              <p:grpSpPr>
                <a:xfrm>
                  <a:off x="1380960" y="3930840"/>
                  <a:ext cx="4921200" cy="2008080"/>
                  <a:chOff x="1380960" y="3930840"/>
                  <a:chExt cx="4921200" cy="2008080"/>
                </a:xfrm>
              </p:grpSpPr>
              <p:sp>
                <p:nvSpPr>
                  <p:cNvPr id="93" name="Volný tvar 57"/>
                  <p:cNvSpPr/>
                  <p:nvPr/>
                </p:nvSpPr>
                <p:spPr>
                  <a:xfrm>
                    <a:off x="1380960" y="3930840"/>
                    <a:ext cx="2051280" cy="2008080"/>
                  </a:xfrm>
                  <a:custGeom>
                    <a:avLst/>
                    <a:gdLst>
                      <a:gd name="textAreaLeft" fmla="*/ 0 w 2051280"/>
                      <a:gd name="textAreaRight" fmla="*/ 2051640 w 2051280"/>
                      <a:gd name="textAreaTop" fmla="*/ 0 h 2008080"/>
                      <a:gd name="textAreaBottom" fmla="*/ 2008440 h 20080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Přímá spojovací čára 58"/>
                  <p:cNvSpPr/>
                  <p:nvPr/>
                </p:nvSpPr>
                <p:spPr>
                  <a:xfrm>
                    <a:off x="3432240" y="393084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Skupina 42"/>
                <p:cNvGrpSpPr/>
                <p:nvPr/>
              </p:nvGrpSpPr>
              <p:grpSpPr>
                <a:xfrm>
                  <a:off x="1370520" y="3454920"/>
                  <a:ext cx="4942080" cy="2499120"/>
                  <a:chOff x="1370520" y="3454920"/>
                  <a:chExt cx="4942080" cy="2499120"/>
                </a:xfrm>
              </p:grpSpPr>
              <p:sp>
                <p:nvSpPr>
                  <p:cNvPr id="96" name="Volný tvar 60"/>
                  <p:cNvSpPr/>
                  <p:nvPr/>
                </p:nvSpPr>
                <p:spPr>
                  <a:xfrm>
                    <a:off x="1370520" y="3454920"/>
                    <a:ext cx="2059920" cy="2499120"/>
                  </a:xfrm>
                  <a:custGeom>
                    <a:avLst/>
                    <a:gdLst>
                      <a:gd name="textAreaLeft" fmla="*/ 0 w 2059920"/>
                      <a:gd name="textAreaRight" fmla="*/ 2060280 w 2059920"/>
                      <a:gd name="textAreaTop" fmla="*/ 0 h 2499120"/>
                      <a:gd name="textAreaBottom" fmla="*/ 2499480 h 24991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Přímá spojovací čára 61"/>
                  <p:cNvSpPr/>
                  <p:nvPr/>
                </p:nvSpPr>
                <p:spPr>
                  <a:xfrm>
                    <a:off x="3430440" y="3454920"/>
                    <a:ext cx="2882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Skupina 45"/>
                <p:cNvGrpSpPr/>
                <p:nvPr/>
              </p:nvGrpSpPr>
              <p:grpSpPr>
                <a:xfrm>
                  <a:off x="1380960" y="2978640"/>
                  <a:ext cx="4921200" cy="2975040"/>
                  <a:chOff x="1380960" y="2978640"/>
                  <a:chExt cx="4921200" cy="2975040"/>
                </a:xfrm>
              </p:grpSpPr>
              <p:sp>
                <p:nvSpPr>
                  <p:cNvPr id="99" name="Volný tvar 63"/>
                  <p:cNvSpPr/>
                  <p:nvPr/>
                </p:nvSpPr>
                <p:spPr>
                  <a:xfrm>
                    <a:off x="1380960" y="2978640"/>
                    <a:ext cx="2051280" cy="2975040"/>
                  </a:xfrm>
                  <a:custGeom>
                    <a:avLst/>
                    <a:gdLst>
                      <a:gd name="textAreaLeft" fmla="*/ 0 w 2051280"/>
                      <a:gd name="textAreaRight" fmla="*/ 2051640 w 2051280"/>
                      <a:gd name="textAreaTop" fmla="*/ 0 h 2975040"/>
                      <a:gd name="textAreaBottom" fmla="*/ 2975400 h 29750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Přímá spojovací čára 64"/>
                  <p:cNvSpPr/>
                  <p:nvPr/>
                </p:nvSpPr>
                <p:spPr>
                  <a:xfrm>
                    <a:off x="3432240" y="297864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Skupina 54"/>
                <p:cNvGrpSpPr/>
                <p:nvPr/>
              </p:nvGrpSpPr>
              <p:grpSpPr>
                <a:xfrm>
                  <a:off x="1380960" y="4417200"/>
                  <a:ext cx="4921200" cy="1536480"/>
                  <a:chOff x="1380960" y="4417200"/>
                  <a:chExt cx="4921200" cy="1536480"/>
                </a:xfrm>
              </p:grpSpPr>
              <p:sp>
                <p:nvSpPr>
                  <p:cNvPr id="102" name="Volný tvar 66"/>
                  <p:cNvSpPr/>
                  <p:nvPr/>
                </p:nvSpPr>
                <p:spPr>
                  <a:xfrm>
                    <a:off x="1380960" y="4417200"/>
                    <a:ext cx="2051280" cy="1536480"/>
                  </a:xfrm>
                  <a:custGeom>
                    <a:avLst/>
                    <a:gdLst>
                      <a:gd name="textAreaLeft" fmla="*/ 0 w 2051280"/>
                      <a:gd name="textAreaRight" fmla="*/ 2051640 w 2051280"/>
                      <a:gd name="textAreaTop" fmla="*/ 0 h 1536480"/>
                      <a:gd name="textAreaBottom" fmla="*/ 1536840 h 15364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Přímá spojovací čára 67"/>
                  <p:cNvSpPr/>
                  <p:nvPr/>
                </p:nvSpPr>
                <p:spPr>
                  <a:xfrm>
                    <a:off x="3432240" y="441720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" name="Přímá spojovací čára 101"/>
                <p:cNvSpPr/>
                <p:nvPr/>
              </p:nvSpPr>
              <p:spPr>
                <a:xfrm>
                  <a:off x="1369800" y="2701800"/>
                  <a:ext cx="5235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Přímá spojovací čára 102"/>
                <p:cNvSpPr/>
                <p:nvPr/>
              </p:nvSpPr>
              <p:spPr>
                <a:xfrm flipV="1">
                  <a:off x="6048360" y="2212560"/>
                  <a:ext cx="0" cy="3768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TextovéPole 73"/>
                <p:cNvSpPr/>
                <p:nvPr/>
              </p:nvSpPr>
              <p:spPr>
                <a:xfrm>
                  <a:off x="6004800" y="5943960"/>
                  <a:ext cx="1386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E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V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Skupina 51"/>
                <p:cNvGrpSpPr/>
                <p:nvPr/>
              </p:nvGrpSpPr>
              <p:grpSpPr>
                <a:xfrm>
                  <a:off x="1380960" y="5001840"/>
                  <a:ext cx="4931640" cy="951840"/>
                  <a:chOff x="1380960" y="5001840"/>
                  <a:chExt cx="4931640" cy="951840"/>
                </a:xfrm>
              </p:grpSpPr>
              <p:sp>
                <p:nvSpPr>
                  <p:cNvPr id="108" name="Volný tvar 77"/>
                  <p:cNvSpPr/>
                  <p:nvPr/>
                </p:nvSpPr>
                <p:spPr>
                  <a:xfrm>
                    <a:off x="1380960" y="5001840"/>
                    <a:ext cx="2055600" cy="95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951840"/>
                      <a:gd name="textAreaBottom" fmla="*/ 952200 h 95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Přímá spojovací čára 78"/>
                  <p:cNvSpPr/>
                  <p:nvPr/>
                </p:nvSpPr>
                <p:spPr>
                  <a:xfrm>
                    <a:off x="3436560" y="500184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Skupina 48"/>
                <p:cNvGrpSpPr/>
                <p:nvPr/>
              </p:nvGrpSpPr>
              <p:grpSpPr>
                <a:xfrm>
                  <a:off x="1370520" y="5633640"/>
                  <a:ext cx="4931640" cy="297720"/>
                  <a:chOff x="1370520" y="5633640"/>
                  <a:chExt cx="4931640" cy="297720"/>
                </a:xfrm>
              </p:grpSpPr>
              <p:sp>
                <p:nvSpPr>
                  <p:cNvPr id="111" name="Volný tvar 80"/>
                  <p:cNvSpPr/>
                  <p:nvPr/>
                </p:nvSpPr>
                <p:spPr>
                  <a:xfrm>
                    <a:off x="1370520" y="5633640"/>
                    <a:ext cx="2055600" cy="29772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297720"/>
                      <a:gd name="textAreaBottom" fmla="*/ 298080 h 2977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Přímá spojovací čára 81"/>
                  <p:cNvSpPr/>
                  <p:nvPr/>
                </p:nvSpPr>
                <p:spPr>
                  <a:xfrm>
                    <a:off x="3426120" y="563364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Skupina 108"/>
              <p:cNvGrpSpPr/>
              <p:nvPr/>
            </p:nvGrpSpPr>
            <p:grpSpPr>
              <a:xfrm>
                <a:off x="1010880" y="2253600"/>
                <a:ext cx="5551920" cy="4076280"/>
                <a:chOff x="1010880" y="2253600"/>
                <a:chExt cx="5551920" cy="4076280"/>
              </a:xfrm>
            </p:grpSpPr>
            <p:sp>
              <p:nvSpPr>
                <p:cNvPr id="114" name="Přímá spojovací čára 34"/>
                <p:cNvSpPr/>
                <p:nvPr/>
              </p:nvSpPr>
              <p:spPr>
                <a:xfrm>
                  <a:off x="1382400" y="59392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Přímá spojovací čára 37"/>
                <p:cNvSpPr/>
                <p:nvPr/>
              </p:nvSpPr>
              <p:spPr>
                <a:xfrm>
                  <a:off x="1752480" y="59392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Přímá spojovací čára 57"/>
                <p:cNvSpPr/>
                <p:nvPr/>
              </p:nvSpPr>
              <p:spPr>
                <a:xfrm>
                  <a:off x="2122560" y="59392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Přímá spojovací čára 59"/>
                <p:cNvSpPr/>
                <p:nvPr/>
              </p:nvSpPr>
              <p:spPr>
                <a:xfrm>
                  <a:off x="249228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Přímá spojovací čára 60"/>
                <p:cNvSpPr/>
                <p:nvPr/>
              </p:nvSpPr>
              <p:spPr>
                <a:xfrm>
                  <a:off x="286236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Přímá spojovací čára 62"/>
                <p:cNvSpPr/>
                <p:nvPr/>
              </p:nvSpPr>
              <p:spPr>
                <a:xfrm>
                  <a:off x="323244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Přímá spojovací čára 63"/>
                <p:cNvSpPr/>
                <p:nvPr/>
              </p:nvSpPr>
              <p:spPr>
                <a:xfrm>
                  <a:off x="360252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Přímá spojovací čára 64"/>
                <p:cNvSpPr/>
                <p:nvPr/>
              </p:nvSpPr>
              <p:spPr>
                <a:xfrm>
                  <a:off x="397260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Přímá spojovací čára 65"/>
                <p:cNvSpPr/>
                <p:nvPr/>
              </p:nvSpPr>
              <p:spPr>
                <a:xfrm>
                  <a:off x="434268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Přímá spojovací čára 67"/>
                <p:cNvSpPr/>
                <p:nvPr/>
              </p:nvSpPr>
              <p:spPr>
                <a:xfrm>
                  <a:off x="471276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Přímá spojovací čára 68"/>
                <p:cNvSpPr/>
                <p:nvPr/>
              </p:nvSpPr>
              <p:spPr>
                <a:xfrm>
                  <a:off x="508284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Přímá spojovací čára 69"/>
                <p:cNvSpPr/>
                <p:nvPr/>
              </p:nvSpPr>
              <p:spPr>
                <a:xfrm>
                  <a:off x="545292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Přímá spojovací čára 70"/>
                <p:cNvSpPr/>
                <p:nvPr/>
              </p:nvSpPr>
              <p:spPr>
                <a:xfrm>
                  <a:off x="582300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Přímá spojovací čára 74"/>
                <p:cNvSpPr/>
                <p:nvPr/>
              </p:nvSpPr>
              <p:spPr>
                <a:xfrm>
                  <a:off x="6193080" y="59490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Přímá spojovací čára 75"/>
                <p:cNvSpPr/>
                <p:nvPr/>
              </p:nvSpPr>
              <p:spPr>
                <a:xfrm>
                  <a:off x="6562800" y="59490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Přímá spojovací čára 76"/>
                <p:cNvSpPr/>
                <p:nvPr/>
              </p:nvSpPr>
              <p:spPr>
                <a:xfrm>
                  <a:off x="1242720" y="59540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Přímá spojovací čára 77"/>
                <p:cNvSpPr/>
                <p:nvPr/>
              </p:nvSpPr>
              <p:spPr>
                <a:xfrm>
                  <a:off x="1242720" y="55839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Přímá spojovací čára 78"/>
                <p:cNvSpPr/>
                <p:nvPr/>
              </p:nvSpPr>
              <p:spPr>
                <a:xfrm>
                  <a:off x="1242720" y="52138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Přímá spojovací čára 79"/>
                <p:cNvSpPr/>
                <p:nvPr/>
              </p:nvSpPr>
              <p:spPr>
                <a:xfrm>
                  <a:off x="1247760" y="48438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Přímá spojovací čára 80"/>
                <p:cNvSpPr/>
                <p:nvPr/>
              </p:nvSpPr>
              <p:spPr>
                <a:xfrm>
                  <a:off x="1247760" y="44737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Přímá spojovací čára 81"/>
                <p:cNvSpPr/>
                <p:nvPr/>
              </p:nvSpPr>
              <p:spPr>
                <a:xfrm>
                  <a:off x="1247760" y="41036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Přímá spojovací čára 82"/>
                <p:cNvSpPr/>
                <p:nvPr/>
              </p:nvSpPr>
              <p:spPr>
                <a:xfrm>
                  <a:off x="1247760" y="37335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Přímá spojovací čára 83"/>
                <p:cNvSpPr/>
                <p:nvPr/>
              </p:nvSpPr>
              <p:spPr>
                <a:xfrm>
                  <a:off x="1252800" y="33634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Přímá spojovací čára 84"/>
                <p:cNvSpPr/>
                <p:nvPr/>
              </p:nvSpPr>
              <p:spPr>
                <a:xfrm>
                  <a:off x="1252800" y="29934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Přímá spojovací čára 85"/>
                <p:cNvSpPr/>
                <p:nvPr/>
              </p:nvSpPr>
              <p:spPr>
                <a:xfrm>
                  <a:off x="1247760" y="26233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Přímá spojovací čára 86"/>
                <p:cNvSpPr/>
                <p:nvPr/>
              </p:nvSpPr>
              <p:spPr>
                <a:xfrm>
                  <a:off x="1247760" y="22536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TextovéPole 93"/>
                <p:cNvSpPr/>
                <p:nvPr/>
              </p:nvSpPr>
              <p:spPr>
                <a:xfrm>
                  <a:off x="194688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ovéPole 94"/>
                <p:cNvSpPr/>
                <p:nvPr/>
              </p:nvSpPr>
              <p:spPr>
                <a:xfrm>
                  <a:off x="268704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ovéPole 95"/>
                <p:cNvSpPr/>
                <p:nvPr/>
              </p:nvSpPr>
              <p:spPr>
                <a:xfrm>
                  <a:off x="342648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ovéPole 96"/>
                <p:cNvSpPr/>
                <p:nvPr/>
              </p:nvSpPr>
              <p:spPr>
                <a:xfrm>
                  <a:off x="416700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ovéPole 97"/>
                <p:cNvSpPr/>
                <p:nvPr/>
              </p:nvSpPr>
              <p:spPr>
                <a:xfrm>
                  <a:off x="4814640" y="5992560"/>
                  <a:ext cx="535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extovéPole 98"/>
                <p:cNvSpPr/>
                <p:nvPr/>
              </p:nvSpPr>
              <p:spPr>
                <a:xfrm>
                  <a:off x="5528160" y="5992560"/>
                  <a:ext cx="588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ovéPole 99"/>
                <p:cNvSpPr/>
                <p:nvPr/>
              </p:nvSpPr>
              <p:spPr>
                <a:xfrm>
                  <a:off x="109116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ovéPole 104"/>
                <p:cNvSpPr/>
                <p:nvPr/>
              </p:nvSpPr>
              <p:spPr>
                <a:xfrm>
                  <a:off x="1010880" y="50446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ovéPole 105"/>
                <p:cNvSpPr/>
                <p:nvPr/>
              </p:nvSpPr>
              <p:spPr>
                <a:xfrm>
                  <a:off x="1019160" y="430452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ovéPole 106"/>
                <p:cNvSpPr/>
                <p:nvPr/>
              </p:nvSpPr>
              <p:spPr>
                <a:xfrm>
                  <a:off x="1010880" y="35643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ovéPole 107"/>
                <p:cNvSpPr/>
                <p:nvPr/>
              </p:nvSpPr>
              <p:spPr>
                <a:xfrm>
                  <a:off x="1018800" y="280944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Přímá spojovací čára 120"/>
            <p:cNvSpPr/>
            <p:nvPr/>
          </p:nvSpPr>
          <p:spPr>
            <a:xfrm>
              <a:off x="1371600" y="2976480"/>
              <a:ext cx="4421160" cy="2965320"/>
            </a:xfrm>
            <a:prstGeom prst="line">
              <a:avLst/>
            </a:prstGeom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Elipsa 24"/>
          <p:cNvSpPr/>
          <p:nvPr/>
        </p:nvSpPr>
        <p:spPr>
          <a:xfrm rot="10800000">
            <a:off x="6553080" y="6548040"/>
            <a:ext cx="152640" cy="1522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ovéPole 123"/>
          <p:cNvSpPr/>
          <p:nvPr/>
        </p:nvSpPr>
        <p:spPr>
          <a:xfrm>
            <a:off x="6705720" y="6172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Pracovní b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96"/>
          <p:cNvSpPr/>
          <p:nvPr/>
        </p:nvSpPr>
        <p:spPr>
          <a:xfrm>
            <a:off x="6400800" y="52578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 = 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98"/>
          <p:cNvSpPr/>
          <p:nvPr/>
        </p:nvSpPr>
        <p:spPr>
          <a:xfrm>
            <a:off x="5823000" y="5992920"/>
            <a:ext cx="1055520" cy="815760"/>
          </a:xfrm>
          <a:prstGeom prst="line">
            <a:avLst/>
          </a:prstGeom>
          <a:ln w="381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"/>
          <p:cNvSpPr/>
          <p:nvPr/>
        </p:nvSpPr>
        <p:spPr>
          <a:xfrm>
            <a:off x="457200" y="99072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stavení pracovního bodu je posunuto až do oblasti „záporného klidového proudu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Skupina 121"/>
          <p:cNvGrpSpPr/>
          <p:nvPr/>
        </p:nvGrpSpPr>
        <p:grpSpPr>
          <a:xfrm>
            <a:off x="304920" y="-1905120"/>
            <a:ext cx="9440280" cy="8359200"/>
            <a:chOff x="304920" y="-1905120"/>
            <a:chExt cx="9440280" cy="8359200"/>
          </a:xfrm>
        </p:grpSpPr>
        <p:grpSp>
          <p:nvGrpSpPr>
            <p:cNvPr id="159" name="Skupina 109"/>
            <p:cNvGrpSpPr/>
            <p:nvPr/>
          </p:nvGrpSpPr>
          <p:grpSpPr>
            <a:xfrm>
              <a:off x="304920" y="-1905120"/>
              <a:ext cx="9440280" cy="8359200"/>
              <a:chOff x="304920" y="-1905120"/>
              <a:chExt cx="9440280" cy="8359200"/>
            </a:xfrm>
          </p:grpSpPr>
          <p:grpSp>
            <p:nvGrpSpPr>
              <p:cNvPr id="160" name="Skupina 44"/>
              <p:cNvGrpSpPr/>
              <p:nvPr/>
            </p:nvGrpSpPr>
            <p:grpSpPr>
              <a:xfrm>
                <a:off x="304920" y="-1905120"/>
                <a:ext cx="9440280" cy="8359200"/>
                <a:chOff x="304920" y="-1905120"/>
                <a:chExt cx="9440280" cy="8359200"/>
              </a:xfrm>
            </p:grpSpPr>
            <p:sp>
              <p:nvSpPr>
                <p:cNvPr id="161" name="Oblouk 2"/>
                <p:cNvSpPr/>
                <p:nvPr/>
              </p:nvSpPr>
              <p:spPr>
                <a:xfrm rot="10800000">
                  <a:off x="2835000" y="-1905120"/>
                  <a:ext cx="6910200" cy="6631200"/>
                </a:xfrm>
                <a:custGeom>
                  <a:avLst/>
                  <a:gdLst>
                    <a:gd name="textAreaLeft" fmla="*/ 3510000 w 6910200"/>
                    <a:gd name="textAreaRight" fmla="*/ 6763680 w 6910200"/>
                    <a:gd name="textAreaTop" fmla="*/ 360 h 6631200"/>
                    <a:gd name="textAreaBottom" fmla="*/ 2359080 h 6631200"/>
                  </a:gdLst>
                  <a:ahLst/>
                  <a:rect l="textAreaLeft" t="textAreaTop" r="textAreaRight" b="textAreaBottom"/>
                  <a:pathLst>
                    <a:path stroke="0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  <a:lnTo>
                        <a:pt x="3772008" y="3619376"/>
                      </a:lnTo>
                      <a:close/>
                    </a:path>
                    <a:path fill="none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Obdélník 42"/>
                <p:cNvSpPr/>
                <p:nvPr/>
              </p:nvSpPr>
              <p:spPr>
                <a:xfrm>
                  <a:off x="6186960" y="5493960"/>
                  <a:ext cx="279000" cy="62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Volný tvar 45"/>
                <p:cNvSpPr/>
                <p:nvPr/>
              </p:nvSpPr>
              <p:spPr>
                <a:xfrm>
                  <a:off x="1361880" y="1599840"/>
                  <a:ext cx="833040" cy="4392360"/>
                </a:xfrm>
                <a:custGeom>
                  <a:avLst/>
                  <a:gdLst>
                    <a:gd name="textAreaLeft" fmla="*/ 0 w 833040"/>
                    <a:gd name="textAreaRight" fmla="*/ 833400 w 833040"/>
                    <a:gd name="textAreaTop" fmla="*/ 0 h 4392360"/>
                    <a:gd name="textAreaBottom" fmla="*/ 4392720 h 4392360"/>
                  </a:gdLst>
                  <a:ahLst/>
                  <a:rect l="textAreaLeft" t="textAreaTop" r="textAreaRight" b="textAreaBottom"/>
                  <a:pathLst>
                    <a:path w="909710" h="4794738">
                      <a:moveTo>
                        <a:pt x="0" y="4761914"/>
                      </a:moveTo>
                      <a:cubicBezTo>
                        <a:pt x="158261" y="4778326"/>
                        <a:pt x="316522" y="4794738"/>
                        <a:pt x="464233" y="4072597"/>
                      </a:cubicBezTo>
                      <a:cubicBezTo>
                        <a:pt x="611944" y="3350456"/>
                        <a:pt x="909710" y="1038665"/>
                        <a:pt x="886264" y="429065"/>
                      </a:cubicBezTo>
                      <a:cubicBezTo>
                        <a:pt x="595532" y="438443"/>
                        <a:pt x="154744" y="0"/>
                        <a:pt x="14067" y="4572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bdélník 46"/>
                <p:cNvSpPr/>
                <p:nvPr/>
              </p:nvSpPr>
              <p:spPr>
                <a:xfrm>
                  <a:off x="1091520" y="1724760"/>
                  <a:ext cx="1395720" cy="41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Přímá spojovací čára 48"/>
                <p:cNvSpPr/>
                <p:nvPr/>
              </p:nvSpPr>
              <p:spPr>
                <a:xfrm>
                  <a:off x="1380960" y="5954040"/>
                  <a:ext cx="55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Přímá spojovací čára 49"/>
                <p:cNvSpPr/>
                <p:nvPr/>
              </p:nvSpPr>
              <p:spPr>
                <a:xfrm>
                  <a:off x="1380960" y="1788840"/>
                  <a:ext cx="0" cy="416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TextovéPole 50"/>
                <p:cNvSpPr/>
                <p:nvPr/>
              </p:nvSpPr>
              <p:spPr>
                <a:xfrm>
                  <a:off x="304920" y="1788840"/>
                  <a:ext cx="1606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m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Skupina 38"/>
                <p:cNvGrpSpPr/>
                <p:nvPr/>
              </p:nvGrpSpPr>
              <p:grpSpPr>
                <a:xfrm>
                  <a:off x="1370520" y="2562120"/>
                  <a:ext cx="4931640" cy="3381840"/>
                  <a:chOff x="1370520" y="2562120"/>
                  <a:chExt cx="4931640" cy="3381840"/>
                </a:xfrm>
              </p:grpSpPr>
              <p:sp>
                <p:nvSpPr>
                  <p:cNvPr id="169" name="Volný tvar 54"/>
                  <p:cNvSpPr/>
                  <p:nvPr/>
                </p:nvSpPr>
                <p:spPr>
                  <a:xfrm>
                    <a:off x="1370520" y="2562120"/>
                    <a:ext cx="2055600" cy="338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3381840"/>
                      <a:gd name="textAreaBottom" fmla="*/ 3382200 h 338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Přímá spojovací čára 55"/>
                  <p:cNvSpPr/>
                  <p:nvPr/>
                </p:nvSpPr>
                <p:spPr>
                  <a:xfrm>
                    <a:off x="3426120" y="256212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Skupina 39"/>
                <p:cNvGrpSpPr/>
                <p:nvPr/>
              </p:nvGrpSpPr>
              <p:grpSpPr>
                <a:xfrm>
                  <a:off x="1380960" y="3930840"/>
                  <a:ext cx="4921200" cy="2008080"/>
                  <a:chOff x="1380960" y="3930840"/>
                  <a:chExt cx="4921200" cy="2008080"/>
                </a:xfrm>
              </p:grpSpPr>
              <p:sp>
                <p:nvSpPr>
                  <p:cNvPr id="172" name="Volný tvar 57"/>
                  <p:cNvSpPr/>
                  <p:nvPr/>
                </p:nvSpPr>
                <p:spPr>
                  <a:xfrm>
                    <a:off x="1380960" y="3930840"/>
                    <a:ext cx="2051280" cy="2008080"/>
                  </a:xfrm>
                  <a:custGeom>
                    <a:avLst/>
                    <a:gdLst>
                      <a:gd name="textAreaLeft" fmla="*/ 0 w 2051280"/>
                      <a:gd name="textAreaRight" fmla="*/ 2051640 w 2051280"/>
                      <a:gd name="textAreaTop" fmla="*/ 0 h 2008080"/>
                      <a:gd name="textAreaBottom" fmla="*/ 2008440 h 20080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Přímá spojovací čára 58"/>
                  <p:cNvSpPr/>
                  <p:nvPr/>
                </p:nvSpPr>
                <p:spPr>
                  <a:xfrm>
                    <a:off x="3432240" y="393084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Skupina 42"/>
                <p:cNvGrpSpPr/>
                <p:nvPr/>
              </p:nvGrpSpPr>
              <p:grpSpPr>
                <a:xfrm>
                  <a:off x="1370520" y="3454920"/>
                  <a:ext cx="4942080" cy="2499120"/>
                  <a:chOff x="1370520" y="3454920"/>
                  <a:chExt cx="4942080" cy="2499120"/>
                </a:xfrm>
              </p:grpSpPr>
              <p:sp>
                <p:nvSpPr>
                  <p:cNvPr id="175" name="Volný tvar 60"/>
                  <p:cNvSpPr/>
                  <p:nvPr/>
                </p:nvSpPr>
                <p:spPr>
                  <a:xfrm>
                    <a:off x="1370520" y="3454920"/>
                    <a:ext cx="2059920" cy="2499120"/>
                  </a:xfrm>
                  <a:custGeom>
                    <a:avLst/>
                    <a:gdLst>
                      <a:gd name="textAreaLeft" fmla="*/ 0 w 2059920"/>
                      <a:gd name="textAreaRight" fmla="*/ 2060280 w 2059920"/>
                      <a:gd name="textAreaTop" fmla="*/ 0 h 2499120"/>
                      <a:gd name="textAreaBottom" fmla="*/ 2499480 h 24991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Přímá spojovací čára 61"/>
                  <p:cNvSpPr/>
                  <p:nvPr/>
                </p:nvSpPr>
                <p:spPr>
                  <a:xfrm>
                    <a:off x="3430440" y="3454920"/>
                    <a:ext cx="2882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Skupina 45"/>
                <p:cNvGrpSpPr/>
                <p:nvPr/>
              </p:nvGrpSpPr>
              <p:grpSpPr>
                <a:xfrm>
                  <a:off x="1380960" y="2978640"/>
                  <a:ext cx="4921200" cy="2975040"/>
                  <a:chOff x="1380960" y="2978640"/>
                  <a:chExt cx="4921200" cy="2975040"/>
                </a:xfrm>
              </p:grpSpPr>
              <p:sp>
                <p:nvSpPr>
                  <p:cNvPr id="178" name="Volný tvar 63"/>
                  <p:cNvSpPr/>
                  <p:nvPr/>
                </p:nvSpPr>
                <p:spPr>
                  <a:xfrm>
                    <a:off x="1380960" y="2978640"/>
                    <a:ext cx="2051280" cy="2975040"/>
                  </a:xfrm>
                  <a:custGeom>
                    <a:avLst/>
                    <a:gdLst>
                      <a:gd name="textAreaLeft" fmla="*/ 0 w 2051280"/>
                      <a:gd name="textAreaRight" fmla="*/ 2051640 w 2051280"/>
                      <a:gd name="textAreaTop" fmla="*/ 0 h 2975040"/>
                      <a:gd name="textAreaBottom" fmla="*/ 2975400 h 29750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Přímá spojovací čára 64"/>
                  <p:cNvSpPr/>
                  <p:nvPr/>
                </p:nvSpPr>
                <p:spPr>
                  <a:xfrm>
                    <a:off x="3432240" y="297864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Skupina 54"/>
                <p:cNvGrpSpPr/>
                <p:nvPr/>
              </p:nvGrpSpPr>
              <p:grpSpPr>
                <a:xfrm>
                  <a:off x="1380960" y="4417200"/>
                  <a:ext cx="4921200" cy="1536480"/>
                  <a:chOff x="1380960" y="4417200"/>
                  <a:chExt cx="4921200" cy="1536480"/>
                </a:xfrm>
              </p:grpSpPr>
              <p:sp>
                <p:nvSpPr>
                  <p:cNvPr id="181" name="Volný tvar 66"/>
                  <p:cNvSpPr/>
                  <p:nvPr/>
                </p:nvSpPr>
                <p:spPr>
                  <a:xfrm>
                    <a:off x="1380960" y="4417200"/>
                    <a:ext cx="2051280" cy="1536480"/>
                  </a:xfrm>
                  <a:custGeom>
                    <a:avLst/>
                    <a:gdLst>
                      <a:gd name="textAreaLeft" fmla="*/ 0 w 2051280"/>
                      <a:gd name="textAreaRight" fmla="*/ 2051640 w 2051280"/>
                      <a:gd name="textAreaTop" fmla="*/ 0 h 1536480"/>
                      <a:gd name="textAreaBottom" fmla="*/ 1536840 h 15364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Přímá spojovací čára 67"/>
                  <p:cNvSpPr/>
                  <p:nvPr/>
                </p:nvSpPr>
                <p:spPr>
                  <a:xfrm>
                    <a:off x="3432240" y="441720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Přímá spojovací čára 101"/>
                <p:cNvSpPr/>
                <p:nvPr/>
              </p:nvSpPr>
              <p:spPr>
                <a:xfrm>
                  <a:off x="1369800" y="2701800"/>
                  <a:ext cx="5235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Přímá spojovací čára 102"/>
                <p:cNvSpPr/>
                <p:nvPr/>
              </p:nvSpPr>
              <p:spPr>
                <a:xfrm flipV="1">
                  <a:off x="6048360" y="2212560"/>
                  <a:ext cx="0" cy="3768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TextovéPole 73"/>
                <p:cNvSpPr/>
                <p:nvPr/>
              </p:nvSpPr>
              <p:spPr>
                <a:xfrm>
                  <a:off x="6004800" y="5943960"/>
                  <a:ext cx="1386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E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V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Skupina 51"/>
                <p:cNvGrpSpPr/>
                <p:nvPr/>
              </p:nvGrpSpPr>
              <p:grpSpPr>
                <a:xfrm>
                  <a:off x="1380960" y="5001840"/>
                  <a:ext cx="4931640" cy="951840"/>
                  <a:chOff x="1380960" y="5001840"/>
                  <a:chExt cx="4931640" cy="951840"/>
                </a:xfrm>
              </p:grpSpPr>
              <p:sp>
                <p:nvSpPr>
                  <p:cNvPr id="187" name="Volný tvar 77"/>
                  <p:cNvSpPr/>
                  <p:nvPr/>
                </p:nvSpPr>
                <p:spPr>
                  <a:xfrm>
                    <a:off x="1380960" y="5001840"/>
                    <a:ext cx="2055600" cy="95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951840"/>
                      <a:gd name="textAreaBottom" fmla="*/ 952200 h 95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Přímá spojovací čára 78"/>
                  <p:cNvSpPr/>
                  <p:nvPr/>
                </p:nvSpPr>
                <p:spPr>
                  <a:xfrm>
                    <a:off x="3436560" y="500184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Skupina 48"/>
                <p:cNvGrpSpPr/>
                <p:nvPr/>
              </p:nvGrpSpPr>
              <p:grpSpPr>
                <a:xfrm>
                  <a:off x="1370520" y="5633640"/>
                  <a:ext cx="4931640" cy="297720"/>
                  <a:chOff x="1370520" y="5633640"/>
                  <a:chExt cx="4931640" cy="297720"/>
                </a:xfrm>
              </p:grpSpPr>
              <p:sp>
                <p:nvSpPr>
                  <p:cNvPr id="190" name="Volný tvar 80"/>
                  <p:cNvSpPr/>
                  <p:nvPr/>
                </p:nvSpPr>
                <p:spPr>
                  <a:xfrm>
                    <a:off x="1370520" y="5633640"/>
                    <a:ext cx="2055600" cy="29772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297720"/>
                      <a:gd name="textAreaBottom" fmla="*/ 298080 h 2977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Přímá spojovací čára 81"/>
                  <p:cNvSpPr/>
                  <p:nvPr/>
                </p:nvSpPr>
                <p:spPr>
                  <a:xfrm>
                    <a:off x="3426120" y="563364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Skupina 108"/>
              <p:cNvGrpSpPr/>
              <p:nvPr/>
            </p:nvGrpSpPr>
            <p:grpSpPr>
              <a:xfrm>
                <a:off x="1010880" y="2253600"/>
                <a:ext cx="5551920" cy="4076280"/>
                <a:chOff x="1010880" y="2253600"/>
                <a:chExt cx="5551920" cy="4076280"/>
              </a:xfrm>
            </p:grpSpPr>
            <p:sp>
              <p:nvSpPr>
                <p:cNvPr id="193" name="Přímá spojovací čára 34"/>
                <p:cNvSpPr/>
                <p:nvPr/>
              </p:nvSpPr>
              <p:spPr>
                <a:xfrm>
                  <a:off x="1382400" y="59392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Přímá spojovací čára 37"/>
                <p:cNvSpPr/>
                <p:nvPr/>
              </p:nvSpPr>
              <p:spPr>
                <a:xfrm>
                  <a:off x="1752480" y="59392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Přímá spojovací čára 57"/>
                <p:cNvSpPr/>
                <p:nvPr/>
              </p:nvSpPr>
              <p:spPr>
                <a:xfrm>
                  <a:off x="2122560" y="59392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Přímá spojovací čára 59"/>
                <p:cNvSpPr/>
                <p:nvPr/>
              </p:nvSpPr>
              <p:spPr>
                <a:xfrm>
                  <a:off x="249228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Přímá spojovací čára 60"/>
                <p:cNvSpPr/>
                <p:nvPr/>
              </p:nvSpPr>
              <p:spPr>
                <a:xfrm>
                  <a:off x="286236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Přímá spojovací čára 62"/>
                <p:cNvSpPr/>
                <p:nvPr/>
              </p:nvSpPr>
              <p:spPr>
                <a:xfrm>
                  <a:off x="323244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Přímá spojovací čára 63"/>
                <p:cNvSpPr/>
                <p:nvPr/>
              </p:nvSpPr>
              <p:spPr>
                <a:xfrm>
                  <a:off x="360252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Přímá spojovací čára 64"/>
                <p:cNvSpPr/>
                <p:nvPr/>
              </p:nvSpPr>
              <p:spPr>
                <a:xfrm>
                  <a:off x="397260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Přímá spojovací čára 65"/>
                <p:cNvSpPr/>
                <p:nvPr/>
              </p:nvSpPr>
              <p:spPr>
                <a:xfrm>
                  <a:off x="434268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Přímá spojovací čára 67"/>
                <p:cNvSpPr/>
                <p:nvPr/>
              </p:nvSpPr>
              <p:spPr>
                <a:xfrm>
                  <a:off x="471276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Přímá spojovací čára 68"/>
                <p:cNvSpPr/>
                <p:nvPr/>
              </p:nvSpPr>
              <p:spPr>
                <a:xfrm>
                  <a:off x="508284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Přímá spojovací čára 69"/>
                <p:cNvSpPr/>
                <p:nvPr/>
              </p:nvSpPr>
              <p:spPr>
                <a:xfrm>
                  <a:off x="545292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Přímá spojovací čára 70"/>
                <p:cNvSpPr/>
                <p:nvPr/>
              </p:nvSpPr>
              <p:spPr>
                <a:xfrm>
                  <a:off x="582300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Přímá spojovací čára 74"/>
                <p:cNvSpPr/>
                <p:nvPr/>
              </p:nvSpPr>
              <p:spPr>
                <a:xfrm>
                  <a:off x="6193080" y="59490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Přímá spojovací čára 75"/>
                <p:cNvSpPr/>
                <p:nvPr/>
              </p:nvSpPr>
              <p:spPr>
                <a:xfrm>
                  <a:off x="6562800" y="59490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Přímá spojovací čára 76"/>
                <p:cNvSpPr/>
                <p:nvPr/>
              </p:nvSpPr>
              <p:spPr>
                <a:xfrm>
                  <a:off x="1242720" y="59540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Přímá spojovací čára 77"/>
                <p:cNvSpPr/>
                <p:nvPr/>
              </p:nvSpPr>
              <p:spPr>
                <a:xfrm>
                  <a:off x="1242720" y="55839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Přímá spojovací čára 78"/>
                <p:cNvSpPr/>
                <p:nvPr/>
              </p:nvSpPr>
              <p:spPr>
                <a:xfrm>
                  <a:off x="1242720" y="52138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Přímá spojovací čára 79"/>
                <p:cNvSpPr/>
                <p:nvPr/>
              </p:nvSpPr>
              <p:spPr>
                <a:xfrm>
                  <a:off x="1247760" y="48438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Přímá spojovací čára 80"/>
                <p:cNvSpPr/>
                <p:nvPr/>
              </p:nvSpPr>
              <p:spPr>
                <a:xfrm>
                  <a:off x="1247760" y="44737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Přímá spojovací čára 81"/>
                <p:cNvSpPr/>
                <p:nvPr/>
              </p:nvSpPr>
              <p:spPr>
                <a:xfrm>
                  <a:off x="1247760" y="41036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Přímá spojovací čára 82"/>
                <p:cNvSpPr/>
                <p:nvPr/>
              </p:nvSpPr>
              <p:spPr>
                <a:xfrm>
                  <a:off x="1247760" y="37335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Přímá spojovací čára 83"/>
                <p:cNvSpPr/>
                <p:nvPr/>
              </p:nvSpPr>
              <p:spPr>
                <a:xfrm>
                  <a:off x="1252800" y="33634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Přímá spojovací čára 84"/>
                <p:cNvSpPr/>
                <p:nvPr/>
              </p:nvSpPr>
              <p:spPr>
                <a:xfrm>
                  <a:off x="1252800" y="29934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Přímá spojovací čára 85"/>
                <p:cNvSpPr/>
                <p:nvPr/>
              </p:nvSpPr>
              <p:spPr>
                <a:xfrm>
                  <a:off x="1247760" y="26233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Přímá spojovací čára 86"/>
                <p:cNvSpPr/>
                <p:nvPr/>
              </p:nvSpPr>
              <p:spPr>
                <a:xfrm>
                  <a:off x="1247760" y="22536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ovéPole 93"/>
                <p:cNvSpPr/>
                <p:nvPr/>
              </p:nvSpPr>
              <p:spPr>
                <a:xfrm>
                  <a:off x="194688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ovéPole 94"/>
                <p:cNvSpPr/>
                <p:nvPr/>
              </p:nvSpPr>
              <p:spPr>
                <a:xfrm>
                  <a:off x="268704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ovéPole 95"/>
                <p:cNvSpPr/>
                <p:nvPr/>
              </p:nvSpPr>
              <p:spPr>
                <a:xfrm>
                  <a:off x="342648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TextovéPole 96"/>
                <p:cNvSpPr/>
                <p:nvPr/>
              </p:nvSpPr>
              <p:spPr>
                <a:xfrm>
                  <a:off x="416700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ovéPole 97"/>
                <p:cNvSpPr/>
                <p:nvPr/>
              </p:nvSpPr>
              <p:spPr>
                <a:xfrm>
                  <a:off x="4814640" y="5992560"/>
                  <a:ext cx="535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ovéPole 98"/>
                <p:cNvSpPr/>
                <p:nvPr/>
              </p:nvSpPr>
              <p:spPr>
                <a:xfrm>
                  <a:off x="5528160" y="5992560"/>
                  <a:ext cx="588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ovéPole 99"/>
                <p:cNvSpPr/>
                <p:nvPr/>
              </p:nvSpPr>
              <p:spPr>
                <a:xfrm>
                  <a:off x="109116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ovéPole 104"/>
                <p:cNvSpPr/>
                <p:nvPr/>
              </p:nvSpPr>
              <p:spPr>
                <a:xfrm>
                  <a:off x="1010880" y="50446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ovéPole 105"/>
                <p:cNvSpPr/>
                <p:nvPr/>
              </p:nvSpPr>
              <p:spPr>
                <a:xfrm>
                  <a:off x="1019160" y="430452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TextovéPole 106"/>
                <p:cNvSpPr/>
                <p:nvPr/>
              </p:nvSpPr>
              <p:spPr>
                <a:xfrm>
                  <a:off x="1010880" y="35643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ovéPole 107"/>
                <p:cNvSpPr/>
                <p:nvPr/>
              </p:nvSpPr>
              <p:spPr>
                <a:xfrm>
                  <a:off x="1018800" y="280944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Přímá spojovací čára 120"/>
            <p:cNvSpPr/>
            <p:nvPr/>
          </p:nvSpPr>
          <p:spPr>
            <a:xfrm>
              <a:off x="1371600" y="2976480"/>
              <a:ext cx="4421160" cy="2965320"/>
            </a:xfrm>
            <a:prstGeom prst="line">
              <a:avLst/>
            </a:prstGeom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Elipsa 24"/>
          <p:cNvSpPr/>
          <p:nvPr/>
        </p:nvSpPr>
        <p:spPr>
          <a:xfrm rot="10800000">
            <a:off x="6553080" y="6548040"/>
            <a:ext cx="152640" cy="1522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ovéPole 123"/>
          <p:cNvSpPr/>
          <p:nvPr/>
        </p:nvSpPr>
        <p:spPr>
          <a:xfrm>
            <a:off x="6705720" y="6172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Pracovní b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ovéPole 96"/>
          <p:cNvSpPr/>
          <p:nvPr/>
        </p:nvSpPr>
        <p:spPr>
          <a:xfrm>
            <a:off x="6400800" y="52578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 = 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římá spojovací čára 98"/>
          <p:cNvSpPr/>
          <p:nvPr/>
        </p:nvSpPr>
        <p:spPr>
          <a:xfrm>
            <a:off x="5823000" y="5992920"/>
            <a:ext cx="1055520" cy="815760"/>
          </a:xfrm>
          <a:prstGeom prst="line">
            <a:avLst/>
          </a:prstGeom>
          <a:ln w="381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ovéPole 2"/>
          <p:cNvSpPr/>
          <p:nvPr/>
        </p:nvSpPr>
        <p:spPr>
          <a:xfrm>
            <a:off x="457200" y="9907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kového nastavení pracovního bodu se dosáhne záporným předpětím na vstupu zesilovač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Skupina 121"/>
          <p:cNvGrpSpPr/>
          <p:nvPr/>
        </p:nvGrpSpPr>
        <p:grpSpPr>
          <a:xfrm>
            <a:off x="304920" y="-1905120"/>
            <a:ext cx="9440280" cy="8359200"/>
            <a:chOff x="304920" y="-1905120"/>
            <a:chExt cx="9440280" cy="8359200"/>
          </a:xfrm>
        </p:grpSpPr>
        <p:grpSp>
          <p:nvGrpSpPr>
            <p:cNvPr id="238" name="Skupina 109"/>
            <p:cNvGrpSpPr/>
            <p:nvPr/>
          </p:nvGrpSpPr>
          <p:grpSpPr>
            <a:xfrm>
              <a:off x="304920" y="-1905120"/>
              <a:ext cx="9440280" cy="8359200"/>
              <a:chOff x="304920" y="-1905120"/>
              <a:chExt cx="9440280" cy="8359200"/>
            </a:xfrm>
          </p:grpSpPr>
          <p:grpSp>
            <p:nvGrpSpPr>
              <p:cNvPr id="239" name="Skupina 44"/>
              <p:cNvGrpSpPr/>
              <p:nvPr/>
            </p:nvGrpSpPr>
            <p:grpSpPr>
              <a:xfrm>
                <a:off x="304920" y="-1905120"/>
                <a:ext cx="9440280" cy="8359200"/>
                <a:chOff x="304920" y="-1905120"/>
                <a:chExt cx="9440280" cy="8359200"/>
              </a:xfrm>
            </p:grpSpPr>
            <p:sp>
              <p:nvSpPr>
                <p:cNvPr id="240" name="Oblouk 2"/>
                <p:cNvSpPr/>
                <p:nvPr/>
              </p:nvSpPr>
              <p:spPr>
                <a:xfrm rot="10800000">
                  <a:off x="2835000" y="-1905120"/>
                  <a:ext cx="6910200" cy="6631200"/>
                </a:xfrm>
                <a:custGeom>
                  <a:avLst/>
                  <a:gdLst>
                    <a:gd name="textAreaLeft" fmla="*/ 3510000 w 6910200"/>
                    <a:gd name="textAreaRight" fmla="*/ 6763680 w 6910200"/>
                    <a:gd name="textAreaTop" fmla="*/ 360 h 6631200"/>
                    <a:gd name="textAreaBottom" fmla="*/ 2359080 h 6631200"/>
                  </a:gdLst>
                  <a:ahLst/>
                  <a:rect l="textAreaLeft" t="textAreaTop" r="textAreaRight" b="textAreaBottom"/>
                  <a:pathLst>
                    <a:path stroke="0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  <a:lnTo>
                        <a:pt x="3772008" y="3619376"/>
                      </a:lnTo>
                      <a:close/>
                    </a:path>
                    <a:path fill="none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Obdélník 42"/>
                <p:cNvSpPr/>
                <p:nvPr/>
              </p:nvSpPr>
              <p:spPr>
                <a:xfrm>
                  <a:off x="6186960" y="5493960"/>
                  <a:ext cx="279000" cy="62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Volný tvar 45"/>
                <p:cNvSpPr/>
                <p:nvPr/>
              </p:nvSpPr>
              <p:spPr>
                <a:xfrm>
                  <a:off x="1361880" y="1599840"/>
                  <a:ext cx="833040" cy="4392360"/>
                </a:xfrm>
                <a:custGeom>
                  <a:avLst/>
                  <a:gdLst>
                    <a:gd name="textAreaLeft" fmla="*/ 0 w 833040"/>
                    <a:gd name="textAreaRight" fmla="*/ 833400 w 833040"/>
                    <a:gd name="textAreaTop" fmla="*/ 0 h 4392360"/>
                    <a:gd name="textAreaBottom" fmla="*/ 4392720 h 4392360"/>
                  </a:gdLst>
                  <a:ahLst/>
                  <a:rect l="textAreaLeft" t="textAreaTop" r="textAreaRight" b="textAreaBottom"/>
                  <a:pathLst>
                    <a:path w="909710" h="4794738">
                      <a:moveTo>
                        <a:pt x="0" y="4761914"/>
                      </a:moveTo>
                      <a:cubicBezTo>
                        <a:pt x="158261" y="4778326"/>
                        <a:pt x="316522" y="4794738"/>
                        <a:pt x="464233" y="4072597"/>
                      </a:cubicBezTo>
                      <a:cubicBezTo>
                        <a:pt x="611944" y="3350456"/>
                        <a:pt x="909710" y="1038665"/>
                        <a:pt x="886264" y="429065"/>
                      </a:cubicBezTo>
                      <a:cubicBezTo>
                        <a:pt x="595532" y="438443"/>
                        <a:pt x="154744" y="0"/>
                        <a:pt x="14067" y="4572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bdélník 46"/>
                <p:cNvSpPr/>
                <p:nvPr/>
              </p:nvSpPr>
              <p:spPr>
                <a:xfrm>
                  <a:off x="1091520" y="1724760"/>
                  <a:ext cx="1395720" cy="41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Přímá spojovací čára 48"/>
                <p:cNvSpPr/>
                <p:nvPr/>
              </p:nvSpPr>
              <p:spPr>
                <a:xfrm>
                  <a:off x="1380960" y="5954040"/>
                  <a:ext cx="55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Přímá spojovací čára 49"/>
                <p:cNvSpPr/>
                <p:nvPr/>
              </p:nvSpPr>
              <p:spPr>
                <a:xfrm>
                  <a:off x="1380960" y="1788840"/>
                  <a:ext cx="0" cy="416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ovéPole 50"/>
                <p:cNvSpPr/>
                <p:nvPr/>
              </p:nvSpPr>
              <p:spPr>
                <a:xfrm>
                  <a:off x="304920" y="1788840"/>
                  <a:ext cx="1606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m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Skupina 38"/>
                <p:cNvGrpSpPr/>
                <p:nvPr/>
              </p:nvGrpSpPr>
              <p:grpSpPr>
                <a:xfrm>
                  <a:off x="1370520" y="2562120"/>
                  <a:ext cx="4931640" cy="3381840"/>
                  <a:chOff x="1370520" y="2562120"/>
                  <a:chExt cx="4931640" cy="3381840"/>
                </a:xfrm>
              </p:grpSpPr>
              <p:sp>
                <p:nvSpPr>
                  <p:cNvPr id="248" name="Volný tvar 54"/>
                  <p:cNvSpPr/>
                  <p:nvPr/>
                </p:nvSpPr>
                <p:spPr>
                  <a:xfrm>
                    <a:off x="1370520" y="2562120"/>
                    <a:ext cx="2055600" cy="338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3381840"/>
                      <a:gd name="textAreaBottom" fmla="*/ 3382200 h 338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Přímá spojovací čára 55"/>
                  <p:cNvSpPr/>
                  <p:nvPr/>
                </p:nvSpPr>
                <p:spPr>
                  <a:xfrm>
                    <a:off x="3426120" y="256212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Skupina 39"/>
                <p:cNvGrpSpPr/>
                <p:nvPr/>
              </p:nvGrpSpPr>
              <p:grpSpPr>
                <a:xfrm>
                  <a:off x="1380960" y="3930840"/>
                  <a:ext cx="4921200" cy="2008080"/>
                  <a:chOff x="1380960" y="3930840"/>
                  <a:chExt cx="4921200" cy="2008080"/>
                </a:xfrm>
              </p:grpSpPr>
              <p:sp>
                <p:nvSpPr>
                  <p:cNvPr id="251" name="Volný tvar 57"/>
                  <p:cNvSpPr/>
                  <p:nvPr/>
                </p:nvSpPr>
                <p:spPr>
                  <a:xfrm>
                    <a:off x="1380960" y="3930840"/>
                    <a:ext cx="2051280" cy="2008080"/>
                  </a:xfrm>
                  <a:custGeom>
                    <a:avLst/>
                    <a:gdLst>
                      <a:gd name="textAreaLeft" fmla="*/ 0 w 2051280"/>
                      <a:gd name="textAreaRight" fmla="*/ 2051640 w 2051280"/>
                      <a:gd name="textAreaTop" fmla="*/ 0 h 2008080"/>
                      <a:gd name="textAreaBottom" fmla="*/ 2008440 h 20080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Přímá spojovací čára 58"/>
                  <p:cNvSpPr/>
                  <p:nvPr/>
                </p:nvSpPr>
                <p:spPr>
                  <a:xfrm>
                    <a:off x="3432240" y="393084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Skupina 42"/>
                <p:cNvGrpSpPr/>
                <p:nvPr/>
              </p:nvGrpSpPr>
              <p:grpSpPr>
                <a:xfrm>
                  <a:off x="1370520" y="3454920"/>
                  <a:ext cx="4942080" cy="2499120"/>
                  <a:chOff x="1370520" y="3454920"/>
                  <a:chExt cx="4942080" cy="2499120"/>
                </a:xfrm>
              </p:grpSpPr>
              <p:sp>
                <p:nvSpPr>
                  <p:cNvPr id="254" name="Volný tvar 60"/>
                  <p:cNvSpPr/>
                  <p:nvPr/>
                </p:nvSpPr>
                <p:spPr>
                  <a:xfrm>
                    <a:off x="1370520" y="3454920"/>
                    <a:ext cx="2059920" cy="2499120"/>
                  </a:xfrm>
                  <a:custGeom>
                    <a:avLst/>
                    <a:gdLst>
                      <a:gd name="textAreaLeft" fmla="*/ 0 w 2059920"/>
                      <a:gd name="textAreaRight" fmla="*/ 2060280 w 2059920"/>
                      <a:gd name="textAreaTop" fmla="*/ 0 h 2499120"/>
                      <a:gd name="textAreaBottom" fmla="*/ 2499480 h 24991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Přímá spojovací čára 61"/>
                  <p:cNvSpPr/>
                  <p:nvPr/>
                </p:nvSpPr>
                <p:spPr>
                  <a:xfrm>
                    <a:off x="3430440" y="3454920"/>
                    <a:ext cx="2882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Skupina 45"/>
                <p:cNvGrpSpPr/>
                <p:nvPr/>
              </p:nvGrpSpPr>
              <p:grpSpPr>
                <a:xfrm>
                  <a:off x="1380960" y="2978640"/>
                  <a:ext cx="4921200" cy="2975040"/>
                  <a:chOff x="1380960" y="2978640"/>
                  <a:chExt cx="4921200" cy="2975040"/>
                </a:xfrm>
              </p:grpSpPr>
              <p:sp>
                <p:nvSpPr>
                  <p:cNvPr id="257" name="Volný tvar 63"/>
                  <p:cNvSpPr/>
                  <p:nvPr/>
                </p:nvSpPr>
                <p:spPr>
                  <a:xfrm>
                    <a:off x="1380960" y="2978640"/>
                    <a:ext cx="2051280" cy="2975040"/>
                  </a:xfrm>
                  <a:custGeom>
                    <a:avLst/>
                    <a:gdLst>
                      <a:gd name="textAreaLeft" fmla="*/ 0 w 2051280"/>
                      <a:gd name="textAreaRight" fmla="*/ 2051640 w 2051280"/>
                      <a:gd name="textAreaTop" fmla="*/ 0 h 2975040"/>
                      <a:gd name="textAreaBottom" fmla="*/ 2975400 h 29750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Přímá spojovací čára 64"/>
                  <p:cNvSpPr/>
                  <p:nvPr/>
                </p:nvSpPr>
                <p:spPr>
                  <a:xfrm>
                    <a:off x="3432240" y="297864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Skupina 54"/>
                <p:cNvGrpSpPr/>
                <p:nvPr/>
              </p:nvGrpSpPr>
              <p:grpSpPr>
                <a:xfrm>
                  <a:off x="1380960" y="4417200"/>
                  <a:ext cx="4921200" cy="1536480"/>
                  <a:chOff x="1380960" y="4417200"/>
                  <a:chExt cx="4921200" cy="1536480"/>
                </a:xfrm>
              </p:grpSpPr>
              <p:sp>
                <p:nvSpPr>
                  <p:cNvPr id="260" name="Volný tvar 66"/>
                  <p:cNvSpPr/>
                  <p:nvPr/>
                </p:nvSpPr>
                <p:spPr>
                  <a:xfrm>
                    <a:off x="1380960" y="4417200"/>
                    <a:ext cx="2051280" cy="1536480"/>
                  </a:xfrm>
                  <a:custGeom>
                    <a:avLst/>
                    <a:gdLst>
                      <a:gd name="textAreaLeft" fmla="*/ 0 w 2051280"/>
                      <a:gd name="textAreaRight" fmla="*/ 2051640 w 2051280"/>
                      <a:gd name="textAreaTop" fmla="*/ 0 h 1536480"/>
                      <a:gd name="textAreaBottom" fmla="*/ 1536840 h 15364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Přímá spojovací čára 67"/>
                  <p:cNvSpPr/>
                  <p:nvPr/>
                </p:nvSpPr>
                <p:spPr>
                  <a:xfrm>
                    <a:off x="3432240" y="441720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Přímá spojovací čára 101"/>
                <p:cNvSpPr/>
                <p:nvPr/>
              </p:nvSpPr>
              <p:spPr>
                <a:xfrm>
                  <a:off x="1369800" y="2701800"/>
                  <a:ext cx="5235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Přímá spojovací čára 102"/>
                <p:cNvSpPr/>
                <p:nvPr/>
              </p:nvSpPr>
              <p:spPr>
                <a:xfrm flipV="1">
                  <a:off x="6048360" y="2212560"/>
                  <a:ext cx="0" cy="3768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TextovéPole 73"/>
                <p:cNvSpPr/>
                <p:nvPr/>
              </p:nvSpPr>
              <p:spPr>
                <a:xfrm>
                  <a:off x="6004800" y="5943960"/>
                  <a:ext cx="1386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E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V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Skupina 51"/>
                <p:cNvGrpSpPr/>
                <p:nvPr/>
              </p:nvGrpSpPr>
              <p:grpSpPr>
                <a:xfrm>
                  <a:off x="1380960" y="5001840"/>
                  <a:ext cx="4931640" cy="951840"/>
                  <a:chOff x="1380960" y="5001840"/>
                  <a:chExt cx="4931640" cy="951840"/>
                </a:xfrm>
              </p:grpSpPr>
              <p:sp>
                <p:nvSpPr>
                  <p:cNvPr id="266" name="Volný tvar 77"/>
                  <p:cNvSpPr/>
                  <p:nvPr/>
                </p:nvSpPr>
                <p:spPr>
                  <a:xfrm>
                    <a:off x="1380960" y="5001840"/>
                    <a:ext cx="2055600" cy="95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951840"/>
                      <a:gd name="textAreaBottom" fmla="*/ 952200 h 95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Přímá spojovací čára 78"/>
                  <p:cNvSpPr/>
                  <p:nvPr/>
                </p:nvSpPr>
                <p:spPr>
                  <a:xfrm>
                    <a:off x="3436560" y="500184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Skupina 48"/>
                <p:cNvGrpSpPr/>
                <p:nvPr/>
              </p:nvGrpSpPr>
              <p:grpSpPr>
                <a:xfrm>
                  <a:off x="1370520" y="5633640"/>
                  <a:ext cx="4931640" cy="297720"/>
                  <a:chOff x="1370520" y="5633640"/>
                  <a:chExt cx="4931640" cy="297720"/>
                </a:xfrm>
              </p:grpSpPr>
              <p:sp>
                <p:nvSpPr>
                  <p:cNvPr id="269" name="Volný tvar 80"/>
                  <p:cNvSpPr/>
                  <p:nvPr/>
                </p:nvSpPr>
                <p:spPr>
                  <a:xfrm>
                    <a:off x="1370520" y="5633640"/>
                    <a:ext cx="2055600" cy="29772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297720"/>
                      <a:gd name="textAreaBottom" fmla="*/ 298080 h 2977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Přímá spojovací čára 81"/>
                  <p:cNvSpPr/>
                  <p:nvPr/>
                </p:nvSpPr>
                <p:spPr>
                  <a:xfrm>
                    <a:off x="3426120" y="563364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1" name="Skupina 108"/>
              <p:cNvGrpSpPr/>
              <p:nvPr/>
            </p:nvGrpSpPr>
            <p:grpSpPr>
              <a:xfrm>
                <a:off x="1010880" y="2253600"/>
                <a:ext cx="5551920" cy="4076280"/>
                <a:chOff x="1010880" y="2253600"/>
                <a:chExt cx="5551920" cy="4076280"/>
              </a:xfrm>
            </p:grpSpPr>
            <p:sp>
              <p:nvSpPr>
                <p:cNvPr id="272" name="Přímá spojovací čára 34"/>
                <p:cNvSpPr/>
                <p:nvPr/>
              </p:nvSpPr>
              <p:spPr>
                <a:xfrm>
                  <a:off x="1382400" y="59392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Přímá spojovací čára 37"/>
                <p:cNvSpPr/>
                <p:nvPr/>
              </p:nvSpPr>
              <p:spPr>
                <a:xfrm>
                  <a:off x="1752480" y="59392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Přímá spojovací čára 57"/>
                <p:cNvSpPr/>
                <p:nvPr/>
              </p:nvSpPr>
              <p:spPr>
                <a:xfrm>
                  <a:off x="2122560" y="59392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Přímá spojovací čára 59"/>
                <p:cNvSpPr/>
                <p:nvPr/>
              </p:nvSpPr>
              <p:spPr>
                <a:xfrm>
                  <a:off x="249228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Přímá spojovací čára 60"/>
                <p:cNvSpPr/>
                <p:nvPr/>
              </p:nvSpPr>
              <p:spPr>
                <a:xfrm>
                  <a:off x="286236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Přímá spojovací čára 62"/>
                <p:cNvSpPr/>
                <p:nvPr/>
              </p:nvSpPr>
              <p:spPr>
                <a:xfrm>
                  <a:off x="323244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Přímá spojovací čára 63"/>
                <p:cNvSpPr/>
                <p:nvPr/>
              </p:nvSpPr>
              <p:spPr>
                <a:xfrm>
                  <a:off x="360252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Přímá spojovací čára 64"/>
                <p:cNvSpPr/>
                <p:nvPr/>
              </p:nvSpPr>
              <p:spPr>
                <a:xfrm>
                  <a:off x="397260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Přímá spojovací čára 65"/>
                <p:cNvSpPr/>
                <p:nvPr/>
              </p:nvSpPr>
              <p:spPr>
                <a:xfrm>
                  <a:off x="434268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Přímá spojovací čára 67"/>
                <p:cNvSpPr/>
                <p:nvPr/>
              </p:nvSpPr>
              <p:spPr>
                <a:xfrm>
                  <a:off x="471276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Přímá spojovací čára 68"/>
                <p:cNvSpPr/>
                <p:nvPr/>
              </p:nvSpPr>
              <p:spPr>
                <a:xfrm>
                  <a:off x="5082840" y="59443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Přímá spojovací čára 69"/>
                <p:cNvSpPr/>
                <p:nvPr/>
              </p:nvSpPr>
              <p:spPr>
                <a:xfrm>
                  <a:off x="545292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Přímá spojovací čára 70"/>
                <p:cNvSpPr/>
                <p:nvPr/>
              </p:nvSpPr>
              <p:spPr>
                <a:xfrm>
                  <a:off x="5823000" y="594936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Přímá spojovací čára 74"/>
                <p:cNvSpPr/>
                <p:nvPr/>
              </p:nvSpPr>
              <p:spPr>
                <a:xfrm>
                  <a:off x="6193080" y="59490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Přímá spojovací čára 75"/>
                <p:cNvSpPr/>
                <p:nvPr/>
              </p:nvSpPr>
              <p:spPr>
                <a:xfrm>
                  <a:off x="6562800" y="59490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Přímá spojovací čára 76"/>
                <p:cNvSpPr/>
                <p:nvPr/>
              </p:nvSpPr>
              <p:spPr>
                <a:xfrm>
                  <a:off x="1242720" y="59540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Přímá spojovací čára 77"/>
                <p:cNvSpPr/>
                <p:nvPr/>
              </p:nvSpPr>
              <p:spPr>
                <a:xfrm>
                  <a:off x="1242720" y="55839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Přímá spojovací čára 78"/>
                <p:cNvSpPr/>
                <p:nvPr/>
              </p:nvSpPr>
              <p:spPr>
                <a:xfrm>
                  <a:off x="1242720" y="52138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Přímá spojovací čára 79"/>
                <p:cNvSpPr/>
                <p:nvPr/>
              </p:nvSpPr>
              <p:spPr>
                <a:xfrm>
                  <a:off x="1247760" y="48438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Přímá spojovací čára 80"/>
                <p:cNvSpPr/>
                <p:nvPr/>
              </p:nvSpPr>
              <p:spPr>
                <a:xfrm>
                  <a:off x="1247760" y="44737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Přímá spojovací čára 81"/>
                <p:cNvSpPr/>
                <p:nvPr/>
              </p:nvSpPr>
              <p:spPr>
                <a:xfrm>
                  <a:off x="1247760" y="41036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Přímá spojovací čára 82"/>
                <p:cNvSpPr/>
                <p:nvPr/>
              </p:nvSpPr>
              <p:spPr>
                <a:xfrm>
                  <a:off x="1247760" y="37335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Přímá spojovací čára 83"/>
                <p:cNvSpPr/>
                <p:nvPr/>
              </p:nvSpPr>
              <p:spPr>
                <a:xfrm>
                  <a:off x="1252800" y="33634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Přímá spojovací čára 84"/>
                <p:cNvSpPr/>
                <p:nvPr/>
              </p:nvSpPr>
              <p:spPr>
                <a:xfrm>
                  <a:off x="1252800" y="29934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Přímá spojovací čára 85"/>
                <p:cNvSpPr/>
                <p:nvPr/>
              </p:nvSpPr>
              <p:spPr>
                <a:xfrm>
                  <a:off x="1247760" y="26233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Přímá spojovací čára 86"/>
                <p:cNvSpPr/>
                <p:nvPr/>
              </p:nvSpPr>
              <p:spPr>
                <a:xfrm>
                  <a:off x="1247760" y="22536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TextovéPole 93"/>
                <p:cNvSpPr/>
                <p:nvPr/>
              </p:nvSpPr>
              <p:spPr>
                <a:xfrm>
                  <a:off x="194688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TextovéPole 94"/>
                <p:cNvSpPr/>
                <p:nvPr/>
              </p:nvSpPr>
              <p:spPr>
                <a:xfrm>
                  <a:off x="268704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TextovéPole 95"/>
                <p:cNvSpPr/>
                <p:nvPr/>
              </p:nvSpPr>
              <p:spPr>
                <a:xfrm>
                  <a:off x="342648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TextovéPole 96"/>
                <p:cNvSpPr/>
                <p:nvPr/>
              </p:nvSpPr>
              <p:spPr>
                <a:xfrm>
                  <a:off x="416700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TextovéPole 97"/>
                <p:cNvSpPr/>
                <p:nvPr/>
              </p:nvSpPr>
              <p:spPr>
                <a:xfrm>
                  <a:off x="4814640" y="5992560"/>
                  <a:ext cx="535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extovéPole 98"/>
                <p:cNvSpPr/>
                <p:nvPr/>
              </p:nvSpPr>
              <p:spPr>
                <a:xfrm>
                  <a:off x="5528160" y="5992560"/>
                  <a:ext cx="588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TextovéPole 99"/>
                <p:cNvSpPr/>
                <p:nvPr/>
              </p:nvSpPr>
              <p:spPr>
                <a:xfrm>
                  <a:off x="1091160" y="59925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TextovéPole 104"/>
                <p:cNvSpPr/>
                <p:nvPr/>
              </p:nvSpPr>
              <p:spPr>
                <a:xfrm>
                  <a:off x="1010880" y="50446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TextovéPole 105"/>
                <p:cNvSpPr/>
                <p:nvPr/>
              </p:nvSpPr>
              <p:spPr>
                <a:xfrm>
                  <a:off x="1019160" y="430452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TextovéPole 106"/>
                <p:cNvSpPr/>
                <p:nvPr/>
              </p:nvSpPr>
              <p:spPr>
                <a:xfrm>
                  <a:off x="1010880" y="35643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ovéPole 107"/>
                <p:cNvSpPr/>
                <p:nvPr/>
              </p:nvSpPr>
              <p:spPr>
                <a:xfrm>
                  <a:off x="1018800" y="280944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" name="Přímá spojovací čára 120"/>
            <p:cNvSpPr/>
            <p:nvPr/>
          </p:nvSpPr>
          <p:spPr>
            <a:xfrm>
              <a:off x="1371600" y="2976480"/>
              <a:ext cx="4421160" cy="2965320"/>
            </a:xfrm>
            <a:prstGeom prst="line">
              <a:avLst/>
            </a:prstGeom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Elipsa 24"/>
          <p:cNvSpPr/>
          <p:nvPr/>
        </p:nvSpPr>
        <p:spPr>
          <a:xfrm rot="10800000">
            <a:off x="6553080" y="6548040"/>
            <a:ext cx="152640" cy="1522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ovéPole 123"/>
          <p:cNvSpPr/>
          <p:nvPr/>
        </p:nvSpPr>
        <p:spPr>
          <a:xfrm>
            <a:off x="6705720" y="6172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Pracovní b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ovéPole 96"/>
          <p:cNvSpPr/>
          <p:nvPr/>
        </p:nvSpPr>
        <p:spPr>
          <a:xfrm>
            <a:off x="6400800" y="52578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 = 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římá spojovací čára 98"/>
          <p:cNvSpPr/>
          <p:nvPr/>
        </p:nvSpPr>
        <p:spPr>
          <a:xfrm>
            <a:off x="5823000" y="5992920"/>
            <a:ext cx="1055520" cy="815760"/>
          </a:xfrm>
          <a:prstGeom prst="line">
            <a:avLst/>
          </a:prstGeom>
          <a:ln w="381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ovéPole 2"/>
          <p:cNvSpPr/>
          <p:nvPr/>
        </p:nvSpPr>
        <p:spPr>
          <a:xfrm>
            <a:off x="0" y="9907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je z grafu patrno, může se pracovní bod posouvat pouze do oblasti většího výstupního proudu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ovéPole 2"/>
          <p:cNvSpPr/>
          <p:nvPr/>
        </p:nvSpPr>
        <p:spPr>
          <a:xfrm>
            <a:off x="457200" y="9907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e ve třídě C se nejčastěji používají ve vysokofrekvenční technice. V nízkofrekvenční technice nemají praktické využi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ovéPole 2"/>
          <p:cNvSpPr/>
          <p:nvPr/>
        </p:nvSpPr>
        <p:spPr>
          <a:xfrm>
            <a:off x="457200" y="1447920"/>
            <a:ext cx="8305920" cy="41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de je nastaven pracovní bod zesilovače ve třídě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oblasti záporného výstupního proudu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é je nejčastější použití zesilovače ve třídě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á se ve vysokofrekvenční tech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ou část periody zesiluje zesilovač ve třídě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uje pouze špičku jedné půlperiodu vstupního sign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ovéPole 2"/>
          <p:cNvSpPr/>
          <p:nvPr/>
        </p:nvSpPr>
        <p:spPr>
          <a:xfrm>
            <a:off x="457200" y="16002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ují pouze část jedné periody (kladné nebo záporné špič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reslení signálu je ještě větší než u zesilovačů ve třídě 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ká účinnost (90%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ají se převážně ve vysokofrekvenční technice (vysílače). Většinou jsou součástí vícestupňových zesilovač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9T00:43:0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