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0CF-3109-4442-8675-5B7682A3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63C-F669-4D19-98F3-580359ED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EB0-90F5-468B-9B3B-921ED717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50B-0FA5-4E7B-86D5-933DA001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4C7-5FF5-437A-AE13-E4712680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A01-6E60-4DBB-BD67-A637838F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3D8C-8715-4275-AF3D-226FFD59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8F9-D6C5-4EE7-AD0B-19C10334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7BA-371B-49DA-8D85-96D80348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F4E-CD15-4371-A3D0-F4DECF80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E1E6-1B1A-429E-B51D-F5D84C95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172-1F9C-4280-B33B-2B2D6347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F0D7-06D5-4489-BAF8-A5C9CBCEAA6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Výstupní volt-ampérové charakteristiky a omezení pracovní oblasti tranzis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b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polovodič, tranzistor,  společný emitor, </a:t>
                      </a:r>
                      <a:br>
                        <a:rPr sz="1400"/>
                      </a:b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-ampérová charakterist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5800" y="1371600"/>
            <a:ext cx="80010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231480"/>
            <a:ext cx="85341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vytýčení pracovní oblasti tranzistoru v zapojení se společným emitor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36384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304920" y="3808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RACOVNÍ OBLAST TRANZISTORU V ZAPOJENÍ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2"/>
          <p:cNvSpPr/>
          <p:nvPr/>
        </p:nvSpPr>
        <p:spPr>
          <a:xfrm>
            <a:off x="380880" y="190512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ychom mohli tranzistor bezpečně provozovat musíme znát jeho pracovní ob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covní oblast je omezena ve výstupních charakteristikách tranzistoru 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304920" y="3808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RACOVNÍ OBLAST TRANZISTORU V ZAPOJENÍ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380880" y="19051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připomenutí tranzistor v zapojení 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2"/>
          <p:cNvSpPr/>
          <p:nvPr/>
        </p:nvSpPr>
        <p:spPr>
          <a:xfrm>
            <a:off x="533520" y="5562720"/>
            <a:ext cx="3733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stupní veličiny js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Skupina 5"/>
          <p:cNvGrpSpPr/>
          <p:nvPr/>
        </p:nvGrpSpPr>
        <p:grpSpPr>
          <a:xfrm>
            <a:off x="1447920" y="2475000"/>
            <a:ext cx="6629400" cy="2863800"/>
            <a:chOff x="1447920" y="2475000"/>
            <a:chExt cx="6629400" cy="2863800"/>
          </a:xfrm>
        </p:grpSpPr>
        <p:grpSp>
          <p:nvGrpSpPr>
            <p:cNvPr id="52" name="Skupina 75"/>
            <p:cNvGrpSpPr/>
            <p:nvPr/>
          </p:nvGrpSpPr>
          <p:grpSpPr>
            <a:xfrm>
              <a:off x="2057400" y="2935800"/>
              <a:ext cx="5257800" cy="2403000"/>
              <a:chOff x="2057400" y="2935800"/>
              <a:chExt cx="5257800" cy="2403000"/>
            </a:xfrm>
          </p:grpSpPr>
          <p:grpSp>
            <p:nvGrpSpPr>
              <p:cNvPr id="53" name="Skupina 1"/>
              <p:cNvGrpSpPr/>
              <p:nvPr/>
            </p:nvGrpSpPr>
            <p:grpSpPr>
              <a:xfrm>
                <a:off x="3809880" y="3012120"/>
                <a:ext cx="1676160" cy="2250360"/>
                <a:chOff x="3809880" y="3012120"/>
                <a:chExt cx="1676160" cy="2250360"/>
              </a:xfrm>
            </p:grpSpPr>
            <p:grpSp>
              <p:nvGrpSpPr>
                <p:cNvPr id="54" name="Skupina 3"/>
                <p:cNvGrpSpPr/>
                <p:nvPr/>
              </p:nvGrpSpPr>
              <p:grpSpPr>
                <a:xfrm>
                  <a:off x="3809880" y="3012120"/>
                  <a:ext cx="1676160" cy="2250360"/>
                  <a:chOff x="3809880" y="3012120"/>
                  <a:chExt cx="1676160" cy="2250360"/>
                </a:xfrm>
              </p:grpSpPr>
              <p:sp>
                <p:nvSpPr>
                  <p:cNvPr id="55" name="Elipsa 6"/>
                  <p:cNvSpPr/>
                  <p:nvPr/>
                </p:nvSpPr>
                <p:spPr>
                  <a:xfrm>
                    <a:off x="4267080" y="3481920"/>
                    <a:ext cx="1218960" cy="12700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Přímá spojovací čára 7"/>
                  <p:cNvSpPr/>
                  <p:nvPr/>
                </p:nvSpPr>
                <p:spPr>
                  <a:xfrm>
                    <a:off x="4571640" y="3799440"/>
                    <a:ext cx="0" cy="635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Přímá spojovací čára 8"/>
                  <p:cNvSpPr/>
                  <p:nvPr/>
                </p:nvSpPr>
                <p:spPr>
                  <a:xfrm flipV="1">
                    <a:off x="4571640" y="3667680"/>
                    <a:ext cx="735840" cy="44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Přímá spojovací čára 9"/>
                  <p:cNvSpPr/>
                  <p:nvPr/>
                </p:nvSpPr>
                <p:spPr>
                  <a:xfrm>
                    <a:off x="4571640" y="4116960"/>
                    <a:ext cx="735840" cy="44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Přímá spojovací čára 10"/>
                  <p:cNvSpPr/>
                  <p:nvPr/>
                </p:nvSpPr>
                <p:spPr>
                  <a:xfrm flipH="1">
                    <a:off x="4267080" y="411696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Přímá spojovací čára 11"/>
                  <p:cNvSpPr/>
                  <p:nvPr/>
                </p:nvSpPr>
                <p:spPr>
                  <a:xfrm>
                    <a:off x="5307480" y="3012120"/>
                    <a:ext cx="0" cy="655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Přímá spojovací čára 12"/>
                  <p:cNvSpPr/>
                  <p:nvPr/>
                </p:nvSpPr>
                <p:spPr>
                  <a:xfrm>
                    <a:off x="5307480" y="4566240"/>
                    <a:ext cx="0" cy="696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Přímá spojovací čára 13"/>
                  <p:cNvSpPr/>
                  <p:nvPr/>
                </p:nvSpPr>
                <p:spPr>
                  <a:xfrm flipH="1">
                    <a:off x="3809880" y="411696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" name="TextovéPole 3"/>
                <p:cNvSpPr/>
                <p:nvPr/>
              </p:nvSpPr>
              <p:spPr>
                <a:xfrm>
                  <a:off x="3962160" y="362160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TextovéPole 4"/>
                <p:cNvSpPr/>
                <p:nvPr/>
              </p:nvSpPr>
              <p:spPr>
                <a:xfrm>
                  <a:off x="4876560" y="30121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extovéPole 5"/>
                <p:cNvSpPr/>
                <p:nvPr/>
              </p:nvSpPr>
              <p:spPr>
                <a:xfrm>
                  <a:off x="4876560" y="468864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Skupina 28"/>
              <p:cNvGrpSpPr/>
              <p:nvPr/>
            </p:nvGrpSpPr>
            <p:grpSpPr>
              <a:xfrm>
                <a:off x="2057400" y="2935800"/>
                <a:ext cx="5257800" cy="2403000"/>
                <a:chOff x="2057400" y="2935800"/>
                <a:chExt cx="5257800" cy="2403000"/>
              </a:xfrm>
            </p:grpSpPr>
            <p:grpSp>
              <p:nvGrpSpPr>
                <p:cNvPr id="67" name="Skupina 18"/>
                <p:cNvGrpSpPr/>
                <p:nvPr/>
              </p:nvGrpSpPr>
              <p:grpSpPr>
                <a:xfrm>
                  <a:off x="2057400" y="2936160"/>
                  <a:ext cx="1218600" cy="152280"/>
                  <a:chOff x="2057400" y="2936160"/>
                  <a:chExt cx="1218600" cy="152280"/>
                </a:xfrm>
              </p:grpSpPr>
              <p:sp>
                <p:nvSpPr>
                  <p:cNvPr id="68" name="Přímá spojovací čára 49"/>
                  <p:cNvSpPr/>
                  <p:nvPr/>
                </p:nvSpPr>
                <p:spPr>
                  <a:xfrm flipH="1">
                    <a:off x="2209320" y="301212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Elipsa 50"/>
                  <p:cNvSpPr/>
                  <p:nvPr/>
                </p:nvSpPr>
                <p:spPr>
                  <a:xfrm>
                    <a:off x="2057400" y="293616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Skupina 19"/>
                <p:cNvGrpSpPr/>
                <p:nvPr/>
              </p:nvGrpSpPr>
              <p:grpSpPr>
                <a:xfrm>
                  <a:off x="2057400" y="5186520"/>
                  <a:ext cx="1218600" cy="152280"/>
                  <a:chOff x="2057400" y="5186520"/>
                  <a:chExt cx="1218600" cy="152280"/>
                </a:xfrm>
              </p:grpSpPr>
              <p:sp>
                <p:nvSpPr>
                  <p:cNvPr id="71" name="Přímá spojovací čára 47"/>
                  <p:cNvSpPr/>
                  <p:nvPr/>
                </p:nvSpPr>
                <p:spPr>
                  <a:xfrm flipH="1">
                    <a:off x="2209320" y="526248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Elipsa 21"/>
                  <p:cNvSpPr/>
                  <p:nvPr/>
                </p:nvSpPr>
                <p:spPr>
                  <a:xfrm>
                    <a:off x="2057400" y="518652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Skupina 22"/>
                <p:cNvGrpSpPr/>
                <p:nvPr/>
              </p:nvGrpSpPr>
              <p:grpSpPr>
                <a:xfrm>
                  <a:off x="6096600" y="2935800"/>
                  <a:ext cx="1218600" cy="152280"/>
                  <a:chOff x="6096600" y="2935800"/>
                  <a:chExt cx="1218600" cy="152280"/>
                </a:xfrm>
              </p:grpSpPr>
              <p:sp>
                <p:nvSpPr>
                  <p:cNvPr id="74" name="Přímá spojovací čára 23"/>
                  <p:cNvSpPr/>
                  <p:nvPr/>
                </p:nvSpPr>
                <p:spPr>
                  <a:xfrm>
                    <a:off x="6096600" y="301212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Elipsa 24"/>
                  <p:cNvSpPr/>
                  <p:nvPr/>
                </p:nvSpPr>
                <p:spPr>
                  <a:xfrm rot="10800000">
                    <a:off x="7162920" y="293580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Skupina 25"/>
                <p:cNvGrpSpPr/>
                <p:nvPr/>
              </p:nvGrpSpPr>
              <p:grpSpPr>
                <a:xfrm>
                  <a:off x="6096600" y="5186160"/>
                  <a:ext cx="1218600" cy="152280"/>
                  <a:chOff x="6096600" y="5186160"/>
                  <a:chExt cx="1218600" cy="152280"/>
                </a:xfrm>
              </p:grpSpPr>
              <p:sp>
                <p:nvSpPr>
                  <p:cNvPr id="77" name="Přímá spojovací čára 43"/>
                  <p:cNvSpPr/>
                  <p:nvPr/>
                </p:nvSpPr>
                <p:spPr>
                  <a:xfrm>
                    <a:off x="6096600" y="526248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Elipsa 44"/>
                  <p:cNvSpPr/>
                  <p:nvPr/>
                </p:nvSpPr>
                <p:spPr>
                  <a:xfrm rot="10800000">
                    <a:off x="7162920" y="518616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" name="Přímá spojovací čára 33"/>
              <p:cNvSpPr/>
              <p:nvPr/>
            </p:nvSpPr>
            <p:spPr>
              <a:xfrm>
                <a:off x="3276360" y="5262840"/>
                <a:ext cx="281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Přímá spojovací čára 34"/>
              <p:cNvSpPr/>
              <p:nvPr/>
            </p:nvSpPr>
            <p:spPr>
              <a:xfrm flipH="1">
                <a:off x="5307480" y="3012120"/>
                <a:ext cx="788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Přímá spojovací čára 35"/>
              <p:cNvSpPr/>
              <p:nvPr/>
            </p:nvSpPr>
            <p:spPr>
              <a:xfrm flipV="1">
                <a:off x="3809880" y="3011760"/>
                <a:ext cx="0" cy="110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Přímá spojovací čára 36"/>
              <p:cNvSpPr/>
              <p:nvPr/>
            </p:nvSpPr>
            <p:spPr>
              <a:xfrm flipH="1">
                <a:off x="3123720" y="30121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Elipsa 37"/>
              <p:cNvSpPr/>
              <p:nvPr/>
            </p:nvSpPr>
            <p:spPr>
              <a:xfrm>
                <a:off x="5231520" y="51505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Skupina 64"/>
            <p:cNvGrpSpPr/>
            <p:nvPr/>
          </p:nvGrpSpPr>
          <p:grpSpPr>
            <a:xfrm>
              <a:off x="5486040" y="4567320"/>
              <a:ext cx="609840" cy="584280"/>
              <a:chOff x="5486040" y="4567320"/>
              <a:chExt cx="609840" cy="584280"/>
            </a:xfrm>
          </p:grpSpPr>
          <p:cxnSp>
            <p:nvCxnSpPr>
              <p:cNvPr id="85" name="Přímá spojovací šipka 21"/>
              <p:cNvCxnSpPr/>
              <p:nvPr/>
            </p:nvCxnSpPr>
            <p:spPr>
              <a:xfrm>
                <a:off x="5486040" y="4567320"/>
                <a:ext cx="1080" cy="5846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86" name="TextovéPole 26"/>
              <p:cNvSpPr/>
              <p:nvPr/>
            </p:nvSpPr>
            <p:spPr>
              <a:xfrm>
                <a:off x="5486400" y="45673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Skupina 67"/>
            <p:cNvGrpSpPr/>
            <p:nvPr/>
          </p:nvGrpSpPr>
          <p:grpSpPr>
            <a:xfrm>
              <a:off x="6324120" y="2475000"/>
              <a:ext cx="838800" cy="510120"/>
              <a:chOff x="6324120" y="2475000"/>
              <a:chExt cx="838800" cy="510120"/>
            </a:xfrm>
          </p:grpSpPr>
          <p:cxnSp>
            <p:nvCxnSpPr>
              <p:cNvPr id="88" name="Přímá spojovací šipka 23"/>
              <p:cNvCxnSpPr/>
              <p:nvPr/>
            </p:nvCxnSpPr>
            <p:spPr>
              <a:xfrm flipH="1">
                <a:off x="6324120" y="2936520"/>
                <a:ext cx="6102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89" name="TextovéPole 27"/>
              <p:cNvSpPr/>
              <p:nvPr/>
            </p:nvSpPr>
            <p:spPr>
              <a:xfrm>
                <a:off x="6553440" y="247500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Skupina 65"/>
            <p:cNvGrpSpPr/>
            <p:nvPr/>
          </p:nvGrpSpPr>
          <p:grpSpPr>
            <a:xfrm>
              <a:off x="2438280" y="2475000"/>
              <a:ext cx="609480" cy="510120"/>
              <a:chOff x="2438280" y="2475000"/>
              <a:chExt cx="609480" cy="510120"/>
            </a:xfrm>
          </p:grpSpPr>
          <p:cxnSp>
            <p:nvCxnSpPr>
              <p:cNvPr id="91" name="Přímá spojovací šipka 22"/>
              <p:cNvCxnSpPr/>
              <p:nvPr/>
            </p:nvCxnSpPr>
            <p:spPr>
              <a:xfrm>
                <a:off x="2438280" y="2936520"/>
                <a:ext cx="5342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92" name="TextovéPole 28"/>
              <p:cNvSpPr/>
              <p:nvPr/>
            </p:nvSpPr>
            <p:spPr>
              <a:xfrm>
                <a:off x="2438280" y="247500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Skupina 66"/>
            <p:cNvGrpSpPr/>
            <p:nvPr/>
          </p:nvGrpSpPr>
          <p:grpSpPr>
            <a:xfrm>
              <a:off x="1447920" y="3182760"/>
              <a:ext cx="761760" cy="1968840"/>
              <a:chOff x="1447920" y="3182760"/>
              <a:chExt cx="761760" cy="1968840"/>
            </a:xfrm>
          </p:grpSpPr>
          <p:cxnSp>
            <p:nvCxnSpPr>
              <p:cNvPr id="94" name="Přímá spojovací šipka 25"/>
              <p:cNvCxnSpPr/>
              <p:nvPr/>
            </p:nvCxnSpPr>
            <p:spPr>
              <a:xfrm>
                <a:off x="2057040" y="3182760"/>
                <a:ext cx="1080" cy="19692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95" name="TextovéPole 29"/>
              <p:cNvSpPr/>
              <p:nvPr/>
            </p:nvSpPr>
            <p:spPr>
              <a:xfrm>
                <a:off x="1447920" y="3853440"/>
                <a:ext cx="761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Skupina 68"/>
            <p:cNvGrpSpPr/>
            <p:nvPr/>
          </p:nvGrpSpPr>
          <p:grpSpPr>
            <a:xfrm>
              <a:off x="7315200" y="3182760"/>
              <a:ext cx="762120" cy="1968840"/>
              <a:chOff x="7315200" y="3182760"/>
              <a:chExt cx="762120" cy="1968840"/>
            </a:xfrm>
          </p:grpSpPr>
          <p:cxnSp>
            <p:nvCxnSpPr>
              <p:cNvPr id="97" name="Přímá spojovací šipka 24"/>
              <p:cNvCxnSpPr/>
              <p:nvPr/>
            </p:nvCxnSpPr>
            <p:spPr>
              <a:xfrm>
                <a:off x="7315200" y="3182760"/>
                <a:ext cx="1080" cy="19692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98" name="TextovéPole 30"/>
              <p:cNvSpPr/>
              <p:nvPr/>
            </p:nvSpPr>
            <p:spPr>
              <a:xfrm>
                <a:off x="7315560" y="3853440"/>
                <a:ext cx="761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ovéPole 2"/>
          <p:cNvSpPr/>
          <p:nvPr/>
        </p:nvSpPr>
        <p:spPr>
          <a:xfrm>
            <a:off x="4952880" y="5562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ní veličiny js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2"/>
          <p:cNvSpPr/>
          <p:nvPr/>
        </p:nvSpPr>
        <p:spPr>
          <a:xfrm>
            <a:off x="4952880" y="5943600"/>
            <a:ext cx="373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ÝSTUPNÍ V-A CHAR. TR.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římá spojovací čára 74"/>
          <p:cNvSpPr/>
          <p:nvPr/>
        </p:nvSpPr>
        <p:spPr>
          <a:xfrm>
            <a:off x="316080" y="5378400"/>
            <a:ext cx="6053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77"/>
          <p:cNvSpPr/>
          <p:nvPr/>
        </p:nvSpPr>
        <p:spPr>
          <a:xfrm>
            <a:off x="316080" y="831960"/>
            <a:ext cx="0" cy="454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80"/>
          <p:cNvSpPr/>
          <p:nvPr/>
        </p:nvSpPr>
        <p:spPr>
          <a:xfrm>
            <a:off x="316080" y="83196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83"/>
          <p:cNvSpPr/>
          <p:nvPr/>
        </p:nvSpPr>
        <p:spPr>
          <a:xfrm>
            <a:off x="6095880" y="537840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86"/>
          <p:cNvSpPr/>
          <p:nvPr/>
        </p:nvSpPr>
        <p:spPr>
          <a:xfrm>
            <a:off x="6095880" y="317016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Přímá spojovací šipka 89"/>
          <p:cNvCxnSpPr/>
          <p:nvPr/>
        </p:nvCxnSpPr>
        <p:spPr>
          <a:xfrm>
            <a:off x="6095520" y="3170160"/>
            <a:ext cx="1080" cy="65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108" name="Skupina 38"/>
          <p:cNvGrpSpPr/>
          <p:nvPr/>
        </p:nvGrpSpPr>
        <p:grpSpPr>
          <a:xfrm>
            <a:off x="304920" y="1676520"/>
            <a:ext cx="5383080" cy="3690720"/>
            <a:chOff x="304920" y="1676520"/>
            <a:chExt cx="5383080" cy="3690720"/>
          </a:xfrm>
        </p:grpSpPr>
        <p:sp>
          <p:nvSpPr>
            <p:cNvPr id="109" name="Volný tvar 105"/>
            <p:cNvSpPr/>
            <p:nvPr/>
          </p:nvSpPr>
          <p:spPr>
            <a:xfrm>
              <a:off x="304920" y="1676520"/>
              <a:ext cx="2243880" cy="3690720"/>
            </a:xfrm>
            <a:custGeom>
              <a:avLst/>
              <a:gdLst>
                <a:gd name="textAreaLeft" fmla="*/ 0 w 2243880"/>
                <a:gd name="textAreaRight" fmla="*/ 2244240 w 2243880"/>
                <a:gd name="textAreaTop" fmla="*/ 0 h 3690720"/>
                <a:gd name="textAreaBottom" fmla="*/ 3691080 h 369072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římá spojovací čára 106"/>
            <p:cNvSpPr/>
            <p:nvPr/>
          </p:nvSpPr>
          <p:spPr>
            <a:xfrm>
              <a:off x="2548800" y="1676520"/>
              <a:ext cx="313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Skupina 39"/>
          <p:cNvGrpSpPr/>
          <p:nvPr/>
        </p:nvGrpSpPr>
        <p:grpSpPr>
          <a:xfrm>
            <a:off x="316080" y="3170160"/>
            <a:ext cx="5371920" cy="2192400"/>
            <a:chOff x="316080" y="3170160"/>
            <a:chExt cx="5371920" cy="2192400"/>
          </a:xfrm>
        </p:grpSpPr>
        <p:sp>
          <p:nvSpPr>
            <p:cNvPr id="112" name="Volný tvar 108"/>
            <p:cNvSpPr/>
            <p:nvPr/>
          </p:nvSpPr>
          <p:spPr>
            <a:xfrm>
              <a:off x="316080" y="3170160"/>
              <a:ext cx="2239200" cy="2192400"/>
            </a:xfrm>
            <a:custGeom>
              <a:avLst/>
              <a:gdLst>
                <a:gd name="textAreaLeft" fmla="*/ 0 w 2239200"/>
                <a:gd name="textAreaRight" fmla="*/ 2239560 w 2239200"/>
                <a:gd name="textAreaTop" fmla="*/ 0 h 2192400"/>
                <a:gd name="textAreaBottom" fmla="*/ 2192760 h 219240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Přímá spojovací čára 109"/>
            <p:cNvSpPr/>
            <p:nvPr/>
          </p:nvSpPr>
          <p:spPr>
            <a:xfrm>
              <a:off x="2555280" y="3170160"/>
              <a:ext cx="313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Skupina 42"/>
          <p:cNvGrpSpPr/>
          <p:nvPr/>
        </p:nvGrpSpPr>
        <p:grpSpPr>
          <a:xfrm>
            <a:off x="304920" y="2651040"/>
            <a:ext cx="5395680" cy="2727360"/>
            <a:chOff x="304920" y="2651040"/>
            <a:chExt cx="5395680" cy="2727360"/>
          </a:xfrm>
        </p:grpSpPr>
        <p:sp>
          <p:nvSpPr>
            <p:cNvPr id="115" name="Volný tvar 111"/>
            <p:cNvSpPr/>
            <p:nvPr/>
          </p:nvSpPr>
          <p:spPr>
            <a:xfrm>
              <a:off x="304920" y="2651040"/>
              <a:ext cx="2249280" cy="2727360"/>
            </a:xfrm>
            <a:custGeom>
              <a:avLst/>
              <a:gdLst>
                <a:gd name="textAreaLeft" fmla="*/ 0 w 2249280"/>
                <a:gd name="textAreaRight" fmla="*/ 2249640 w 2249280"/>
                <a:gd name="textAreaTop" fmla="*/ 0 h 2727360"/>
                <a:gd name="textAreaBottom" fmla="*/ 2727720 h 272736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Přímá spojovací čára 112"/>
            <p:cNvSpPr/>
            <p:nvPr/>
          </p:nvSpPr>
          <p:spPr>
            <a:xfrm>
              <a:off x="2554200" y="2651040"/>
              <a:ext cx="314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Skupina 45"/>
          <p:cNvGrpSpPr/>
          <p:nvPr/>
        </p:nvGrpSpPr>
        <p:grpSpPr>
          <a:xfrm>
            <a:off x="316080" y="2130480"/>
            <a:ext cx="5371920" cy="3247920"/>
            <a:chOff x="316080" y="2130480"/>
            <a:chExt cx="5371920" cy="3247920"/>
          </a:xfrm>
        </p:grpSpPr>
        <p:sp>
          <p:nvSpPr>
            <p:cNvPr id="118" name="Volný tvar 114"/>
            <p:cNvSpPr/>
            <p:nvPr/>
          </p:nvSpPr>
          <p:spPr>
            <a:xfrm>
              <a:off x="316080" y="2130480"/>
              <a:ext cx="2239200" cy="3247920"/>
            </a:xfrm>
            <a:custGeom>
              <a:avLst/>
              <a:gdLst>
                <a:gd name="textAreaLeft" fmla="*/ 0 w 2239200"/>
                <a:gd name="textAreaRight" fmla="*/ 2239560 w 2239200"/>
                <a:gd name="textAreaTop" fmla="*/ 0 h 3247920"/>
                <a:gd name="textAreaBottom" fmla="*/ 3248280 h 324792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Přímá spojovací čára 115"/>
            <p:cNvSpPr/>
            <p:nvPr/>
          </p:nvSpPr>
          <p:spPr>
            <a:xfrm>
              <a:off x="2555280" y="2130480"/>
              <a:ext cx="313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Skupina 51"/>
          <p:cNvGrpSpPr/>
          <p:nvPr/>
        </p:nvGrpSpPr>
        <p:grpSpPr>
          <a:xfrm>
            <a:off x="316080" y="4340160"/>
            <a:ext cx="5384520" cy="1038240"/>
            <a:chOff x="316080" y="4340160"/>
            <a:chExt cx="5384520" cy="1038240"/>
          </a:xfrm>
        </p:grpSpPr>
        <p:sp>
          <p:nvSpPr>
            <p:cNvPr id="121" name="Volný tvar 120"/>
            <p:cNvSpPr/>
            <p:nvPr/>
          </p:nvSpPr>
          <p:spPr>
            <a:xfrm>
              <a:off x="316080" y="4340160"/>
              <a:ext cx="2244600" cy="1038240"/>
            </a:xfrm>
            <a:custGeom>
              <a:avLst/>
              <a:gdLst>
                <a:gd name="textAreaLeft" fmla="*/ 0 w 2244600"/>
                <a:gd name="textAreaRight" fmla="*/ 2244960 w 22446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Přímá spojovací čára 121"/>
            <p:cNvSpPr/>
            <p:nvPr/>
          </p:nvSpPr>
          <p:spPr>
            <a:xfrm>
              <a:off x="2560680" y="4340160"/>
              <a:ext cx="313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Skupina 54"/>
          <p:cNvGrpSpPr/>
          <p:nvPr/>
        </p:nvGrpSpPr>
        <p:grpSpPr>
          <a:xfrm>
            <a:off x="316080" y="3701880"/>
            <a:ext cx="5371920" cy="1676520"/>
            <a:chOff x="316080" y="3701880"/>
            <a:chExt cx="5371920" cy="1676520"/>
          </a:xfrm>
        </p:grpSpPr>
        <p:sp>
          <p:nvSpPr>
            <p:cNvPr id="124" name="Volný tvar 123"/>
            <p:cNvSpPr/>
            <p:nvPr/>
          </p:nvSpPr>
          <p:spPr>
            <a:xfrm>
              <a:off x="316080" y="3701880"/>
              <a:ext cx="2239200" cy="1676520"/>
            </a:xfrm>
            <a:custGeom>
              <a:avLst/>
              <a:gdLst>
                <a:gd name="textAreaLeft" fmla="*/ 0 w 2239200"/>
                <a:gd name="textAreaRight" fmla="*/ 2239560 w 2239200"/>
                <a:gd name="textAreaTop" fmla="*/ 0 h 1676520"/>
                <a:gd name="textAreaBottom" fmla="*/ 1676880 h 167652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Přímá spojovací čára 124"/>
            <p:cNvSpPr/>
            <p:nvPr/>
          </p:nvSpPr>
          <p:spPr>
            <a:xfrm>
              <a:off x="2555280" y="3701880"/>
              <a:ext cx="313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Skupina 48"/>
          <p:cNvGrpSpPr/>
          <p:nvPr/>
        </p:nvGrpSpPr>
        <p:grpSpPr>
          <a:xfrm>
            <a:off x="304920" y="5029200"/>
            <a:ext cx="5383080" cy="325440"/>
            <a:chOff x="304920" y="5029200"/>
            <a:chExt cx="5383080" cy="325440"/>
          </a:xfrm>
        </p:grpSpPr>
        <p:sp>
          <p:nvSpPr>
            <p:cNvPr id="127" name="Volný tvar 134"/>
            <p:cNvSpPr/>
            <p:nvPr/>
          </p:nvSpPr>
          <p:spPr>
            <a:xfrm>
              <a:off x="304920" y="5029200"/>
              <a:ext cx="2243880" cy="325440"/>
            </a:xfrm>
            <a:custGeom>
              <a:avLst/>
              <a:gdLst>
                <a:gd name="textAreaLeft" fmla="*/ 0 w 2243880"/>
                <a:gd name="textAreaRight" fmla="*/ 2244240 w 22438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Přímá spojovací čára 135"/>
            <p:cNvSpPr/>
            <p:nvPr/>
          </p:nvSpPr>
          <p:spPr>
            <a:xfrm>
              <a:off x="2548800" y="5029200"/>
              <a:ext cx="313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blouk 48"/>
          <p:cNvSpPr/>
          <p:nvPr/>
        </p:nvSpPr>
        <p:spPr>
          <a:xfrm rot="10800000">
            <a:off x="2438280" y="-1981440"/>
            <a:ext cx="7010640" cy="6553080"/>
          </a:xfrm>
          <a:custGeom>
            <a:avLst/>
            <a:gdLst>
              <a:gd name="textAreaLeft" fmla="*/ 3505320 w 7010640"/>
              <a:gd name="textAreaRight" fmla="*/ 7011000 w 7010640"/>
              <a:gd name="textAreaTop" fmla="*/ 0 h 6553080"/>
              <a:gd name="textAreaBottom" fmla="*/ 3276720 h 6553080"/>
            </a:gdLst>
            <a:ahLst/>
            <a:rect l="textAreaLeft" t="textAreaTop" r="textAreaRight" b="textAreaBottom"/>
            <a:pathLst>
              <a:path stroke="0" w="7010400" h="6553200">
                <a:moveTo>
                  <a:pt x="3505204" y="0"/>
                </a:moveTo>
                <a:lnTo>
                  <a:pt x="3505204" y="0"/>
                </a:lnTo>
                <a:arcTo wR="3505200" hR="3276600" stAng="-5399996" swAng="5400004"/>
                <a:lnTo>
                  <a:pt x="3505200" y="3276600"/>
                </a:lnTo>
                <a:close/>
              </a:path>
              <a:path fill="none" w="7010400" h="6553200">
                <a:moveTo>
                  <a:pt x="3505204" y="0"/>
                </a:moveTo>
                <a:lnTo>
                  <a:pt x="3505204" y="0"/>
                </a:lnTo>
                <a:arcTo wR="3505200" hR="3276600" stAng="-5399996" swAng="5400004"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blouk 41"/>
          <p:cNvSpPr/>
          <p:nvPr/>
        </p:nvSpPr>
        <p:spPr>
          <a:xfrm rot="10800000">
            <a:off x="2438280" y="-1981440"/>
            <a:ext cx="7010640" cy="6553080"/>
          </a:xfrm>
          <a:custGeom>
            <a:avLst/>
            <a:gdLst>
              <a:gd name="textAreaLeft" fmla="*/ 3505320 w 7010640"/>
              <a:gd name="textAreaRight" fmla="*/ 7011000 w 7010640"/>
              <a:gd name="textAreaTop" fmla="*/ 0 h 6553080"/>
              <a:gd name="textAreaBottom" fmla="*/ 3276720 h 6553080"/>
            </a:gdLst>
            <a:ahLst/>
            <a:rect l="textAreaLeft" t="textAreaTop" r="textAreaRight" b="textAreaBottom"/>
            <a:pathLst>
              <a:path stroke="0" w="7010400" h="6553200">
                <a:moveTo>
                  <a:pt x="3505204" y="0"/>
                </a:moveTo>
                <a:lnTo>
                  <a:pt x="3505204" y="0"/>
                </a:lnTo>
                <a:arcTo wR="3505200" hR="3276600" stAng="-5399996" swAng="5400004"/>
                <a:lnTo>
                  <a:pt x="3505200" y="3276600"/>
                </a:lnTo>
                <a:close/>
              </a:path>
              <a:path fill="none" w="7010400" h="6553200">
                <a:moveTo>
                  <a:pt x="3505204" y="0"/>
                </a:moveTo>
                <a:lnTo>
                  <a:pt x="3505204" y="0"/>
                </a:lnTo>
                <a:arcTo wR="3505200" hR="3276600" stAng="-5399996" swAng="5400004"/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Volný tvar 129"/>
          <p:cNvSpPr/>
          <p:nvPr/>
        </p:nvSpPr>
        <p:spPr>
          <a:xfrm>
            <a:off x="309600" y="5029200"/>
            <a:ext cx="5317920" cy="372960"/>
          </a:xfrm>
          <a:custGeom>
            <a:avLst/>
            <a:gdLst/>
            <a:ahLst/>
            <a:rect l="l" t="t" r="r" b="b"/>
            <a:pathLst>
              <a:path w="5317588" h="562708">
                <a:moveTo>
                  <a:pt x="0" y="562708"/>
                </a:moveTo>
                <a:cubicBezTo>
                  <a:pt x="240323" y="327074"/>
                  <a:pt x="87923" y="91440"/>
                  <a:pt x="985911" y="0"/>
                </a:cubicBezTo>
                <a:lnTo>
                  <a:pt x="5317588" y="0"/>
                </a:lnTo>
                <a:lnTo>
                  <a:pt x="5317588" y="506437"/>
                </a:lnTo>
                <a:lnTo>
                  <a:pt x="0" y="562708"/>
                </a:lnTo>
                <a:close/>
              </a:path>
            </a:pathLst>
          </a:custGeom>
          <a:solidFill>
            <a:srgbClr val="a3a3e0"/>
          </a:solidFill>
          <a:ln w="255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bdélník 34"/>
          <p:cNvSpPr/>
          <p:nvPr/>
        </p:nvSpPr>
        <p:spPr>
          <a:xfrm>
            <a:off x="5562720" y="4876920"/>
            <a:ext cx="304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47"/>
          <p:cNvSpPr/>
          <p:nvPr/>
        </p:nvSpPr>
        <p:spPr>
          <a:xfrm>
            <a:off x="5410080" y="1371600"/>
            <a:ext cx="533520" cy="40384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Skupina 36"/>
          <p:cNvGrpSpPr/>
          <p:nvPr/>
        </p:nvGrpSpPr>
        <p:grpSpPr>
          <a:xfrm>
            <a:off x="0" y="625320"/>
            <a:ext cx="1523880" cy="4795920"/>
            <a:chOff x="0" y="625320"/>
            <a:chExt cx="1523880" cy="4795920"/>
          </a:xfrm>
        </p:grpSpPr>
        <p:sp>
          <p:nvSpPr>
            <p:cNvPr id="135" name="Volný tvar 32"/>
            <p:cNvSpPr/>
            <p:nvPr/>
          </p:nvSpPr>
          <p:spPr>
            <a:xfrm>
              <a:off x="295200" y="625320"/>
              <a:ext cx="909720" cy="4795920"/>
            </a:xfrm>
            <a:custGeom>
              <a:avLst/>
              <a:gdLst/>
              <a:ahLst/>
              <a:rect l="l" t="t" r="r" b="b"/>
              <a:pathLst>
                <a:path w="909710" h="4794738">
                  <a:moveTo>
                    <a:pt x="0" y="4761914"/>
                  </a:moveTo>
                  <a:cubicBezTo>
                    <a:pt x="158261" y="4778326"/>
                    <a:pt x="316522" y="4794738"/>
                    <a:pt x="464233" y="4072597"/>
                  </a:cubicBezTo>
                  <a:cubicBezTo>
                    <a:pt x="611944" y="3350456"/>
                    <a:pt x="909710" y="1038665"/>
                    <a:pt x="886264" y="429065"/>
                  </a:cubicBezTo>
                  <a:cubicBezTo>
                    <a:pt x="595532" y="438443"/>
                    <a:pt x="154744" y="0"/>
                    <a:pt x="14067" y="457200"/>
                  </a:cubicBezTo>
                </a:path>
              </a:pathLst>
            </a:custGeom>
            <a:solidFill>
              <a:srgbClr val="a3a3e0"/>
            </a:solidFill>
            <a:ln w="25560">
              <a:solidFill>
                <a:srgbClr val="7030a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bdélník 33"/>
            <p:cNvSpPr/>
            <p:nvPr/>
          </p:nvSpPr>
          <p:spPr>
            <a:xfrm>
              <a:off x="0" y="761040"/>
              <a:ext cx="15238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Obdélník 46"/>
          <p:cNvSpPr/>
          <p:nvPr/>
        </p:nvSpPr>
        <p:spPr>
          <a:xfrm>
            <a:off x="304920" y="1219320"/>
            <a:ext cx="5638680" cy="6094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ÝSTUPNÍ V-A CHAR. TR.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římá spojovací čára 74"/>
          <p:cNvSpPr/>
          <p:nvPr/>
        </p:nvSpPr>
        <p:spPr>
          <a:xfrm>
            <a:off x="316080" y="5378400"/>
            <a:ext cx="6053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římá spojovací čára 77"/>
          <p:cNvSpPr/>
          <p:nvPr/>
        </p:nvSpPr>
        <p:spPr>
          <a:xfrm>
            <a:off x="316080" y="831960"/>
            <a:ext cx="0" cy="454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ovéPole 80"/>
          <p:cNvSpPr/>
          <p:nvPr/>
        </p:nvSpPr>
        <p:spPr>
          <a:xfrm>
            <a:off x="316080" y="83196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véPole 83"/>
          <p:cNvSpPr/>
          <p:nvPr/>
        </p:nvSpPr>
        <p:spPr>
          <a:xfrm>
            <a:off x="6095880" y="537840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ovéPole 86"/>
          <p:cNvSpPr/>
          <p:nvPr/>
        </p:nvSpPr>
        <p:spPr>
          <a:xfrm>
            <a:off x="6095880" y="317016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Přímá spojovací šipka 89"/>
          <p:cNvCxnSpPr/>
          <p:nvPr/>
        </p:nvCxnSpPr>
        <p:spPr>
          <a:xfrm>
            <a:off x="6095520" y="3170160"/>
            <a:ext cx="1080" cy="65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145" name="Skupina 38"/>
          <p:cNvGrpSpPr/>
          <p:nvPr/>
        </p:nvGrpSpPr>
        <p:grpSpPr>
          <a:xfrm>
            <a:off x="304920" y="1676520"/>
            <a:ext cx="5383080" cy="3690720"/>
            <a:chOff x="304920" y="1676520"/>
            <a:chExt cx="5383080" cy="3690720"/>
          </a:xfrm>
        </p:grpSpPr>
        <p:sp>
          <p:nvSpPr>
            <p:cNvPr id="146" name="Volný tvar 105"/>
            <p:cNvSpPr/>
            <p:nvPr/>
          </p:nvSpPr>
          <p:spPr>
            <a:xfrm>
              <a:off x="304920" y="1676520"/>
              <a:ext cx="2243880" cy="3690720"/>
            </a:xfrm>
            <a:custGeom>
              <a:avLst/>
              <a:gdLst>
                <a:gd name="textAreaLeft" fmla="*/ 0 w 2243880"/>
                <a:gd name="textAreaRight" fmla="*/ 2244240 w 2243880"/>
                <a:gd name="textAreaTop" fmla="*/ 0 h 3690720"/>
                <a:gd name="textAreaBottom" fmla="*/ 3691080 h 369072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Přímá spojovací čára 106"/>
            <p:cNvSpPr/>
            <p:nvPr/>
          </p:nvSpPr>
          <p:spPr>
            <a:xfrm>
              <a:off x="2548800" y="1676520"/>
              <a:ext cx="313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Skupina 39"/>
          <p:cNvGrpSpPr/>
          <p:nvPr/>
        </p:nvGrpSpPr>
        <p:grpSpPr>
          <a:xfrm>
            <a:off x="316080" y="3170160"/>
            <a:ext cx="5371920" cy="2192400"/>
            <a:chOff x="316080" y="3170160"/>
            <a:chExt cx="5371920" cy="2192400"/>
          </a:xfrm>
        </p:grpSpPr>
        <p:sp>
          <p:nvSpPr>
            <p:cNvPr id="149" name="Volný tvar 108"/>
            <p:cNvSpPr/>
            <p:nvPr/>
          </p:nvSpPr>
          <p:spPr>
            <a:xfrm>
              <a:off x="316080" y="3170160"/>
              <a:ext cx="2239200" cy="2192400"/>
            </a:xfrm>
            <a:custGeom>
              <a:avLst/>
              <a:gdLst>
                <a:gd name="textAreaLeft" fmla="*/ 0 w 2239200"/>
                <a:gd name="textAreaRight" fmla="*/ 2239560 w 2239200"/>
                <a:gd name="textAreaTop" fmla="*/ 0 h 2192400"/>
                <a:gd name="textAreaBottom" fmla="*/ 2192760 h 219240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Přímá spojovací čára 109"/>
            <p:cNvSpPr/>
            <p:nvPr/>
          </p:nvSpPr>
          <p:spPr>
            <a:xfrm>
              <a:off x="2555280" y="3170160"/>
              <a:ext cx="313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Skupina 42"/>
          <p:cNvGrpSpPr/>
          <p:nvPr/>
        </p:nvGrpSpPr>
        <p:grpSpPr>
          <a:xfrm>
            <a:off x="304920" y="2651040"/>
            <a:ext cx="5395680" cy="2727360"/>
            <a:chOff x="304920" y="2651040"/>
            <a:chExt cx="5395680" cy="2727360"/>
          </a:xfrm>
        </p:grpSpPr>
        <p:sp>
          <p:nvSpPr>
            <p:cNvPr id="152" name="Volný tvar 111"/>
            <p:cNvSpPr/>
            <p:nvPr/>
          </p:nvSpPr>
          <p:spPr>
            <a:xfrm>
              <a:off x="304920" y="2651040"/>
              <a:ext cx="2249280" cy="2727360"/>
            </a:xfrm>
            <a:custGeom>
              <a:avLst/>
              <a:gdLst>
                <a:gd name="textAreaLeft" fmla="*/ 0 w 2249280"/>
                <a:gd name="textAreaRight" fmla="*/ 2249640 w 2249280"/>
                <a:gd name="textAreaTop" fmla="*/ 0 h 2727360"/>
                <a:gd name="textAreaBottom" fmla="*/ 2727720 h 272736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Přímá spojovací čára 112"/>
            <p:cNvSpPr/>
            <p:nvPr/>
          </p:nvSpPr>
          <p:spPr>
            <a:xfrm>
              <a:off x="2554200" y="2651040"/>
              <a:ext cx="314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Skupina 45"/>
          <p:cNvGrpSpPr/>
          <p:nvPr/>
        </p:nvGrpSpPr>
        <p:grpSpPr>
          <a:xfrm>
            <a:off x="316080" y="2130480"/>
            <a:ext cx="5371920" cy="3247920"/>
            <a:chOff x="316080" y="2130480"/>
            <a:chExt cx="5371920" cy="3247920"/>
          </a:xfrm>
        </p:grpSpPr>
        <p:sp>
          <p:nvSpPr>
            <p:cNvPr id="155" name="Volný tvar 114"/>
            <p:cNvSpPr/>
            <p:nvPr/>
          </p:nvSpPr>
          <p:spPr>
            <a:xfrm>
              <a:off x="316080" y="2130480"/>
              <a:ext cx="2239200" cy="3247920"/>
            </a:xfrm>
            <a:custGeom>
              <a:avLst/>
              <a:gdLst>
                <a:gd name="textAreaLeft" fmla="*/ 0 w 2239200"/>
                <a:gd name="textAreaRight" fmla="*/ 2239560 w 2239200"/>
                <a:gd name="textAreaTop" fmla="*/ 0 h 3247920"/>
                <a:gd name="textAreaBottom" fmla="*/ 3248280 h 324792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římá spojovací čára 115"/>
            <p:cNvSpPr/>
            <p:nvPr/>
          </p:nvSpPr>
          <p:spPr>
            <a:xfrm>
              <a:off x="2555280" y="2130480"/>
              <a:ext cx="313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Skupina 54"/>
          <p:cNvGrpSpPr/>
          <p:nvPr/>
        </p:nvGrpSpPr>
        <p:grpSpPr>
          <a:xfrm>
            <a:off x="316080" y="3701880"/>
            <a:ext cx="5371920" cy="1676520"/>
            <a:chOff x="316080" y="3701880"/>
            <a:chExt cx="5371920" cy="1676520"/>
          </a:xfrm>
        </p:grpSpPr>
        <p:sp>
          <p:nvSpPr>
            <p:cNvPr id="158" name="Volný tvar 123"/>
            <p:cNvSpPr/>
            <p:nvPr/>
          </p:nvSpPr>
          <p:spPr>
            <a:xfrm>
              <a:off x="316080" y="3701880"/>
              <a:ext cx="2239200" cy="1676520"/>
            </a:xfrm>
            <a:custGeom>
              <a:avLst/>
              <a:gdLst>
                <a:gd name="textAreaLeft" fmla="*/ 0 w 2239200"/>
                <a:gd name="textAreaRight" fmla="*/ 2239560 w 2239200"/>
                <a:gd name="textAreaTop" fmla="*/ 0 h 1676520"/>
                <a:gd name="textAreaBottom" fmla="*/ 1676880 h 167652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Přímá spojovací čára 124"/>
            <p:cNvSpPr/>
            <p:nvPr/>
          </p:nvSpPr>
          <p:spPr>
            <a:xfrm>
              <a:off x="2555280" y="3701880"/>
              <a:ext cx="313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ovéPole 125"/>
          <p:cNvSpPr/>
          <p:nvPr/>
        </p:nvSpPr>
        <p:spPr>
          <a:xfrm>
            <a:off x="304920" y="175248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Arial"/>
              </a:rPr>
              <a:t>C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ovéPole 126"/>
          <p:cNvSpPr/>
          <p:nvPr/>
        </p:nvSpPr>
        <p:spPr>
          <a:xfrm>
            <a:off x="228600" y="57913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Omezení vyplývající z konstrukce tranzisto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Ochrana před zničení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ovéPole 127"/>
          <p:cNvSpPr/>
          <p:nvPr/>
        </p:nvSpPr>
        <p:spPr>
          <a:xfrm>
            <a:off x="6553080" y="1752480"/>
            <a:ext cx="228600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7030a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 = 0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7030a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7030a0"/>
                </a:solidFill>
                <a:latin typeface="Arial"/>
              </a:rPr>
              <a:t>CB</a:t>
            </a: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 = 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Arial"/>
              </a:rPr>
              <a:t>C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Arial"/>
              </a:rPr>
              <a:t>CE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Arial"/>
              </a:rPr>
              <a:t>C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římá spojovací čára 38"/>
          <p:cNvSpPr/>
          <p:nvPr/>
        </p:nvSpPr>
        <p:spPr>
          <a:xfrm>
            <a:off x="304920" y="1828800"/>
            <a:ext cx="57150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římá spojovací čára 40"/>
          <p:cNvSpPr/>
          <p:nvPr/>
        </p:nvSpPr>
        <p:spPr>
          <a:xfrm flipV="1">
            <a:off x="5410080" y="1295280"/>
            <a:ext cx="0" cy="41148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2"/>
          <p:cNvSpPr/>
          <p:nvPr/>
        </p:nvSpPr>
        <p:spPr>
          <a:xfrm>
            <a:off x="1143000" y="99072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7030a0"/>
                </a:solidFill>
                <a:latin typeface="Arial"/>
              </a:rPr>
              <a:t>CB </a:t>
            </a: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= 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43"/>
          <p:cNvSpPr/>
          <p:nvPr/>
        </p:nvSpPr>
        <p:spPr>
          <a:xfrm>
            <a:off x="4876920" y="541008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Arial"/>
              </a:rPr>
              <a:t>CE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44"/>
          <p:cNvSpPr/>
          <p:nvPr/>
        </p:nvSpPr>
        <p:spPr>
          <a:xfrm>
            <a:off x="5638680" y="4724280"/>
            <a:ext cx="15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7030a0"/>
                </a:solidFill>
                <a:latin typeface="Arial"/>
              </a:rPr>
              <a:t>B </a:t>
            </a: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= 0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45"/>
          <p:cNvSpPr/>
          <p:nvPr/>
        </p:nvSpPr>
        <p:spPr>
          <a:xfrm>
            <a:off x="2743200" y="213372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Arial"/>
              </a:rPr>
              <a:t>C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Skupina 51"/>
          <p:cNvGrpSpPr/>
          <p:nvPr/>
        </p:nvGrpSpPr>
        <p:grpSpPr>
          <a:xfrm>
            <a:off x="316080" y="4340160"/>
            <a:ext cx="5384520" cy="1038240"/>
            <a:chOff x="316080" y="4340160"/>
            <a:chExt cx="5384520" cy="1038240"/>
          </a:xfrm>
        </p:grpSpPr>
        <p:sp>
          <p:nvSpPr>
            <p:cNvPr id="170" name="Volný tvar 120"/>
            <p:cNvSpPr/>
            <p:nvPr/>
          </p:nvSpPr>
          <p:spPr>
            <a:xfrm>
              <a:off x="316080" y="4340160"/>
              <a:ext cx="2244600" cy="1038240"/>
            </a:xfrm>
            <a:custGeom>
              <a:avLst/>
              <a:gdLst>
                <a:gd name="textAreaLeft" fmla="*/ 0 w 2244600"/>
                <a:gd name="textAreaRight" fmla="*/ 2244960 w 22446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Přímá spojovací čára 121"/>
            <p:cNvSpPr/>
            <p:nvPr/>
          </p:nvSpPr>
          <p:spPr>
            <a:xfrm>
              <a:off x="2560680" y="4340160"/>
              <a:ext cx="313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Skupina 48"/>
          <p:cNvGrpSpPr/>
          <p:nvPr/>
        </p:nvGrpSpPr>
        <p:grpSpPr>
          <a:xfrm>
            <a:off x="304920" y="5029200"/>
            <a:ext cx="5383080" cy="325440"/>
            <a:chOff x="304920" y="5029200"/>
            <a:chExt cx="5383080" cy="325440"/>
          </a:xfrm>
        </p:grpSpPr>
        <p:sp>
          <p:nvSpPr>
            <p:cNvPr id="173" name="Volný tvar 50"/>
            <p:cNvSpPr/>
            <p:nvPr/>
          </p:nvSpPr>
          <p:spPr>
            <a:xfrm>
              <a:off x="304920" y="5029200"/>
              <a:ext cx="2243880" cy="325440"/>
            </a:xfrm>
            <a:custGeom>
              <a:avLst/>
              <a:gdLst>
                <a:gd name="textAreaLeft" fmla="*/ 0 w 2243880"/>
                <a:gd name="textAreaRight" fmla="*/ 2244240 w 22438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Přímá spojovací čára 51"/>
            <p:cNvSpPr/>
            <p:nvPr/>
          </p:nvSpPr>
          <p:spPr>
            <a:xfrm>
              <a:off x="2548800" y="5029200"/>
              <a:ext cx="313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Oblouk 48"/>
          <p:cNvSpPr/>
          <p:nvPr/>
        </p:nvSpPr>
        <p:spPr>
          <a:xfrm rot="10800000">
            <a:off x="2438280" y="-1981440"/>
            <a:ext cx="7010640" cy="6553080"/>
          </a:xfrm>
          <a:custGeom>
            <a:avLst/>
            <a:gdLst>
              <a:gd name="textAreaLeft" fmla="*/ 3505320 w 7010640"/>
              <a:gd name="textAreaRight" fmla="*/ 7011000 w 7010640"/>
              <a:gd name="textAreaTop" fmla="*/ 0 h 6553080"/>
              <a:gd name="textAreaBottom" fmla="*/ 3276720 h 6553080"/>
            </a:gdLst>
            <a:ahLst/>
            <a:rect l="textAreaLeft" t="textAreaTop" r="textAreaRight" b="textAreaBottom"/>
            <a:pathLst>
              <a:path stroke="0" w="7010400" h="6553200">
                <a:moveTo>
                  <a:pt x="3505204" y="0"/>
                </a:moveTo>
                <a:lnTo>
                  <a:pt x="3505204" y="0"/>
                </a:lnTo>
                <a:arcTo wR="3505200" hR="3276600" stAng="-5399996" swAng="5400004"/>
                <a:lnTo>
                  <a:pt x="3505200" y="3276600"/>
                </a:lnTo>
                <a:close/>
              </a:path>
              <a:path fill="none" w="7010400" h="6553200">
                <a:moveTo>
                  <a:pt x="3505204" y="0"/>
                </a:moveTo>
                <a:lnTo>
                  <a:pt x="3505204" y="0"/>
                </a:lnTo>
                <a:arcTo wR="3505200" hR="3276600" stAng="-5399996" swAng="5400004"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blouk 41"/>
          <p:cNvSpPr/>
          <p:nvPr/>
        </p:nvSpPr>
        <p:spPr>
          <a:xfrm rot="10800000">
            <a:off x="2438280" y="-1981440"/>
            <a:ext cx="7010640" cy="6553080"/>
          </a:xfrm>
          <a:custGeom>
            <a:avLst/>
            <a:gdLst>
              <a:gd name="textAreaLeft" fmla="*/ 3505320 w 7010640"/>
              <a:gd name="textAreaRight" fmla="*/ 7011000 w 7010640"/>
              <a:gd name="textAreaTop" fmla="*/ 0 h 6553080"/>
              <a:gd name="textAreaBottom" fmla="*/ 3276720 h 6553080"/>
            </a:gdLst>
            <a:ahLst/>
            <a:rect l="textAreaLeft" t="textAreaTop" r="textAreaRight" b="textAreaBottom"/>
            <a:pathLst>
              <a:path stroke="0" w="7010400" h="6553200">
                <a:moveTo>
                  <a:pt x="3505204" y="0"/>
                </a:moveTo>
                <a:lnTo>
                  <a:pt x="3505204" y="0"/>
                </a:lnTo>
                <a:arcTo wR="3505200" hR="3276600" stAng="-5399996" swAng="5400004"/>
                <a:lnTo>
                  <a:pt x="3505200" y="3276600"/>
                </a:lnTo>
                <a:close/>
              </a:path>
              <a:path fill="none" w="7010400" h="6553200">
                <a:moveTo>
                  <a:pt x="3505204" y="0"/>
                </a:moveTo>
                <a:lnTo>
                  <a:pt x="3505204" y="0"/>
                </a:lnTo>
                <a:arcTo wR="3505200" hR="3276600" stAng="-5399996" swAng="5400004"/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Volný tvar 129"/>
          <p:cNvSpPr/>
          <p:nvPr/>
        </p:nvSpPr>
        <p:spPr>
          <a:xfrm>
            <a:off x="309600" y="5029200"/>
            <a:ext cx="5317920" cy="372960"/>
          </a:xfrm>
          <a:custGeom>
            <a:avLst/>
            <a:gdLst/>
            <a:ahLst/>
            <a:rect l="l" t="t" r="r" b="b"/>
            <a:pathLst>
              <a:path w="5317588" h="562708">
                <a:moveTo>
                  <a:pt x="0" y="562708"/>
                </a:moveTo>
                <a:cubicBezTo>
                  <a:pt x="240323" y="327074"/>
                  <a:pt x="87923" y="91440"/>
                  <a:pt x="985911" y="0"/>
                </a:cubicBezTo>
                <a:lnTo>
                  <a:pt x="5317588" y="0"/>
                </a:lnTo>
                <a:lnTo>
                  <a:pt x="5317588" y="506437"/>
                </a:lnTo>
                <a:lnTo>
                  <a:pt x="0" y="562708"/>
                </a:lnTo>
                <a:close/>
              </a:path>
            </a:pathLst>
          </a:custGeom>
          <a:solidFill>
            <a:srgbClr val="a3a3e0"/>
          </a:solidFill>
          <a:ln w="255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34"/>
          <p:cNvSpPr/>
          <p:nvPr/>
        </p:nvSpPr>
        <p:spPr>
          <a:xfrm>
            <a:off x="5562720" y="4876920"/>
            <a:ext cx="304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bdélník 47"/>
          <p:cNvSpPr/>
          <p:nvPr/>
        </p:nvSpPr>
        <p:spPr>
          <a:xfrm>
            <a:off x="5410080" y="1371600"/>
            <a:ext cx="533520" cy="40384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Skupina 36"/>
          <p:cNvGrpSpPr/>
          <p:nvPr/>
        </p:nvGrpSpPr>
        <p:grpSpPr>
          <a:xfrm>
            <a:off x="0" y="625320"/>
            <a:ext cx="1523880" cy="4795920"/>
            <a:chOff x="0" y="625320"/>
            <a:chExt cx="1523880" cy="4795920"/>
          </a:xfrm>
        </p:grpSpPr>
        <p:sp>
          <p:nvSpPr>
            <p:cNvPr id="181" name="Volný tvar 32"/>
            <p:cNvSpPr/>
            <p:nvPr/>
          </p:nvSpPr>
          <p:spPr>
            <a:xfrm>
              <a:off x="295200" y="625320"/>
              <a:ext cx="909720" cy="4795920"/>
            </a:xfrm>
            <a:custGeom>
              <a:avLst/>
              <a:gdLst/>
              <a:ahLst/>
              <a:rect l="l" t="t" r="r" b="b"/>
              <a:pathLst>
                <a:path w="909710" h="4794738">
                  <a:moveTo>
                    <a:pt x="0" y="4761914"/>
                  </a:moveTo>
                  <a:cubicBezTo>
                    <a:pt x="158261" y="4778326"/>
                    <a:pt x="316522" y="4794738"/>
                    <a:pt x="464233" y="4072597"/>
                  </a:cubicBezTo>
                  <a:cubicBezTo>
                    <a:pt x="611944" y="3350456"/>
                    <a:pt x="909710" y="1038665"/>
                    <a:pt x="886264" y="429065"/>
                  </a:cubicBezTo>
                  <a:cubicBezTo>
                    <a:pt x="595532" y="438443"/>
                    <a:pt x="154744" y="0"/>
                    <a:pt x="14067" y="457200"/>
                  </a:cubicBezTo>
                </a:path>
              </a:pathLst>
            </a:custGeom>
            <a:solidFill>
              <a:srgbClr val="a3a3e0"/>
            </a:solidFill>
            <a:ln w="25560">
              <a:solidFill>
                <a:srgbClr val="7030a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bdélník 33"/>
            <p:cNvSpPr/>
            <p:nvPr/>
          </p:nvSpPr>
          <p:spPr>
            <a:xfrm>
              <a:off x="0" y="761040"/>
              <a:ext cx="15238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Obdélník 46"/>
          <p:cNvSpPr/>
          <p:nvPr/>
        </p:nvSpPr>
        <p:spPr>
          <a:xfrm>
            <a:off x="304920" y="1219320"/>
            <a:ext cx="5638680" cy="6094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ÝSTUPNÍ V-A CHAR. TR.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římá spojovací čára 74"/>
          <p:cNvSpPr/>
          <p:nvPr/>
        </p:nvSpPr>
        <p:spPr>
          <a:xfrm>
            <a:off x="316080" y="5378400"/>
            <a:ext cx="6053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římá spojovací čára 77"/>
          <p:cNvSpPr/>
          <p:nvPr/>
        </p:nvSpPr>
        <p:spPr>
          <a:xfrm>
            <a:off x="316080" y="831960"/>
            <a:ext cx="0" cy="454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ovéPole 80"/>
          <p:cNvSpPr/>
          <p:nvPr/>
        </p:nvSpPr>
        <p:spPr>
          <a:xfrm>
            <a:off x="316080" y="83196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ovéPole 83"/>
          <p:cNvSpPr/>
          <p:nvPr/>
        </p:nvSpPr>
        <p:spPr>
          <a:xfrm>
            <a:off x="6095880" y="537840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ovéPole 86"/>
          <p:cNvSpPr/>
          <p:nvPr/>
        </p:nvSpPr>
        <p:spPr>
          <a:xfrm>
            <a:off x="6095880" y="317016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Přímá spojovací šipka 89"/>
          <p:cNvCxnSpPr/>
          <p:nvPr/>
        </p:nvCxnSpPr>
        <p:spPr>
          <a:xfrm>
            <a:off x="6095520" y="3170160"/>
            <a:ext cx="1080" cy="65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191" name="Skupina 38"/>
          <p:cNvGrpSpPr/>
          <p:nvPr/>
        </p:nvGrpSpPr>
        <p:grpSpPr>
          <a:xfrm>
            <a:off x="304920" y="1676520"/>
            <a:ext cx="5383080" cy="3690720"/>
            <a:chOff x="304920" y="1676520"/>
            <a:chExt cx="5383080" cy="3690720"/>
          </a:xfrm>
        </p:grpSpPr>
        <p:sp>
          <p:nvSpPr>
            <p:cNvPr id="192" name="Volný tvar 105"/>
            <p:cNvSpPr/>
            <p:nvPr/>
          </p:nvSpPr>
          <p:spPr>
            <a:xfrm>
              <a:off x="304920" y="1676520"/>
              <a:ext cx="2243880" cy="3690720"/>
            </a:xfrm>
            <a:custGeom>
              <a:avLst/>
              <a:gdLst>
                <a:gd name="textAreaLeft" fmla="*/ 0 w 2243880"/>
                <a:gd name="textAreaRight" fmla="*/ 2244240 w 2243880"/>
                <a:gd name="textAreaTop" fmla="*/ 0 h 3690720"/>
                <a:gd name="textAreaBottom" fmla="*/ 3691080 h 369072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Přímá spojovací čára 106"/>
            <p:cNvSpPr/>
            <p:nvPr/>
          </p:nvSpPr>
          <p:spPr>
            <a:xfrm>
              <a:off x="2548800" y="1676520"/>
              <a:ext cx="313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Skupina 39"/>
          <p:cNvGrpSpPr/>
          <p:nvPr/>
        </p:nvGrpSpPr>
        <p:grpSpPr>
          <a:xfrm>
            <a:off x="316080" y="3170160"/>
            <a:ext cx="5371920" cy="2192400"/>
            <a:chOff x="316080" y="3170160"/>
            <a:chExt cx="5371920" cy="2192400"/>
          </a:xfrm>
        </p:grpSpPr>
        <p:sp>
          <p:nvSpPr>
            <p:cNvPr id="195" name="Volný tvar 108"/>
            <p:cNvSpPr/>
            <p:nvPr/>
          </p:nvSpPr>
          <p:spPr>
            <a:xfrm>
              <a:off x="316080" y="3170160"/>
              <a:ext cx="2239200" cy="2192400"/>
            </a:xfrm>
            <a:custGeom>
              <a:avLst/>
              <a:gdLst>
                <a:gd name="textAreaLeft" fmla="*/ 0 w 2239200"/>
                <a:gd name="textAreaRight" fmla="*/ 2239560 w 2239200"/>
                <a:gd name="textAreaTop" fmla="*/ 0 h 2192400"/>
                <a:gd name="textAreaBottom" fmla="*/ 2192760 h 219240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Přímá spojovací čára 109"/>
            <p:cNvSpPr/>
            <p:nvPr/>
          </p:nvSpPr>
          <p:spPr>
            <a:xfrm>
              <a:off x="2555280" y="3170160"/>
              <a:ext cx="313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Skupina 42"/>
          <p:cNvGrpSpPr/>
          <p:nvPr/>
        </p:nvGrpSpPr>
        <p:grpSpPr>
          <a:xfrm>
            <a:off x="304920" y="2651040"/>
            <a:ext cx="5395680" cy="2727360"/>
            <a:chOff x="304920" y="2651040"/>
            <a:chExt cx="5395680" cy="2727360"/>
          </a:xfrm>
        </p:grpSpPr>
        <p:sp>
          <p:nvSpPr>
            <p:cNvPr id="198" name="Volný tvar 111"/>
            <p:cNvSpPr/>
            <p:nvPr/>
          </p:nvSpPr>
          <p:spPr>
            <a:xfrm>
              <a:off x="304920" y="2651040"/>
              <a:ext cx="2249280" cy="2727360"/>
            </a:xfrm>
            <a:custGeom>
              <a:avLst/>
              <a:gdLst>
                <a:gd name="textAreaLeft" fmla="*/ 0 w 2249280"/>
                <a:gd name="textAreaRight" fmla="*/ 2249640 w 2249280"/>
                <a:gd name="textAreaTop" fmla="*/ 0 h 2727360"/>
                <a:gd name="textAreaBottom" fmla="*/ 2727720 h 272736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Přímá spojovací čára 112"/>
            <p:cNvSpPr/>
            <p:nvPr/>
          </p:nvSpPr>
          <p:spPr>
            <a:xfrm>
              <a:off x="2554200" y="2651040"/>
              <a:ext cx="314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Skupina 45"/>
          <p:cNvGrpSpPr/>
          <p:nvPr/>
        </p:nvGrpSpPr>
        <p:grpSpPr>
          <a:xfrm>
            <a:off x="316080" y="2130480"/>
            <a:ext cx="5371920" cy="3247920"/>
            <a:chOff x="316080" y="2130480"/>
            <a:chExt cx="5371920" cy="3247920"/>
          </a:xfrm>
        </p:grpSpPr>
        <p:sp>
          <p:nvSpPr>
            <p:cNvPr id="201" name="Volný tvar 114"/>
            <p:cNvSpPr/>
            <p:nvPr/>
          </p:nvSpPr>
          <p:spPr>
            <a:xfrm>
              <a:off x="316080" y="2130480"/>
              <a:ext cx="2239200" cy="3247920"/>
            </a:xfrm>
            <a:custGeom>
              <a:avLst/>
              <a:gdLst>
                <a:gd name="textAreaLeft" fmla="*/ 0 w 2239200"/>
                <a:gd name="textAreaRight" fmla="*/ 2239560 w 2239200"/>
                <a:gd name="textAreaTop" fmla="*/ 0 h 3247920"/>
                <a:gd name="textAreaBottom" fmla="*/ 3248280 h 324792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Přímá spojovací čára 115"/>
            <p:cNvSpPr/>
            <p:nvPr/>
          </p:nvSpPr>
          <p:spPr>
            <a:xfrm>
              <a:off x="2555280" y="2130480"/>
              <a:ext cx="313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Skupina 54"/>
          <p:cNvGrpSpPr/>
          <p:nvPr/>
        </p:nvGrpSpPr>
        <p:grpSpPr>
          <a:xfrm>
            <a:off x="316080" y="3701880"/>
            <a:ext cx="5371920" cy="1676520"/>
            <a:chOff x="316080" y="3701880"/>
            <a:chExt cx="5371920" cy="1676520"/>
          </a:xfrm>
        </p:grpSpPr>
        <p:sp>
          <p:nvSpPr>
            <p:cNvPr id="204" name="Volný tvar 123"/>
            <p:cNvSpPr/>
            <p:nvPr/>
          </p:nvSpPr>
          <p:spPr>
            <a:xfrm>
              <a:off x="316080" y="3701880"/>
              <a:ext cx="2239200" cy="1676520"/>
            </a:xfrm>
            <a:custGeom>
              <a:avLst/>
              <a:gdLst>
                <a:gd name="textAreaLeft" fmla="*/ 0 w 2239200"/>
                <a:gd name="textAreaRight" fmla="*/ 2239560 w 2239200"/>
                <a:gd name="textAreaTop" fmla="*/ 0 h 1676520"/>
                <a:gd name="textAreaBottom" fmla="*/ 1676880 h 167652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římá spojovací čára 124"/>
            <p:cNvSpPr/>
            <p:nvPr/>
          </p:nvSpPr>
          <p:spPr>
            <a:xfrm>
              <a:off x="2555280" y="3701880"/>
              <a:ext cx="313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ovéPole 125"/>
          <p:cNvSpPr/>
          <p:nvPr/>
        </p:nvSpPr>
        <p:spPr>
          <a:xfrm>
            <a:off x="304920" y="175248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Arial"/>
              </a:rPr>
              <a:t>C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ovéPole 126"/>
          <p:cNvSpPr/>
          <p:nvPr/>
        </p:nvSpPr>
        <p:spPr>
          <a:xfrm>
            <a:off x="228600" y="57913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acovní oblastí tranzistoru SE je pouze bílá část výstupních V-A charakterist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ovéPole 127"/>
          <p:cNvSpPr/>
          <p:nvPr/>
        </p:nvSpPr>
        <p:spPr>
          <a:xfrm>
            <a:off x="6553080" y="1752480"/>
            <a:ext cx="228600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7030a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 = 0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7030a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7030a0"/>
                </a:solidFill>
                <a:latin typeface="Arial"/>
              </a:rPr>
              <a:t>CB</a:t>
            </a: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 = 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Arial"/>
              </a:rPr>
              <a:t>C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Arial"/>
              </a:rPr>
              <a:t>CE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Arial"/>
              </a:rPr>
              <a:t>C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38"/>
          <p:cNvSpPr/>
          <p:nvPr/>
        </p:nvSpPr>
        <p:spPr>
          <a:xfrm>
            <a:off x="304920" y="1828800"/>
            <a:ext cx="57150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40"/>
          <p:cNvSpPr/>
          <p:nvPr/>
        </p:nvSpPr>
        <p:spPr>
          <a:xfrm flipV="1">
            <a:off x="5410080" y="1295280"/>
            <a:ext cx="0" cy="41148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ovéPole 42"/>
          <p:cNvSpPr/>
          <p:nvPr/>
        </p:nvSpPr>
        <p:spPr>
          <a:xfrm>
            <a:off x="1143000" y="99072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7030a0"/>
                </a:solidFill>
                <a:latin typeface="Arial"/>
              </a:rPr>
              <a:t>CB </a:t>
            </a: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= 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ovéPole 43"/>
          <p:cNvSpPr/>
          <p:nvPr/>
        </p:nvSpPr>
        <p:spPr>
          <a:xfrm>
            <a:off x="4876920" y="541008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Arial"/>
              </a:rPr>
              <a:t>CE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ovéPole 44"/>
          <p:cNvSpPr/>
          <p:nvPr/>
        </p:nvSpPr>
        <p:spPr>
          <a:xfrm>
            <a:off x="5638680" y="4724280"/>
            <a:ext cx="15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7030a0"/>
                </a:solidFill>
                <a:latin typeface="Arial"/>
              </a:rPr>
              <a:t>B </a:t>
            </a: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= 0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ovéPole 45"/>
          <p:cNvSpPr/>
          <p:nvPr/>
        </p:nvSpPr>
        <p:spPr>
          <a:xfrm>
            <a:off x="2743200" y="213372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Arial"/>
              </a:rPr>
              <a:t>C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Skupina 51"/>
          <p:cNvGrpSpPr/>
          <p:nvPr/>
        </p:nvGrpSpPr>
        <p:grpSpPr>
          <a:xfrm>
            <a:off x="316080" y="4340160"/>
            <a:ext cx="5384520" cy="1038240"/>
            <a:chOff x="316080" y="4340160"/>
            <a:chExt cx="5384520" cy="1038240"/>
          </a:xfrm>
        </p:grpSpPr>
        <p:sp>
          <p:nvSpPr>
            <p:cNvPr id="216" name="Volný tvar 120"/>
            <p:cNvSpPr/>
            <p:nvPr/>
          </p:nvSpPr>
          <p:spPr>
            <a:xfrm>
              <a:off x="316080" y="4340160"/>
              <a:ext cx="2244600" cy="1038240"/>
            </a:xfrm>
            <a:custGeom>
              <a:avLst/>
              <a:gdLst>
                <a:gd name="textAreaLeft" fmla="*/ 0 w 2244600"/>
                <a:gd name="textAreaRight" fmla="*/ 2244960 w 22446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Přímá spojovací čára 121"/>
            <p:cNvSpPr/>
            <p:nvPr/>
          </p:nvSpPr>
          <p:spPr>
            <a:xfrm>
              <a:off x="2560680" y="4340160"/>
              <a:ext cx="313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Skupina 48"/>
          <p:cNvGrpSpPr/>
          <p:nvPr/>
        </p:nvGrpSpPr>
        <p:grpSpPr>
          <a:xfrm>
            <a:off x="304920" y="5029200"/>
            <a:ext cx="5383080" cy="325440"/>
            <a:chOff x="304920" y="5029200"/>
            <a:chExt cx="5383080" cy="325440"/>
          </a:xfrm>
        </p:grpSpPr>
        <p:sp>
          <p:nvSpPr>
            <p:cNvPr id="219" name="Volný tvar 50"/>
            <p:cNvSpPr/>
            <p:nvPr/>
          </p:nvSpPr>
          <p:spPr>
            <a:xfrm>
              <a:off x="304920" y="5029200"/>
              <a:ext cx="2243880" cy="325440"/>
            </a:xfrm>
            <a:custGeom>
              <a:avLst/>
              <a:gdLst>
                <a:gd name="textAreaLeft" fmla="*/ 0 w 2243880"/>
                <a:gd name="textAreaRight" fmla="*/ 2244240 w 22438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Přímá spojovací čára 51"/>
            <p:cNvSpPr/>
            <p:nvPr/>
          </p:nvSpPr>
          <p:spPr>
            <a:xfrm>
              <a:off x="2548800" y="5029200"/>
              <a:ext cx="313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ovéPole 2"/>
          <p:cNvSpPr/>
          <p:nvPr/>
        </p:nvSpPr>
        <p:spPr>
          <a:xfrm>
            <a:off x="152280" y="1447920"/>
            <a:ext cx="8991720" cy="51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á omezení pro výstupní V-A chr. vyplývají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 ochrany tranzistoru před zničení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smíme překročit maximální proud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smíme překročit maximální napětí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smíme překročit maximální ztrátový výkon P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á omezení pro výstupní V-A chr. vyplývají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 konstrukce tranzistor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0A, i tranzistorem, kde řídící proud je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0A prochází minimální proud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0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ovéPole 2"/>
          <p:cNvSpPr/>
          <p:nvPr/>
        </p:nvSpPr>
        <p:spPr>
          <a:xfrm>
            <a:off x="457200" y="1447920"/>
            <a:ext cx="830592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covní oblast tranzistoru je omezena dvěma způso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strukcí tranzistoru (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0A a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0V)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chranou tranzistoru před zničením (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ma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Ema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P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ma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6T00:27:20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