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B45C-12E3-4955-97DB-28AB8274E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0DFA-449E-4841-A7E0-07A16DB19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5A8B-DA90-4E5A-B3CD-7D46191BD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3286-AC54-46AA-991F-35E94F8AE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19C5-90E6-48A6-9D61-81628AF63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2EB9-D63C-451D-A424-C4726C470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5622-FA06-475C-9DB5-5BB99CBCE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6B56-01D6-4688-A803-2BD9F447A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9C3E-B0DB-4C02-B545-8B9BFC945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876E-4509-45A4-B00B-714A0FE77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5220-2BC6-42C2-B37F-024E58AA4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7E0B-5B5F-44EE-A98D-74EF0C0D8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D5A06-FF0C-4480-8E16-212B50759EF8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Obrázek 4" descr="OPVK_hor_zakladni_logolink_CMYK_cz.tif"/>
          <p:cNvPicPr/>
          <p:nvPr/>
        </p:nvPicPr>
        <p:blipFill>
          <a:blip r:embed="rId1"/>
          <a:stretch/>
        </p:blipFill>
        <p:spPr>
          <a:xfrm>
            <a:off x="533520" y="304920"/>
            <a:ext cx="8020080" cy="1752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" name=""/>
          <p:cNvGraphicFramePr/>
          <p:nvPr/>
        </p:nvGraphicFramePr>
        <p:xfrm>
          <a:off x="533520" y="2209680"/>
          <a:ext cx="8001000" cy="3735360"/>
        </p:xfrm>
        <a:graphic>
          <a:graphicData uri="http://schemas.openxmlformats.org/drawingml/2006/table">
            <a:tbl>
              <a:tblPr/>
              <a:tblGrid>
                <a:gridCol w="2535120"/>
                <a:gridCol w="5465880"/>
              </a:tblGrid>
              <a:tr h="45720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ahoma"/>
                        </a:rPr>
                        <a:t>ŠKOL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řední škola elektrotechnická, Ostrava, Na Jízdárně 30, p. 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ahoma"/>
                        </a:rPr>
                        <a:t>ČÍSLO PROJEK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Z.1.07/1.5.00/34.09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ahoma"/>
                        </a:rPr>
                        <a:t>ČÍSLO V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Y_32_INOVACE_57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ahoma"/>
                        </a:rPr>
                        <a:t>NÁZEV V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anzistory / zpětnovazební rezistor (kolektorový rezistor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ahoma"/>
                        </a:rPr>
                        <a:t>AU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g. Radim Truchl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ahoma"/>
                        </a:rPr>
                        <a:t>DATUM VYTVOŘE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věten 20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ahoma"/>
                        </a:rPr>
                        <a:t>ROČNÍ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ročník studijního oboru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00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ahoma"/>
                        </a:rPr>
                        <a:t>VZDĚLÁVACÍ OBLAST/</a:t>
                      </a:r>
                      <a:br>
                        <a:rPr sz="1400"/>
                      </a:b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ahoma"/>
                        </a:rPr>
                        <a:t>KLÍČOVÁ SLOV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EKTRONIKA  - polovodič, tranzistor,  stabilizace, zpětná vazb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Text Box 464"/>
          <p:cNvSpPr/>
          <p:nvPr/>
        </p:nvSpPr>
        <p:spPr>
          <a:xfrm>
            <a:off x="533520" y="617220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r prohlašuje, že řádně uvedl všechny použité zdroje.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kud není uvedeno jinak, použitý materiál je z vlastních zdrojů auto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ovéPole 3"/>
          <p:cNvSpPr/>
          <p:nvPr/>
        </p:nvSpPr>
        <p:spPr>
          <a:xfrm>
            <a:off x="304920" y="380160"/>
            <a:ext cx="861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EZNAM POUŽITÝCH ZDROJ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685800" y="1371600"/>
            <a:ext cx="8001000" cy="159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BEZDĚK, Miloslav.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Elektronika I: [učebnice]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 1. vyd. dotisk. České Budějovice: Kopp, 2006, 286 s. ISBN 80-7232-171-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ESL, Jan.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Elektronika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 2., aktual. a rozšíř. vyd. Praha: BEN - technická literatura, 2004, 143 s. ISBN 80-730-0143-8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304920" y="231480"/>
            <a:ext cx="8534160" cy="14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ANOT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Učební materiál je zaměřen na stabilizaci pracovního bodu tranzistoru pomocí zpětnovazebního rezistoru (stabilizace kolektorovým rezistore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2"/>
          <p:cNvSpPr/>
          <p:nvPr/>
        </p:nvSpPr>
        <p:spPr>
          <a:xfrm>
            <a:off x="304920" y="3363840"/>
            <a:ext cx="8305560" cy="24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METODICKÝ POKY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Nejdříve vyučující projde s žáky celou prezentaci, žáci si dělají zápi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V sekci otázky žáci odpovídají na otázky, případně vybírají správnou odpověď z nabízených možností. Po kliknutí se objeví správná odpově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Na konci prezentace je shrnutí nejdůležitějších pojm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ovéPole 1"/>
          <p:cNvSpPr/>
          <p:nvPr/>
        </p:nvSpPr>
        <p:spPr>
          <a:xfrm>
            <a:off x="304920" y="38088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STABILIZACE PRAC. BODU T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2"/>
          <p:cNvSpPr/>
          <p:nvPr/>
        </p:nvSpPr>
        <p:spPr>
          <a:xfrm>
            <a:off x="457200" y="1600200"/>
            <a:ext cx="8305920" cy="48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 správnou funkci tranzistoru je potřeba nastavený pracovní bod stabilizova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rozí nebezpečí, že vlivem provozu dojde k posunu pracovního bodu. Např. tranzistor se zahřeje, zmenší se jeho dynamický odpor a stoupne výstupní proud I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to je potřeba zapojení pro nastavení pracovního bodu upravit tak, aby tuto změnu kompenzovalo. (Např. přivřelo tranzistor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ovéPole 1"/>
          <p:cNvSpPr/>
          <p:nvPr/>
        </p:nvSpPr>
        <p:spPr>
          <a:xfrm>
            <a:off x="304920" y="38088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STABILIZACE KOLEKTOROVÝM 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ovéPole 2"/>
          <p:cNvSpPr/>
          <p:nvPr/>
        </p:nvSpPr>
        <p:spPr>
          <a:xfrm>
            <a:off x="457200" y="1219320"/>
            <a:ext cx="830592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e stabilizaci můžeme použít kolektorový rezist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usíme určit velikost R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, který už není připojen přímo ke zdroj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Skupina 35"/>
          <p:cNvGrpSpPr/>
          <p:nvPr/>
        </p:nvGrpSpPr>
        <p:grpSpPr>
          <a:xfrm>
            <a:off x="228600" y="2685960"/>
            <a:ext cx="3352680" cy="4172040"/>
            <a:chOff x="228600" y="2685960"/>
            <a:chExt cx="3352680" cy="4172040"/>
          </a:xfrm>
        </p:grpSpPr>
        <p:grpSp>
          <p:nvGrpSpPr>
            <p:cNvPr id="51" name="Skupina 29"/>
            <p:cNvGrpSpPr/>
            <p:nvPr/>
          </p:nvGrpSpPr>
          <p:grpSpPr>
            <a:xfrm>
              <a:off x="228600" y="2685960"/>
              <a:ext cx="2657520" cy="4172040"/>
              <a:chOff x="228600" y="2685960"/>
              <a:chExt cx="2657520" cy="4172040"/>
            </a:xfrm>
          </p:grpSpPr>
          <p:pic>
            <p:nvPicPr>
              <p:cNvPr id="52" name="Picture 4" descr=""/>
              <p:cNvPicPr/>
              <p:nvPr/>
            </p:nvPicPr>
            <p:blipFill>
              <a:blip r:embed="rId1"/>
              <a:stretch/>
            </p:blipFill>
            <p:spPr>
              <a:xfrm>
                <a:off x="228600" y="2685960"/>
                <a:ext cx="2657520" cy="4172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TextovéPole 48"/>
              <p:cNvSpPr/>
              <p:nvPr/>
            </p:nvSpPr>
            <p:spPr>
              <a:xfrm>
                <a:off x="1981440" y="3524040"/>
                <a:ext cx="6094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r>
                  <a:rPr b="0" lang="cs-CZ" sz="2000" spc="-1" strike="noStrike" baseline="-25000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TextovéPole 49"/>
              <p:cNvSpPr/>
              <p:nvPr/>
            </p:nvSpPr>
            <p:spPr>
              <a:xfrm>
                <a:off x="1981440" y="5429160"/>
                <a:ext cx="5331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r>
                  <a:rPr b="0" lang="cs-CZ" sz="2000" spc="-1" strike="noStrike" baseline="-25000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TextovéPole 50"/>
              <p:cNvSpPr/>
              <p:nvPr/>
            </p:nvSpPr>
            <p:spPr>
              <a:xfrm>
                <a:off x="228600" y="3524040"/>
                <a:ext cx="6094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r>
                  <a:rPr b="0" lang="cs-CZ" sz="2000" spc="-1" strike="noStrike" baseline="-25000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" name="TextovéPole 37"/>
            <p:cNvSpPr/>
            <p:nvPr/>
          </p:nvSpPr>
          <p:spPr>
            <a:xfrm>
              <a:off x="1981080" y="5867640"/>
              <a:ext cx="99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Arial"/>
                </a:rPr>
                <a:t>0,5 k</a:t>
              </a:r>
              <a:r>
                <a:rPr b="0" lang="el-GR" sz="2000" spc="-1" strike="noStrike">
                  <a:solidFill>
                    <a:srgbClr val="000000"/>
                  </a:solidFill>
                  <a:latin typeface="Arial"/>
                </a:rPr>
                <a:t>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ovéPole 38"/>
            <p:cNvSpPr/>
            <p:nvPr/>
          </p:nvSpPr>
          <p:spPr>
            <a:xfrm>
              <a:off x="2057400" y="3886200"/>
              <a:ext cx="99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Arial"/>
                </a:rPr>
                <a:t>1 k</a:t>
              </a:r>
              <a:r>
                <a:rPr b="0" lang="el-GR" sz="2000" spc="-1" strike="noStrike">
                  <a:solidFill>
                    <a:srgbClr val="000000"/>
                  </a:solidFill>
                  <a:latin typeface="Arial"/>
                </a:rPr>
                <a:t>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TextovéPole 39"/>
            <p:cNvSpPr/>
            <p:nvPr/>
          </p:nvSpPr>
          <p:spPr>
            <a:xfrm>
              <a:off x="838080" y="350496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Arial"/>
                </a:rPr>
                <a:t>282 k</a:t>
              </a:r>
              <a:r>
                <a:rPr b="0" lang="el-GR" sz="2000" spc="-1" strike="noStrike">
                  <a:solidFill>
                    <a:srgbClr val="000000"/>
                  </a:solidFill>
                  <a:latin typeface="Arial"/>
                </a:rPr>
                <a:t>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ovéPole 88"/>
            <p:cNvSpPr/>
            <p:nvPr/>
          </p:nvSpPr>
          <p:spPr>
            <a:xfrm>
              <a:off x="2057400" y="2895480"/>
              <a:ext cx="1523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cs-CZ" sz="20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cs-CZ" sz="2000" spc="-1" strike="noStrike">
                  <a:solidFill>
                    <a:srgbClr val="000000"/>
                  </a:solidFill>
                  <a:latin typeface="Arial"/>
                </a:rPr>
                <a:t> 4 m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0" name="Přímá spojovací šipka 78"/>
            <p:cNvCxnSpPr/>
            <p:nvPr/>
          </p:nvCxnSpPr>
          <p:spPr>
            <a:xfrm>
              <a:off x="1980720" y="2895480"/>
              <a:ext cx="1080" cy="5126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1" name="TextovéPole 88"/>
            <p:cNvSpPr/>
            <p:nvPr/>
          </p:nvSpPr>
          <p:spPr>
            <a:xfrm>
              <a:off x="761760" y="4190760"/>
              <a:ext cx="585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cs-CZ" sz="2000" spc="-1" strike="noStrike" baseline="-25000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2" name="Přímá spojovací šipka 78"/>
            <p:cNvCxnSpPr/>
            <p:nvPr/>
          </p:nvCxnSpPr>
          <p:spPr>
            <a:xfrm>
              <a:off x="761400" y="4647960"/>
              <a:ext cx="53388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3" name="TextovéPole 88"/>
            <p:cNvSpPr/>
            <p:nvPr/>
          </p:nvSpPr>
          <p:spPr>
            <a:xfrm>
              <a:off x="609480" y="4724280"/>
              <a:ext cx="91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Arial"/>
                </a:rPr>
                <a:t>33 μ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ovéPole 88"/>
            <p:cNvSpPr/>
            <p:nvPr/>
          </p:nvSpPr>
          <p:spPr>
            <a:xfrm>
              <a:off x="2057400" y="4876920"/>
              <a:ext cx="1523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cs-CZ" sz="20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cs-CZ" sz="2000" spc="-1" strike="noStrike">
                  <a:solidFill>
                    <a:srgbClr val="000000"/>
                  </a:solidFill>
                  <a:latin typeface="Arial"/>
                </a:rPr>
                <a:t> 4 m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5" name="Přímá spojovací šipka 78"/>
            <p:cNvCxnSpPr/>
            <p:nvPr/>
          </p:nvCxnSpPr>
          <p:spPr>
            <a:xfrm>
              <a:off x="1980720" y="4876920"/>
              <a:ext cx="1080" cy="5126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6" name="TextovéPole 51"/>
          <p:cNvSpPr/>
          <p:nvPr/>
        </p:nvSpPr>
        <p:spPr>
          <a:xfrm>
            <a:off x="2819520" y="2666880"/>
            <a:ext cx="131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+U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Arial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Skupina 82"/>
          <p:cNvGrpSpPr/>
          <p:nvPr/>
        </p:nvGrpSpPr>
        <p:grpSpPr>
          <a:xfrm>
            <a:off x="5105520" y="2362320"/>
            <a:ext cx="3754440" cy="4095720"/>
            <a:chOff x="5105520" y="2362320"/>
            <a:chExt cx="3754440" cy="4095720"/>
          </a:xfrm>
        </p:grpSpPr>
        <p:pic>
          <p:nvPicPr>
            <p:cNvPr id="68" name="Picture 3" descr=""/>
            <p:cNvPicPr/>
            <p:nvPr/>
          </p:nvPicPr>
          <p:blipFill>
            <a:blip r:embed="rId2"/>
            <a:stretch/>
          </p:blipFill>
          <p:spPr>
            <a:xfrm>
              <a:off x="5105520" y="2362320"/>
              <a:ext cx="3276000" cy="409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TextovéPole 53"/>
            <p:cNvSpPr/>
            <p:nvPr/>
          </p:nvSpPr>
          <p:spPr>
            <a:xfrm>
              <a:off x="7543440" y="2666880"/>
              <a:ext cx="1316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Arial"/>
                </a:rPr>
                <a:t>+U</a:t>
              </a:r>
              <a:r>
                <a:rPr b="0" lang="cs-CZ" sz="2400" spc="-1" strike="noStrike" baseline="-25000">
                  <a:solidFill>
                    <a:srgbClr val="000000"/>
                  </a:solidFill>
                  <a:latin typeface="Arial"/>
                </a:rPr>
                <a:t>C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TextovéPole 54"/>
            <p:cNvSpPr/>
            <p:nvPr/>
          </p:nvSpPr>
          <p:spPr>
            <a:xfrm>
              <a:off x="6705360" y="3048120"/>
              <a:ext cx="609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cs-CZ" sz="20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TextovéPole 55"/>
            <p:cNvSpPr/>
            <p:nvPr/>
          </p:nvSpPr>
          <p:spPr>
            <a:xfrm>
              <a:off x="6705360" y="5334120"/>
              <a:ext cx="5331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cs-CZ" sz="2000" spc="-1" strike="noStrike" baseline="-25000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TextovéPole 56"/>
            <p:cNvSpPr/>
            <p:nvPr/>
          </p:nvSpPr>
          <p:spPr>
            <a:xfrm>
              <a:off x="5638680" y="3276720"/>
              <a:ext cx="609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cs-CZ" sz="2000" spc="-1" strike="noStrike" baseline="-25000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ovéPole 57"/>
            <p:cNvSpPr/>
            <p:nvPr/>
          </p:nvSpPr>
          <p:spPr>
            <a:xfrm>
              <a:off x="6705720" y="5715360"/>
              <a:ext cx="99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Arial"/>
                </a:rPr>
                <a:t>0,5 k</a:t>
              </a:r>
              <a:r>
                <a:rPr b="0" lang="el-GR" sz="2000" spc="-1" strike="noStrike">
                  <a:solidFill>
                    <a:srgbClr val="000000"/>
                  </a:solidFill>
                  <a:latin typeface="Arial"/>
                </a:rPr>
                <a:t>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TextovéPole 58"/>
            <p:cNvSpPr/>
            <p:nvPr/>
          </p:nvSpPr>
          <p:spPr>
            <a:xfrm>
              <a:off x="6705720" y="3352680"/>
              <a:ext cx="99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Arial"/>
                </a:rPr>
                <a:t>1 k</a:t>
              </a:r>
              <a:r>
                <a:rPr b="0" lang="el-GR" sz="2000" spc="-1" strike="noStrike">
                  <a:solidFill>
                    <a:srgbClr val="000000"/>
                  </a:solidFill>
                  <a:latin typeface="Arial"/>
                </a:rPr>
                <a:t>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TextovéPole 88"/>
            <p:cNvSpPr/>
            <p:nvPr/>
          </p:nvSpPr>
          <p:spPr>
            <a:xfrm>
              <a:off x="6629040" y="2743200"/>
              <a:ext cx="1523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cs-CZ" sz="20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cs-CZ" sz="2000" spc="-1" strike="noStrike">
                  <a:solidFill>
                    <a:srgbClr val="000000"/>
                  </a:solidFill>
                  <a:latin typeface="Arial"/>
                </a:rPr>
                <a:t> 4 m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6" name="Přímá spojovací šipka 78"/>
            <p:cNvCxnSpPr/>
            <p:nvPr/>
          </p:nvCxnSpPr>
          <p:spPr>
            <a:xfrm>
              <a:off x="6705000" y="4876920"/>
              <a:ext cx="1080" cy="5126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7" name="TextovéPole 88"/>
            <p:cNvSpPr/>
            <p:nvPr/>
          </p:nvSpPr>
          <p:spPr>
            <a:xfrm>
              <a:off x="5410080" y="4038840"/>
              <a:ext cx="585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cs-CZ" sz="2000" spc="-1" strike="noStrike" baseline="-25000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ovéPole 88"/>
            <p:cNvSpPr/>
            <p:nvPr/>
          </p:nvSpPr>
          <p:spPr>
            <a:xfrm>
              <a:off x="5105520" y="4572000"/>
              <a:ext cx="91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Arial"/>
                </a:rPr>
                <a:t>33 μ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ovéPole 88"/>
            <p:cNvSpPr/>
            <p:nvPr/>
          </p:nvSpPr>
          <p:spPr>
            <a:xfrm>
              <a:off x="6705360" y="4876920"/>
              <a:ext cx="1523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cs-CZ" sz="20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cs-CZ" sz="2000" spc="-1" strike="noStrike">
                  <a:solidFill>
                    <a:srgbClr val="000000"/>
                  </a:solidFill>
                  <a:latin typeface="Arial"/>
                </a:rPr>
                <a:t> 4 m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0" name="Přímá spojovací šipka 78"/>
            <p:cNvCxnSpPr/>
            <p:nvPr/>
          </p:nvCxnSpPr>
          <p:spPr>
            <a:xfrm>
              <a:off x="5409720" y="4419360"/>
              <a:ext cx="53388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1" name="Přímá spojovací šipka 80"/>
            <p:cNvCxnSpPr/>
            <p:nvPr/>
          </p:nvCxnSpPr>
          <p:spPr>
            <a:xfrm>
              <a:off x="5866920" y="4724640"/>
              <a:ext cx="533880" cy="45792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82" name="TextovéPole 81"/>
            <p:cNvSpPr/>
            <p:nvPr/>
          </p:nvSpPr>
          <p:spPr>
            <a:xfrm>
              <a:off x="5562360" y="4876920"/>
              <a:ext cx="609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0" lang="cs-CZ" sz="2000" spc="-1" strike="noStrike" baseline="-25000">
                  <a:solidFill>
                    <a:srgbClr val="000000"/>
                  </a:solidFill>
                  <a:latin typeface="Arial"/>
                </a:rPr>
                <a:t>B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ovéPole 1"/>
          <p:cNvSpPr/>
          <p:nvPr/>
        </p:nvSpPr>
        <p:spPr>
          <a:xfrm>
            <a:off x="304920" y="38088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STABILIZACE KOLEKTOROVÝM 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Skupina 35"/>
          <p:cNvGrpSpPr/>
          <p:nvPr/>
        </p:nvGrpSpPr>
        <p:grpSpPr>
          <a:xfrm>
            <a:off x="228600" y="2685960"/>
            <a:ext cx="3352680" cy="4172040"/>
            <a:chOff x="228600" y="2685960"/>
            <a:chExt cx="3352680" cy="4172040"/>
          </a:xfrm>
        </p:grpSpPr>
        <p:grpSp>
          <p:nvGrpSpPr>
            <p:cNvPr id="85" name="Skupina 29"/>
            <p:cNvGrpSpPr/>
            <p:nvPr/>
          </p:nvGrpSpPr>
          <p:grpSpPr>
            <a:xfrm>
              <a:off x="228600" y="2685960"/>
              <a:ext cx="2657520" cy="4172040"/>
              <a:chOff x="228600" y="2685960"/>
              <a:chExt cx="2657520" cy="4172040"/>
            </a:xfrm>
          </p:grpSpPr>
          <p:pic>
            <p:nvPicPr>
              <p:cNvPr id="86" name="Picture 4" descr=""/>
              <p:cNvPicPr/>
              <p:nvPr/>
            </p:nvPicPr>
            <p:blipFill>
              <a:blip r:embed="rId1"/>
              <a:stretch/>
            </p:blipFill>
            <p:spPr>
              <a:xfrm>
                <a:off x="228600" y="2685960"/>
                <a:ext cx="2657520" cy="4172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" name="TextovéPole 48"/>
              <p:cNvSpPr/>
              <p:nvPr/>
            </p:nvSpPr>
            <p:spPr>
              <a:xfrm>
                <a:off x="1981440" y="3524040"/>
                <a:ext cx="6094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r>
                  <a:rPr b="0" lang="cs-CZ" sz="2000" spc="-1" strike="noStrike" baseline="-25000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TextovéPole 49"/>
              <p:cNvSpPr/>
              <p:nvPr/>
            </p:nvSpPr>
            <p:spPr>
              <a:xfrm>
                <a:off x="1981440" y="5429160"/>
                <a:ext cx="5331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r>
                  <a:rPr b="0" lang="cs-CZ" sz="2000" spc="-1" strike="noStrike" baseline="-25000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TextovéPole 50"/>
              <p:cNvSpPr/>
              <p:nvPr/>
            </p:nvSpPr>
            <p:spPr>
              <a:xfrm>
                <a:off x="228600" y="3524040"/>
                <a:ext cx="6094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r>
                  <a:rPr b="0" lang="cs-CZ" sz="2000" spc="-1" strike="noStrike" baseline="-25000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" name="TextovéPole 37"/>
            <p:cNvSpPr/>
            <p:nvPr/>
          </p:nvSpPr>
          <p:spPr>
            <a:xfrm>
              <a:off x="1981080" y="5867640"/>
              <a:ext cx="99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Arial"/>
                </a:rPr>
                <a:t>0,5 k</a:t>
              </a:r>
              <a:r>
                <a:rPr b="0" lang="el-GR" sz="2000" spc="-1" strike="noStrike">
                  <a:solidFill>
                    <a:srgbClr val="000000"/>
                  </a:solidFill>
                  <a:latin typeface="Arial"/>
                </a:rPr>
                <a:t>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TextovéPole 38"/>
            <p:cNvSpPr/>
            <p:nvPr/>
          </p:nvSpPr>
          <p:spPr>
            <a:xfrm>
              <a:off x="2057400" y="3886200"/>
              <a:ext cx="99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Arial"/>
                </a:rPr>
                <a:t>1 k</a:t>
              </a:r>
              <a:r>
                <a:rPr b="0" lang="el-GR" sz="2000" spc="-1" strike="noStrike">
                  <a:solidFill>
                    <a:srgbClr val="000000"/>
                  </a:solidFill>
                  <a:latin typeface="Arial"/>
                </a:rPr>
                <a:t>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ovéPole 39"/>
            <p:cNvSpPr/>
            <p:nvPr/>
          </p:nvSpPr>
          <p:spPr>
            <a:xfrm>
              <a:off x="838080" y="350496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Arial"/>
                </a:rPr>
                <a:t>282 k</a:t>
              </a:r>
              <a:r>
                <a:rPr b="0" lang="el-GR" sz="2000" spc="-1" strike="noStrike">
                  <a:solidFill>
                    <a:srgbClr val="000000"/>
                  </a:solidFill>
                  <a:latin typeface="Arial"/>
                </a:rPr>
                <a:t>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ovéPole 88"/>
            <p:cNvSpPr/>
            <p:nvPr/>
          </p:nvSpPr>
          <p:spPr>
            <a:xfrm>
              <a:off x="2057400" y="2895480"/>
              <a:ext cx="1523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cs-CZ" sz="20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cs-CZ" sz="2000" spc="-1" strike="noStrike">
                  <a:solidFill>
                    <a:srgbClr val="000000"/>
                  </a:solidFill>
                  <a:latin typeface="Arial"/>
                </a:rPr>
                <a:t> 4 m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4" name="Přímá spojovací šipka 78"/>
            <p:cNvCxnSpPr/>
            <p:nvPr/>
          </p:nvCxnSpPr>
          <p:spPr>
            <a:xfrm>
              <a:off x="1980720" y="2895480"/>
              <a:ext cx="1080" cy="5126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5" name="TextovéPole 88"/>
            <p:cNvSpPr/>
            <p:nvPr/>
          </p:nvSpPr>
          <p:spPr>
            <a:xfrm>
              <a:off x="761760" y="4190760"/>
              <a:ext cx="585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cs-CZ" sz="2000" spc="-1" strike="noStrike" baseline="-25000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6" name="Přímá spojovací šipka 78"/>
            <p:cNvCxnSpPr/>
            <p:nvPr/>
          </p:nvCxnSpPr>
          <p:spPr>
            <a:xfrm>
              <a:off x="761400" y="4647960"/>
              <a:ext cx="53388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7" name="TextovéPole 88"/>
            <p:cNvSpPr/>
            <p:nvPr/>
          </p:nvSpPr>
          <p:spPr>
            <a:xfrm>
              <a:off x="609480" y="4724280"/>
              <a:ext cx="91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Arial"/>
                </a:rPr>
                <a:t>33 μ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ovéPole 88"/>
            <p:cNvSpPr/>
            <p:nvPr/>
          </p:nvSpPr>
          <p:spPr>
            <a:xfrm>
              <a:off x="2057400" y="4876920"/>
              <a:ext cx="1523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cs-CZ" sz="20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cs-CZ" sz="2000" spc="-1" strike="noStrike">
                  <a:solidFill>
                    <a:srgbClr val="000000"/>
                  </a:solidFill>
                  <a:latin typeface="Arial"/>
                </a:rPr>
                <a:t> 4 m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9" name="Přímá spojovací šipka 78"/>
            <p:cNvCxnSpPr/>
            <p:nvPr/>
          </p:nvCxnSpPr>
          <p:spPr>
            <a:xfrm>
              <a:off x="1980720" y="4876920"/>
              <a:ext cx="1080" cy="5126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00" name="TextovéPole 51"/>
          <p:cNvSpPr/>
          <p:nvPr/>
        </p:nvSpPr>
        <p:spPr>
          <a:xfrm>
            <a:off x="2819520" y="2666880"/>
            <a:ext cx="131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+U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Arial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Skupina 82"/>
          <p:cNvGrpSpPr/>
          <p:nvPr/>
        </p:nvGrpSpPr>
        <p:grpSpPr>
          <a:xfrm>
            <a:off x="5105520" y="2362320"/>
            <a:ext cx="3754440" cy="4095720"/>
            <a:chOff x="5105520" y="2362320"/>
            <a:chExt cx="3754440" cy="4095720"/>
          </a:xfrm>
        </p:grpSpPr>
        <p:pic>
          <p:nvPicPr>
            <p:cNvPr id="102" name="Picture 3" descr=""/>
            <p:cNvPicPr/>
            <p:nvPr/>
          </p:nvPicPr>
          <p:blipFill>
            <a:blip r:embed="rId2"/>
            <a:stretch/>
          </p:blipFill>
          <p:spPr>
            <a:xfrm>
              <a:off x="5105520" y="2362320"/>
              <a:ext cx="3276000" cy="409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ovéPole 53"/>
            <p:cNvSpPr/>
            <p:nvPr/>
          </p:nvSpPr>
          <p:spPr>
            <a:xfrm>
              <a:off x="7543440" y="2666880"/>
              <a:ext cx="1316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Arial"/>
                </a:rPr>
                <a:t>+U</a:t>
              </a:r>
              <a:r>
                <a:rPr b="0" lang="cs-CZ" sz="2400" spc="-1" strike="noStrike" baseline="-25000">
                  <a:solidFill>
                    <a:srgbClr val="000000"/>
                  </a:solidFill>
                  <a:latin typeface="Arial"/>
                </a:rPr>
                <a:t>C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ovéPole 54"/>
            <p:cNvSpPr/>
            <p:nvPr/>
          </p:nvSpPr>
          <p:spPr>
            <a:xfrm>
              <a:off x="6705360" y="3048120"/>
              <a:ext cx="609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cs-CZ" sz="20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ovéPole 55"/>
            <p:cNvSpPr/>
            <p:nvPr/>
          </p:nvSpPr>
          <p:spPr>
            <a:xfrm>
              <a:off x="6705360" y="5334120"/>
              <a:ext cx="5331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cs-CZ" sz="2000" spc="-1" strike="noStrike" baseline="-25000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ovéPole 56"/>
            <p:cNvSpPr/>
            <p:nvPr/>
          </p:nvSpPr>
          <p:spPr>
            <a:xfrm>
              <a:off x="5638680" y="3276720"/>
              <a:ext cx="609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cs-CZ" sz="2000" spc="-1" strike="noStrike" baseline="-25000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ovéPole 57"/>
            <p:cNvSpPr/>
            <p:nvPr/>
          </p:nvSpPr>
          <p:spPr>
            <a:xfrm>
              <a:off x="6705720" y="5715360"/>
              <a:ext cx="99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Arial"/>
                </a:rPr>
                <a:t>0,5 k</a:t>
              </a:r>
              <a:r>
                <a:rPr b="0" lang="el-GR" sz="2000" spc="-1" strike="noStrike">
                  <a:solidFill>
                    <a:srgbClr val="000000"/>
                  </a:solidFill>
                  <a:latin typeface="Arial"/>
                </a:rPr>
                <a:t>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ovéPole 58"/>
            <p:cNvSpPr/>
            <p:nvPr/>
          </p:nvSpPr>
          <p:spPr>
            <a:xfrm>
              <a:off x="6705720" y="3352680"/>
              <a:ext cx="99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Arial"/>
                </a:rPr>
                <a:t>1 k</a:t>
              </a:r>
              <a:r>
                <a:rPr b="0" lang="el-GR" sz="2000" spc="-1" strike="noStrike">
                  <a:solidFill>
                    <a:srgbClr val="000000"/>
                  </a:solidFill>
                  <a:latin typeface="Arial"/>
                </a:rPr>
                <a:t>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ovéPole 88"/>
            <p:cNvSpPr/>
            <p:nvPr/>
          </p:nvSpPr>
          <p:spPr>
            <a:xfrm>
              <a:off x="6629040" y="2743200"/>
              <a:ext cx="1523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cs-CZ" sz="20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cs-CZ" sz="2000" spc="-1" strike="noStrike">
                  <a:solidFill>
                    <a:srgbClr val="000000"/>
                  </a:solidFill>
                  <a:latin typeface="Arial"/>
                </a:rPr>
                <a:t> 4 m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0" name="Přímá spojovací šipka 78"/>
            <p:cNvCxnSpPr/>
            <p:nvPr/>
          </p:nvCxnSpPr>
          <p:spPr>
            <a:xfrm>
              <a:off x="6705000" y="4876920"/>
              <a:ext cx="1080" cy="5126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1" name="TextovéPole 88"/>
            <p:cNvSpPr/>
            <p:nvPr/>
          </p:nvSpPr>
          <p:spPr>
            <a:xfrm>
              <a:off x="5410080" y="4038840"/>
              <a:ext cx="585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cs-CZ" sz="2000" spc="-1" strike="noStrike" baseline="-25000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ovéPole 88"/>
            <p:cNvSpPr/>
            <p:nvPr/>
          </p:nvSpPr>
          <p:spPr>
            <a:xfrm>
              <a:off x="5105520" y="4572000"/>
              <a:ext cx="91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Arial"/>
                </a:rPr>
                <a:t>33 μ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ovéPole 88"/>
            <p:cNvSpPr/>
            <p:nvPr/>
          </p:nvSpPr>
          <p:spPr>
            <a:xfrm>
              <a:off x="6705360" y="4876920"/>
              <a:ext cx="1523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cs-CZ" sz="20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cs-CZ" sz="2000" spc="-1" strike="noStrike">
                  <a:solidFill>
                    <a:srgbClr val="000000"/>
                  </a:solidFill>
                  <a:latin typeface="Arial"/>
                </a:rPr>
                <a:t> 4 m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4" name="Přímá spojovací šipka 78"/>
            <p:cNvCxnSpPr/>
            <p:nvPr/>
          </p:nvCxnSpPr>
          <p:spPr>
            <a:xfrm>
              <a:off x="5409720" y="4419360"/>
              <a:ext cx="53388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5" name="Přímá spojovací šipka 80"/>
            <p:cNvCxnSpPr/>
            <p:nvPr/>
          </p:nvCxnSpPr>
          <p:spPr>
            <a:xfrm>
              <a:off x="5866920" y="4724640"/>
              <a:ext cx="533880" cy="45792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116" name="TextovéPole 81"/>
            <p:cNvSpPr/>
            <p:nvPr/>
          </p:nvSpPr>
          <p:spPr>
            <a:xfrm>
              <a:off x="5562360" y="4876920"/>
              <a:ext cx="609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0" lang="cs-CZ" sz="2000" spc="-1" strike="noStrike" baseline="-25000">
                  <a:solidFill>
                    <a:srgbClr val="000000"/>
                  </a:solidFill>
                  <a:latin typeface="Arial"/>
                </a:rPr>
                <a:t>B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Skupina 41"/>
          <p:cNvGrpSpPr/>
          <p:nvPr/>
        </p:nvGrpSpPr>
        <p:grpSpPr>
          <a:xfrm>
            <a:off x="609480" y="1143000"/>
            <a:ext cx="7634520" cy="685440"/>
            <a:chOff x="609480" y="1143000"/>
            <a:chExt cx="7634520" cy="685440"/>
          </a:xfrm>
        </p:grpSpPr>
        <p:pic>
          <p:nvPicPr>
            <p:cNvPr id="118" name="Picture 38" descr=""/>
            <p:cNvPicPr/>
            <p:nvPr/>
          </p:nvPicPr>
          <p:blipFill>
            <a:blip r:embed="rId3"/>
            <a:stretch/>
          </p:blipFill>
          <p:spPr>
            <a:xfrm>
              <a:off x="609480" y="1143000"/>
              <a:ext cx="7634520" cy="34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Picture 37" descr=""/>
            <p:cNvPicPr/>
            <p:nvPr/>
          </p:nvPicPr>
          <p:blipFill>
            <a:blip r:embed="rId4"/>
            <a:stretch/>
          </p:blipFill>
          <p:spPr>
            <a:xfrm>
              <a:off x="609480" y="1485720"/>
              <a:ext cx="6028200" cy="342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" name="Rectangle 3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40"/>
          <p:cNvSpPr/>
          <p:nvPr/>
        </p:nvSpPr>
        <p:spPr>
          <a:xfrm>
            <a:off x="0" y="63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41"/>
          <p:cNvSpPr/>
          <p:nvPr/>
        </p:nvSpPr>
        <p:spPr>
          <a:xfrm>
            <a:off x="0" y="81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2" descr=""/>
          <p:cNvPicPr/>
          <p:nvPr/>
        </p:nvPicPr>
        <p:blipFill>
          <a:blip r:embed="rId5"/>
          <a:stretch/>
        </p:blipFill>
        <p:spPr>
          <a:xfrm>
            <a:off x="1676520" y="1828800"/>
            <a:ext cx="5349600" cy="68580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44"/>
          <p:cNvSpPr/>
          <p:nvPr/>
        </p:nvSpPr>
        <p:spPr>
          <a:xfrm>
            <a:off x="0" y="83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ovéPole 1"/>
          <p:cNvSpPr/>
          <p:nvPr/>
        </p:nvSpPr>
        <p:spPr>
          <a:xfrm>
            <a:off x="304920" y="38088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STABILIZACE KOLEKTOROVÝM 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Skupina 82"/>
          <p:cNvGrpSpPr/>
          <p:nvPr/>
        </p:nvGrpSpPr>
        <p:grpSpPr>
          <a:xfrm>
            <a:off x="5105520" y="2362320"/>
            <a:ext cx="3754440" cy="4095720"/>
            <a:chOff x="5105520" y="2362320"/>
            <a:chExt cx="3754440" cy="4095720"/>
          </a:xfrm>
        </p:grpSpPr>
        <p:pic>
          <p:nvPicPr>
            <p:cNvPr id="128" name="Picture 3" descr=""/>
            <p:cNvPicPr/>
            <p:nvPr/>
          </p:nvPicPr>
          <p:blipFill>
            <a:blip r:embed="rId1"/>
            <a:stretch/>
          </p:blipFill>
          <p:spPr>
            <a:xfrm>
              <a:off x="5105520" y="2362320"/>
              <a:ext cx="3276000" cy="409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TextovéPole 53"/>
            <p:cNvSpPr/>
            <p:nvPr/>
          </p:nvSpPr>
          <p:spPr>
            <a:xfrm>
              <a:off x="7543440" y="2666880"/>
              <a:ext cx="1316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Arial"/>
                </a:rPr>
                <a:t>+U</a:t>
              </a:r>
              <a:r>
                <a:rPr b="0" lang="cs-CZ" sz="2400" spc="-1" strike="noStrike" baseline="-25000">
                  <a:solidFill>
                    <a:srgbClr val="000000"/>
                  </a:solidFill>
                  <a:latin typeface="Arial"/>
                </a:rPr>
                <a:t>C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TextovéPole 54"/>
            <p:cNvSpPr/>
            <p:nvPr/>
          </p:nvSpPr>
          <p:spPr>
            <a:xfrm>
              <a:off x="6705360" y="3048120"/>
              <a:ext cx="609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cs-CZ" sz="20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TextovéPole 55"/>
            <p:cNvSpPr/>
            <p:nvPr/>
          </p:nvSpPr>
          <p:spPr>
            <a:xfrm>
              <a:off x="6705360" y="5334120"/>
              <a:ext cx="5331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cs-CZ" sz="2000" spc="-1" strike="noStrike" baseline="-25000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ovéPole 56"/>
            <p:cNvSpPr/>
            <p:nvPr/>
          </p:nvSpPr>
          <p:spPr>
            <a:xfrm>
              <a:off x="5638680" y="3276720"/>
              <a:ext cx="609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cs-CZ" sz="2000" spc="-1" strike="noStrike" baseline="-25000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TextovéPole 57"/>
            <p:cNvSpPr/>
            <p:nvPr/>
          </p:nvSpPr>
          <p:spPr>
            <a:xfrm>
              <a:off x="6705720" y="5715360"/>
              <a:ext cx="99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Arial"/>
                </a:rPr>
                <a:t>0,5 k</a:t>
              </a:r>
              <a:r>
                <a:rPr b="0" lang="el-GR" sz="2000" spc="-1" strike="noStrike">
                  <a:solidFill>
                    <a:srgbClr val="000000"/>
                  </a:solidFill>
                  <a:latin typeface="Arial"/>
                </a:rPr>
                <a:t>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TextovéPole 58"/>
            <p:cNvSpPr/>
            <p:nvPr/>
          </p:nvSpPr>
          <p:spPr>
            <a:xfrm>
              <a:off x="6705720" y="3352680"/>
              <a:ext cx="99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Arial"/>
                </a:rPr>
                <a:t>1 k</a:t>
              </a:r>
              <a:r>
                <a:rPr b="0" lang="el-GR" sz="2000" spc="-1" strike="noStrike">
                  <a:solidFill>
                    <a:srgbClr val="000000"/>
                  </a:solidFill>
                  <a:latin typeface="Arial"/>
                </a:rPr>
                <a:t>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ovéPole 88"/>
            <p:cNvSpPr/>
            <p:nvPr/>
          </p:nvSpPr>
          <p:spPr>
            <a:xfrm>
              <a:off x="6629040" y="2743200"/>
              <a:ext cx="1523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cs-CZ" sz="20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cs-CZ" sz="2000" spc="-1" strike="noStrike">
                  <a:solidFill>
                    <a:srgbClr val="000000"/>
                  </a:solidFill>
                  <a:latin typeface="Arial"/>
                </a:rPr>
                <a:t> 4 m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6" name="Přímá spojovací šipka 78"/>
            <p:cNvCxnSpPr/>
            <p:nvPr/>
          </p:nvCxnSpPr>
          <p:spPr>
            <a:xfrm>
              <a:off x="6705000" y="4876920"/>
              <a:ext cx="1080" cy="5126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7" name="TextovéPole 88"/>
            <p:cNvSpPr/>
            <p:nvPr/>
          </p:nvSpPr>
          <p:spPr>
            <a:xfrm>
              <a:off x="5410080" y="4038840"/>
              <a:ext cx="585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cs-CZ" sz="2000" spc="-1" strike="noStrike" baseline="-25000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ovéPole 88"/>
            <p:cNvSpPr/>
            <p:nvPr/>
          </p:nvSpPr>
          <p:spPr>
            <a:xfrm>
              <a:off x="5105520" y="4572000"/>
              <a:ext cx="91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Arial"/>
                </a:rPr>
                <a:t>33 μ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ovéPole 88"/>
            <p:cNvSpPr/>
            <p:nvPr/>
          </p:nvSpPr>
          <p:spPr>
            <a:xfrm>
              <a:off x="6705360" y="4876920"/>
              <a:ext cx="1523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cs-CZ" sz="20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cs-CZ" sz="2000" spc="-1" strike="noStrike">
                  <a:solidFill>
                    <a:srgbClr val="000000"/>
                  </a:solidFill>
                  <a:latin typeface="Arial"/>
                </a:rPr>
                <a:t> 4 m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0" name="Přímá spojovací šipka 78"/>
            <p:cNvCxnSpPr/>
            <p:nvPr/>
          </p:nvCxnSpPr>
          <p:spPr>
            <a:xfrm>
              <a:off x="5409720" y="4419360"/>
              <a:ext cx="53388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1" name="Přímá spojovací šipka 80"/>
            <p:cNvCxnSpPr/>
            <p:nvPr/>
          </p:nvCxnSpPr>
          <p:spPr>
            <a:xfrm>
              <a:off x="5866920" y="4724640"/>
              <a:ext cx="533880" cy="45792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142" name="TextovéPole 81"/>
            <p:cNvSpPr/>
            <p:nvPr/>
          </p:nvSpPr>
          <p:spPr>
            <a:xfrm>
              <a:off x="5562360" y="4876920"/>
              <a:ext cx="609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0" lang="cs-CZ" sz="2000" spc="-1" strike="noStrike" baseline="-25000">
                  <a:solidFill>
                    <a:srgbClr val="000000"/>
                  </a:solidFill>
                  <a:latin typeface="Arial"/>
                </a:rPr>
                <a:t>B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Skupina 41"/>
          <p:cNvGrpSpPr/>
          <p:nvPr/>
        </p:nvGrpSpPr>
        <p:grpSpPr>
          <a:xfrm>
            <a:off x="609480" y="1143000"/>
            <a:ext cx="7634520" cy="685440"/>
            <a:chOff x="609480" y="1143000"/>
            <a:chExt cx="7634520" cy="685440"/>
          </a:xfrm>
        </p:grpSpPr>
        <p:pic>
          <p:nvPicPr>
            <p:cNvPr id="144" name="Picture 38" descr=""/>
            <p:cNvPicPr/>
            <p:nvPr/>
          </p:nvPicPr>
          <p:blipFill>
            <a:blip r:embed="rId2"/>
            <a:stretch/>
          </p:blipFill>
          <p:spPr>
            <a:xfrm>
              <a:off x="609480" y="1143000"/>
              <a:ext cx="7634520" cy="34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Picture 37" descr=""/>
            <p:cNvPicPr/>
            <p:nvPr/>
          </p:nvPicPr>
          <p:blipFill>
            <a:blip r:embed="rId3"/>
            <a:stretch/>
          </p:blipFill>
          <p:spPr>
            <a:xfrm>
              <a:off x="609480" y="1485720"/>
              <a:ext cx="6028200" cy="342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6" name="Rectangle 3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40"/>
          <p:cNvSpPr/>
          <p:nvPr/>
        </p:nvSpPr>
        <p:spPr>
          <a:xfrm>
            <a:off x="0" y="63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41"/>
          <p:cNvSpPr/>
          <p:nvPr/>
        </p:nvSpPr>
        <p:spPr>
          <a:xfrm>
            <a:off x="0" y="81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4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2" descr=""/>
          <p:cNvPicPr/>
          <p:nvPr/>
        </p:nvPicPr>
        <p:blipFill>
          <a:blip r:embed="rId4"/>
          <a:stretch/>
        </p:blipFill>
        <p:spPr>
          <a:xfrm>
            <a:off x="1676520" y="1828800"/>
            <a:ext cx="5349600" cy="68580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44"/>
          <p:cNvSpPr/>
          <p:nvPr/>
        </p:nvSpPr>
        <p:spPr>
          <a:xfrm>
            <a:off x="0" y="83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ovéPole 51"/>
          <p:cNvSpPr/>
          <p:nvPr/>
        </p:nvSpPr>
        <p:spPr>
          <a:xfrm>
            <a:off x="0" y="281952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ak funguje stabiliza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Volný tvar 45"/>
          <p:cNvSpPr/>
          <p:nvPr/>
        </p:nvSpPr>
        <p:spPr>
          <a:xfrm>
            <a:off x="4979880" y="2462040"/>
            <a:ext cx="2925720" cy="3840480"/>
          </a:xfrm>
          <a:custGeom>
            <a:avLst/>
            <a:gdLst/>
            <a:ahLst/>
            <a:rect l="l" t="t" r="r" b="b"/>
            <a:pathLst>
              <a:path w="2926080" h="3840480">
                <a:moveTo>
                  <a:pt x="2926080" y="42203"/>
                </a:moveTo>
                <a:cubicBezTo>
                  <a:pt x="2841674" y="37514"/>
                  <a:pt x="2757071" y="35566"/>
                  <a:pt x="2672862" y="28136"/>
                </a:cubicBezTo>
                <a:cubicBezTo>
                  <a:pt x="2597543" y="21490"/>
                  <a:pt x="2447779" y="0"/>
                  <a:pt x="2447779" y="0"/>
                </a:cubicBezTo>
                <a:cubicBezTo>
                  <a:pt x="2269588" y="9379"/>
                  <a:pt x="2091168" y="15114"/>
                  <a:pt x="1913206" y="28136"/>
                </a:cubicBezTo>
                <a:cubicBezTo>
                  <a:pt x="1898417" y="29218"/>
                  <a:pt x="1885389" y="38607"/>
                  <a:pt x="1871003" y="42203"/>
                </a:cubicBezTo>
                <a:cubicBezTo>
                  <a:pt x="1847807" y="48002"/>
                  <a:pt x="1823861" y="50472"/>
                  <a:pt x="1800665" y="56271"/>
                </a:cubicBezTo>
                <a:cubicBezTo>
                  <a:pt x="1786279" y="59868"/>
                  <a:pt x="1773200" y="68701"/>
                  <a:pt x="1758462" y="70339"/>
                </a:cubicBezTo>
                <a:cubicBezTo>
                  <a:pt x="1688398" y="78124"/>
                  <a:pt x="1617785" y="79717"/>
                  <a:pt x="1547446" y="84406"/>
                </a:cubicBezTo>
                <a:cubicBezTo>
                  <a:pt x="1472163" y="159692"/>
                  <a:pt x="1576344" y="49576"/>
                  <a:pt x="1491175" y="168812"/>
                </a:cubicBezTo>
                <a:cubicBezTo>
                  <a:pt x="1479611" y="185001"/>
                  <a:pt x="1463040" y="196948"/>
                  <a:pt x="1448972" y="211016"/>
                </a:cubicBezTo>
                <a:cubicBezTo>
                  <a:pt x="1444002" y="250778"/>
                  <a:pt x="1436839" y="367870"/>
                  <a:pt x="1406769" y="407963"/>
                </a:cubicBezTo>
                <a:lnTo>
                  <a:pt x="1364566" y="464234"/>
                </a:lnTo>
                <a:cubicBezTo>
                  <a:pt x="1359877" y="515816"/>
                  <a:pt x="1356551" y="567539"/>
                  <a:pt x="1350499" y="618979"/>
                </a:cubicBezTo>
                <a:cubicBezTo>
                  <a:pt x="1347166" y="647307"/>
                  <a:pt x="1347024" y="676902"/>
                  <a:pt x="1336431" y="703385"/>
                </a:cubicBezTo>
                <a:cubicBezTo>
                  <a:pt x="1327723" y="725154"/>
                  <a:pt x="1307856" y="740577"/>
                  <a:pt x="1294228" y="759656"/>
                </a:cubicBezTo>
                <a:cubicBezTo>
                  <a:pt x="1284401" y="773414"/>
                  <a:pt x="1278047" y="789904"/>
                  <a:pt x="1266092" y="801859"/>
                </a:cubicBezTo>
                <a:cubicBezTo>
                  <a:pt x="1223507" y="844444"/>
                  <a:pt x="1215907" y="842034"/>
                  <a:pt x="1167619" y="858129"/>
                </a:cubicBezTo>
                <a:cubicBezTo>
                  <a:pt x="1028128" y="951123"/>
                  <a:pt x="1189963" y="853760"/>
                  <a:pt x="801859" y="900332"/>
                </a:cubicBezTo>
                <a:cubicBezTo>
                  <a:pt x="788690" y="901912"/>
                  <a:pt x="786306" y="924274"/>
                  <a:pt x="773723" y="928468"/>
                </a:cubicBezTo>
                <a:cubicBezTo>
                  <a:pt x="742267" y="938954"/>
                  <a:pt x="708323" y="940174"/>
                  <a:pt x="675249" y="942536"/>
                </a:cubicBezTo>
                <a:cubicBezTo>
                  <a:pt x="576914" y="949560"/>
                  <a:pt x="478302" y="951914"/>
                  <a:pt x="379828" y="956603"/>
                </a:cubicBezTo>
                <a:cubicBezTo>
                  <a:pt x="337625" y="961292"/>
                  <a:pt x="294954" y="962846"/>
                  <a:pt x="253219" y="970671"/>
                </a:cubicBezTo>
                <a:cubicBezTo>
                  <a:pt x="171864" y="985925"/>
                  <a:pt x="162376" y="994991"/>
                  <a:pt x="98474" y="1026942"/>
                </a:cubicBezTo>
                <a:cubicBezTo>
                  <a:pt x="89096" y="1041010"/>
                  <a:pt x="76276" y="1053314"/>
                  <a:pt x="70339" y="1069145"/>
                </a:cubicBezTo>
                <a:cubicBezTo>
                  <a:pt x="30334" y="1175825"/>
                  <a:pt x="86123" y="1109631"/>
                  <a:pt x="28135" y="1167619"/>
                </a:cubicBezTo>
                <a:cubicBezTo>
                  <a:pt x="23446" y="1298917"/>
                  <a:pt x="19775" y="1430256"/>
                  <a:pt x="14068" y="1561514"/>
                </a:cubicBezTo>
                <a:cubicBezTo>
                  <a:pt x="10396" y="1645970"/>
                  <a:pt x="0" y="1730196"/>
                  <a:pt x="0" y="1814732"/>
                </a:cubicBezTo>
                <a:cubicBezTo>
                  <a:pt x="0" y="2030488"/>
                  <a:pt x="883" y="2246494"/>
                  <a:pt x="14068" y="2461846"/>
                </a:cubicBezTo>
                <a:cubicBezTo>
                  <a:pt x="15101" y="2478722"/>
                  <a:pt x="30248" y="2492094"/>
                  <a:pt x="42203" y="2504049"/>
                </a:cubicBezTo>
                <a:cubicBezTo>
                  <a:pt x="75586" y="2537433"/>
                  <a:pt x="168470" y="2566477"/>
                  <a:pt x="196948" y="2574388"/>
                </a:cubicBezTo>
                <a:cubicBezTo>
                  <a:pt x="243024" y="2587187"/>
                  <a:pt x="290733" y="2593145"/>
                  <a:pt x="337625" y="2602523"/>
                </a:cubicBezTo>
                <a:cubicBezTo>
                  <a:pt x="361071" y="2607212"/>
                  <a:pt x="384973" y="2610022"/>
                  <a:pt x="407963" y="2616591"/>
                </a:cubicBezTo>
                <a:lnTo>
                  <a:pt x="506437" y="2644726"/>
                </a:lnTo>
                <a:cubicBezTo>
                  <a:pt x="525090" y="2649813"/>
                  <a:pt x="544118" y="2653482"/>
                  <a:pt x="562708" y="2658794"/>
                </a:cubicBezTo>
                <a:cubicBezTo>
                  <a:pt x="703940" y="2699147"/>
                  <a:pt x="485322" y="2642966"/>
                  <a:pt x="661182" y="2686929"/>
                </a:cubicBezTo>
                <a:cubicBezTo>
                  <a:pt x="782131" y="2767563"/>
                  <a:pt x="629102" y="2670889"/>
                  <a:pt x="745588" y="2729132"/>
                </a:cubicBezTo>
                <a:cubicBezTo>
                  <a:pt x="777389" y="2745032"/>
                  <a:pt x="837428" y="2798014"/>
                  <a:pt x="858129" y="2813539"/>
                </a:cubicBezTo>
                <a:cubicBezTo>
                  <a:pt x="929119" y="2866781"/>
                  <a:pt x="874451" y="2815794"/>
                  <a:pt x="928468" y="2869809"/>
                </a:cubicBezTo>
                <a:cubicBezTo>
                  <a:pt x="937846" y="2888566"/>
                  <a:pt x="946199" y="2907872"/>
                  <a:pt x="956603" y="2926080"/>
                </a:cubicBezTo>
                <a:cubicBezTo>
                  <a:pt x="964991" y="2940760"/>
                  <a:pt x="977872" y="2952833"/>
                  <a:pt x="984739" y="2968283"/>
                </a:cubicBezTo>
                <a:cubicBezTo>
                  <a:pt x="996784" y="2995384"/>
                  <a:pt x="1005681" y="3023917"/>
                  <a:pt x="1012874" y="3052689"/>
                </a:cubicBezTo>
                <a:cubicBezTo>
                  <a:pt x="1017563" y="3071446"/>
                  <a:pt x="1019326" y="3091189"/>
                  <a:pt x="1026942" y="3108960"/>
                </a:cubicBezTo>
                <a:cubicBezTo>
                  <a:pt x="1033602" y="3124500"/>
                  <a:pt x="1045250" y="3137405"/>
                  <a:pt x="1055077" y="3151163"/>
                </a:cubicBezTo>
                <a:cubicBezTo>
                  <a:pt x="1102665" y="3217787"/>
                  <a:pt x="1081203" y="3196716"/>
                  <a:pt x="1139483" y="3235569"/>
                </a:cubicBezTo>
                <a:cubicBezTo>
                  <a:pt x="1160743" y="3320609"/>
                  <a:pt x="1147438" y="3273503"/>
                  <a:pt x="1181686" y="3376246"/>
                </a:cubicBezTo>
                <a:cubicBezTo>
                  <a:pt x="1186375" y="3390314"/>
                  <a:pt x="1185269" y="3407963"/>
                  <a:pt x="1195754" y="3418449"/>
                </a:cubicBezTo>
                <a:lnTo>
                  <a:pt x="1223889" y="3446585"/>
                </a:lnTo>
                <a:cubicBezTo>
                  <a:pt x="1228578" y="3460653"/>
                  <a:pt x="1234740" y="3474312"/>
                  <a:pt x="1237957" y="3488788"/>
                </a:cubicBezTo>
                <a:cubicBezTo>
                  <a:pt x="1242300" y="3508333"/>
                  <a:pt x="1249328" y="3587458"/>
                  <a:pt x="1266092" y="3615397"/>
                </a:cubicBezTo>
                <a:cubicBezTo>
                  <a:pt x="1272916" y="3626770"/>
                  <a:pt x="1284849" y="3634154"/>
                  <a:pt x="1294228" y="3643532"/>
                </a:cubicBezTo>
                <a:cubicBezTo>
                  <a:pt x="1319667" y="3745295"/>
                  <a:pt x="1308295" y="3680469"/>
                  <a:pt x="1308295" y="3840480"/>
                </a:cubicBezTo>
              </a:path>
            </a:pathLst>
          </a:custGeom>
          <a:noFill/>
          <a:ln w="25560">
            <a:solidFill>
              <a:srgbClr val="00b05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ovéPole 46"/>
          <p:cNvSpPr/>
          <p:nvPr/>
        </p:nvSpPr>
        <p:spPr>
          <a:xfrm>
            <a:off x="0" y="3429000"/>
            <a:ext cx="51814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píšeme rovnici napěťové smyčky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Arial"/>
              </a:rPr>
              <a:t>CC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= U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Arial"/>
              </a:rPr>
              <a:t>RC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+ U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Arial"/>
              </a:rPr>
              <a:t>RB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+ U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Arial"/>
              </a:rPr>
              <a:t>B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+ U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Arial"/>
              </a:rPr>
              <a:t>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1" descr=""/>
          <p:cNvPicPr/>
          <p:nvPr/>
        </p:nvPicPr>
        <p:blipFill>
          <a:blip r:embed="rId5"/>
          <a:stretch/>
        </p:blipFill>
        <p:spPr>
          <a:xfrm>
            <a:off x="0" y="4572000"/>
            <a:ext cx="4960800" cy="91440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3"/>
          <p:cNvSpPr/>
          <p:nvPr/>
        </p:nvSpPr>
        <p:spPr>
          <a:xfrm>
            <a:off x="0" y="83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ovéPole 50"/>
          <p:cNvSpPr/>
          <p:nvPr/>
        </p:nvSpPr>
        <p:spPr>
          <a:xfrm>
            <a:off x="380880" y="586728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onstan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Přímá spojovací šipka 52"/>
          <p:cNvCxnSpPr>
            <a:stCxn id="158" idx="0"/>
          </p:cNvCxnSpPr>
          <p:nvPr/>
        </p:nvCxnSpPr>
        <p:spPr>
          <a:xfrm flipH="1" flipV="1">
            <a:off x="990360" y="5028840"/>
            <a:ext cx="343440" cy="838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60" name="Přímá spojovací šipka 53"/>
          <p:cNvCxnSpPr>
            <a:stCxn id="158" idx="0"/>
          </p:cNvCxnSpPr>
          <p:nvPr/>
        </p:nvCxnSpPr>
        <p:spPr>
          <a:xfrm flipV="1">
            <a:off x="1333440" y="5486040"/>
            <a:ext cx="1146960" cy="381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61" name="Volný tvar 73"/>
          <p:cNvSpPr/>
          <p:nvPr/>
        </p:nvSpPr>
        <p:spPr>
          <a:xfrm>
            <a:off x="1392120" y="5219640"/>
            <a:ext cx="3249720" cy="906480"/>
          </a:xfrm>
          <a:custGeom>
            <a:avLst/>
            <a:gdLst/>
            <a:ahLst/>
            <a:rect l="l" t="t" r="r" b="b"/>
            <a:pathLst>
              <a:path w="3249636" h="907366">
                <a:moveTo>
                  <a:pt x="0" y="633046"/>
                </a:moveTo>
                <a:cubicBezTo>
                  <a:pt x="847578" y="770206"/>
                  <a:pt x="1695157" y="907366"/>
                  <a:pt x="2236763" y="801858"/>
                </a:cubicBezTo>
                <a:cubicBezTo>
                  <a:pt x="2778369" y="696350"/>
                  <a:pt x="3069101" y="147711"/>
                  <a:pt x="3249636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ovéPole 1"/>
          <p:cNvSpPr/>
          <p:nvPr/>
        </p:nvSpPr>
        <p:spPr>
          <a:xfrm>
            <a:off x="304920" y="38088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STABILIZACE KOLEKTOROVÝM 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Skupina 82"/>
          <p:cNvGrpSpPr/>
          <p:nvPr/>
        </p:nvGrpSpPr>
        <p:grpSpPr>
          <a:xfrm>
            <a:off x="5105520" y="2362320"/>
            <a:ext cx="3754440" cy="4095720"/>
            <a:chOff x="5105520" y="2362320"/>
            <a:chExt cx="3754440" cy="4095720"/>
          </a:xfrm>
        </p:grpSpPr>
        <p:pic>
          <p:nvPicPr>
            <p:cNvPr id="164" name="Picture 3" descr=""/>
            <p:cNvPicPr/>
            <p:nvPr/>
          </p:nvPicPr>
          <p:blipFill>
            <a:blip r:embed="rId1"/>
            <a:stretch/>
          </p:blipFill>
          <p:spPr>
            <a:xfrm>
              <a:off x="5105520" y="2362320"/>
              <a:ext cx="3276000" cy="409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TextovéPole 53"/>
            <p:cNvSpPr/>
            <p:nvPr/>
          </p:nvSpPr>
          <p:spPr>
            <a:xfrm>
              <a:off x="7543440" y="2666880"/>
              <a:ext cx="1316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Arial"/>
                </a:rPr>
                <a:t>+U</a:t>
              </a:r>
              <a:r>
                <a:rPr b="0" lang="cs-CZ" sz="2400" spc="-1" strike="noStrike" baseline="-25000">
                  <a:solidFill>
                    <a:srgbClr val="000000"/>
                  </a:solidFill>
                  <a:latin typeface="Arial"/>
                </a:rPr>
                <a:t>C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ovéPole 54"/>
            <p:cNvSpPr/>
            <p:nvPr/>
          </p:nvSpPr>
          <p:spPr>
            <a:xfrm>
              <a:off x="6705360" y="3048120"/>
              <a:ext cx="609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cs-CZ" sz="20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ovéPole 55"/>
            <p:cNvSpPr/>
            <p:nvPr/>
          </p:nvSpPr>
          <p:spPr>
            <a:xfrm>
              <a:off x="6705360" y="5334120"/>
              <a:ext cx="5331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cs-CZ" sz="2000" spc="-1" strike="noStrike" baseline="-25000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ovéPole 56"/>
            <p:cNvSpPr/>
            <p:nvPr/>
          </p:nvSpPr>
          <p:spPr>
            <a:xfrm>
              <a:off x="5638680" y="3276720"/>
              <a:ext cx="609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cs-CZ" sz="2000" spc="-1" strike="noStrike" baseline="-25000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ovéPole 57"/>
            <p:cNvSpPr/>
            <p:nvPr/>
          </p:nvSpPr>
          <p:spPr>
            <a:xfrm>
              <a:off x="6705720" y="5715360"/>
              <a:ext cx="99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Arial"/>
                </a:rPr>
                <a:t>0,5 k</a:t>
              </a:r>
              <a:r>
                <a:rPr b="0" lang="el-GR" sz="2000" spc="-1" strike="noStrike">
                  <a:solidFill>
                    <a:srgbClr val="000000"/>
                  </a:solidFill>
                  <a:latin typeface="Arial"/>
                </a:rPr>
                <a:t>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ovéPole 58"/>
            <p:cNvSpPr/>
            <p:nvPr/>
          </p:nvSpPr>
          <p:spPr>
            <a:xfrm>
              <a:off x="6705720" y="3352680"/>
              <a:ext cx="99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Arial"/>
                </a:rPr>
                <a:t>1 k</a:t>
              </a:r>
              <a:r>
                <a:rPr b="0" lang="el-GR" sz="2000" spc="-1" strike="noStrike">
                  <a:solidFill>
                    <a:srgbClr val="000000"/>
                  </a:solidFill>
                  <a:latin typeface="Arial"/>
                </a:rPr>
                <a:t>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ovéPole 88"/>
            <p:cNvSpPr/>
            <p:nvPr/>
          </p:nvSpPr>
          <p:spPr>
            <a:xfrm>
              <a:off x="6629040" y="2743200"/>
              <a:ext cx="1523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cs-CZ" sz="20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cs-CZ" sz="2000" spc="-1" strike="noStrike">
                  <a:solidFill>
                    <a:srgbClr val="000000"/>
                  </a:solidFill>
                  <a:latin typeface="Arial"/>
                </a:rPr>
                <a:t> 4 m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2" name="Přímá spojovací šipka 78"/>
            <p:cNvCxnSpPr/>
            <p:nvPr/>
          </p:nvCxnSpPr>
          <p:spPr>
            <a:xfrm>
              <a:off x="6705000" y="4876920"/>
              <a:ext cx="1080" cy="5126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73" name="TextovéPole 88"/>
            <p:cNvSpPr/>
            <p:nvPr/>
          </p:nvSpPr>
          <p:spPr>
            <a:xfrm>
              <a:off x="5410080" y="4038840"/>
              <a:ext cx="585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cs-CZ" sz="2000" spc="-1" strike="noStrike" baseline="-25000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ovéPole 88"/>
            <p:cNvSpPr/>
            <p:nvPr/>
          </p:nvSpPr>
          <p:spPr>
            <a:xfrm>
              <a:off x="5105520" y="4572000"/>
              <a:ext cx="91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Arial"/>
                </a:rPr>
                <a:t>33 μ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ovéPole 88"/>
            <p:cNvSpPr/>
            <p:nvPr/>
          </p:nvSpPr>
          <p:spPr>
            <a:xfrm>
              <a:off x="6705360" y="4876920"/>
              <a:ext cx="1523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cs-CZ" sz="20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cs-CZ" sz="2000" spc="-1" strike="noStrike">
                  <a:solidFill>
                    <a:srgbClr val="000000"/>
                  </a:solidFill>
                  <a:latin typeface="Arial"/>
                </a:rPr>
                <a:t> 4 m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6" name="Přímá spojovací šipka 78"/>
            <p:cNvCxnSpPr/>
            <p:nvPr/>
          </p:nvCxnSpPr>
          <p:spPr>
            <a:xfrm>
              <a:off x="5409720" y="4419360"/>
              <a:ext cx="53388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7" name="Přímá spojovací šipka 80"/>
            <p:cNvCxnSpPr/>
            <p:nvPr/>
          </p:nvCxnSpPr>
          <p:spPr>
            <a:xfrm>
              <a:off x="5866920" y="4724640"/>
              <a:ext cx="533880" cy="45792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178" name="TextovéPole 81"/>
            <p:cNvSpPr/>
            <p:nvPr/>
          </p:nvSpPr>
          <p:spPr>
            <a:xfrm>
              <a:off x="5562360" y="4876920"/>
              <a:ext cx="609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0" lang="cs-CZ" sz="2000" spc="-1" strike="noStrike" baseline="-25000">
                  <a:solidFill>
                    <a:srgbClr val="000000"/>
                  </a:solidFill>
                  <a:latin typeface="Arial"/>
                </a:rPr>
                <a:t>B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Skupina 41"/>
          <p:cNvGrpSpPr/>
          <p:nvPr/>
        </p:nvGrpSpPr>
        <p:grpSpPr>
          <a:xfrm>
            <a:off x="609480" y="1143000"/>
            <a:ext cx="7634520" cy="685440"/>
            <a:chOff x="609480" y="1143000"/>
            <a:chExt cx="7634520" cy="685440"/>
          </a:xfrm>
        </p:grpSpPr>
        <p:pic>
          <p:nvPicPr>
            <p:cNvPr id="180" name="Picture 38" descr=""/>
            <p:cNvPicPr/>
            <p:nvPr/>
          </p:nvPicPr>
          <p:blipFill>
            <a:blip r:embed="rId2"/>
            <a:stretch/>
          </p:blipFill>
          <p:spPr>
            <a:xfrm>
              <a:off x="609480" y="1143000"/>
              <a:ext cx="7634520" cy="34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" name="Picture 37" descr=""/>
            <p:cNvPicPr/>
            <p:nvPr/>
          </p:nvPicPr>
          <p:blipFill>
            <a:blip r:embed="rId3"/>
            <a:stretch/>
          </p:blipFill>
          <p:spPr>
            <a:xfrm>
              <a:off x="609480" y="1485720"/>
              <a:ext cx="6028200" cy="342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2" name="Rectangle 3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40"/>
          <p:cNvSpPr/>
          <p:nvPr/>
        </p:nvSpPr>
        <p:spPr>
          <a:xfrm>
            <a:off x="0" y="63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41"/>
          <p:cNvSpPr/>
          <p:nvPr/>
        </p:nvSpPr>
        <p:spPr>
          <a:xfrm>
            <a:off x="0" y="81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4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42" descr=""/>
          <p:cNvPicPr/>
          <p:nvPr/>
        </p:nvPicPr>
        <p:blipFill>
          <a:blip r:embed="rId4"/>
          <a:stretch/>
        </p:blipFill>
        <p:spPr>
          <a:xfrm>
            <a:off x="1676520" y="1828800"/>
            <a:ext cx="5349600" cy="68580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44"/>
          <p:cNvSpPr/>
          <p:nvPr/>
        </p:nvSpPr>
        <p:spPr>
          <a:xfrm>
            <a:off x="0" y="83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ovéPole 51"/>
          <p:cNvSpPr/>
          <p:nvPr/>
        </p:nvSpPr>
        <p:spPr>
          <a:xfrm>
            <a:off x="0" y="281952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ak funguje stabiliza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Volný tvar 45"/>
          <p:cNvSpPr/>
          <p:nvPr/>
        </p:nvSpPr>
        <p:spPr>
          <a:xfrm>
            <a:off x="4979880" y="2462040"/>
            <a:ext cx="2925720" cy="3840480"/>
          </a:xfrm>
          <a:custGeom>
            <a:avLst/>
            <a:gdLst/>
            <a:ahLst/>
            <a:rect l="l" t="t" r="r" b="b"/>
            <a:pathLst>
              <a:path w="2926080" h="3840480">
                <a:moveTo>
                  <a:pt x="2926080" y="42203"/>
                </a:moveTo>
                <a:cubicBezTo>
                  <a:pt x="2841674" y="37514"/>
                  <a:pt x="2757071" y="35566"/>
                  <a:pt x="2672862" y="28136"/>
                </a:cubicBezTo>
                <a:cubicBezTo>
                  <a:pt x="2597543" y="21490"/>
                  <a:pt x="2447779" y="0"/>
                  <a:pt x="2447779" y="0"/>
                </a:cubicBezTo>
                <a:cubicBezTo>
                  <a:pt x="2269588" y="9379"/>
                  <a:pt x="2091168" y="15114"/>
                  <a:pt x="1913206" y="28136"/>
                </a:cubicBezTo>
                <a:cubicBezTo>
                  <a:pt x="1898417" y="29218"/>
                  <a:pt x="1885389" y="38607"/>
                  <a:pt x="1871003" y="42203"/>
                </a:cubicBezTo>
                <a:cubicBezTo>
                  <a:pt x="1847807" y="48002"/>
                  <a:pt x="1823861" y="50472"/>
                  <a:pt x="1800665" y="56271"/>
                </a:cubicBezTo>
                <a:cubicBezTo>
                  <a:pt x="1786279" y="59868"/>
                  <a:pt x="1773200" y="68701"/>
                  <a:pt x="1758462" y="70339"/>
                </a:cubicBezTo>
                <a:cubicBezTo>
                  <a:pt x="1688398" y="78124"/>
                  <a:pt x="1617785" y="79717"/>
                  <a:pt x="1547446" y="84406"/>
                </a:cubicBezTo>
                <a:cubicBezTo>
                  <a:pt x="1472163" y="159692"/>
                  <a:pt x="1576344" y="49576"/>
                  <a:pt x="1491175" y="168812"/>
                </a:cubicBezTo>
                <a:cubicBezTo>
                  <a:pt x="1479611" y="185001"/>
                  <a:pt x="1463040" y="196948"/>
                  <a:pt x="1448972" y="211016"/>
                </a:cubicBezTo>
                <a:cubicBezTo>
                  <a:pt x="1444002" y="250778"/>
                  <a:pt x="1436839" y="367870"/>
                  <a:pt x="1406769" y="407963"/>
                </a:cubicBezTo>
                <a:lnTo>
                  <a:pt x="1364566" y="464234"/>
                </a:lnTo>
                <a:cubicBezTo>
                  <a:pt x="1359877" y="515816"/>
                  <a:pt x="1356551" y="567539"/>
                  <a:pt x="1350499" y="618979"/>
                </a:cubicBezTo>
                <a:cubicBezTo>
                  <a:pt x="1347166" y="647307"/>
                  <a:pt x="1347024" y="676902"/>
                  <a:pt x="1336431" y="703385"/>
                </a:cubicBezTo>
                <a:cubicBezTo>
                  <a:pt x="1327723" y="725154"/>
                  <a:pt x="1307856" y="740577"/>
                  <a:pt x="1294228" y="759656"/>
                </a:cubicBezTo>
                <a:cubicBezTo>
                  <a:pt x="1284401" y="773414"/>
                  <a:pt x="1278047" y="789904"/>
                  <a:pt x="1266092" y="801859"/>
                </a:cubicBezTo>
                <a:cubicBezTo>
                  <a:pt x="1223507" y="844444"/>
                  <a:pt x="1215907" y="842034"/>
                  <a:pt x="1167619" y="858129"/>
                </a:cubicBezTo>
                <a:cubicBezTo>
                  <a:pt x="1028128" y="951123"/>
                  <a:pt x="1189963" y="853760"/>
                  <a:pt x="801859" y="900332"/>
                </a:cubicBezTo>
                <a:cubicBezTo>
                  <a:pt x="788690" y="901912"/>
                  <a:pt x="786306" y="924274"/>
                  <a:pt x="773723" y="928468"/>
                </a:cubicBezTo>
                <a:cubicBezTo>
                  <a:pt x="742267" y="938954"/>
                  <a:pt x="708323" y="940174"/>
                  <a:pt x="675249" y="942536"/>
                </a:cubicBezTo>
                <a:cubicBezTo>
                  <a:pt x="576914" y="949560"/>
                  <a:pt x="478302" y="951914"/>
                  <a:pt x="379828" y="956603"/>
                </a:cubicBezTo>
                <a:cubicBezTo>
                  <a:pt x="337625" y="961292"/>
                  <a:pt x="294954" y="962846"/>
                  <a:pt x="253219" y="970671"/>
                </a:cubicBezTo>
                <a:cubicBezTo>
                  <a:pt x="171864" y="985925"/>
                  <a:pt x="162376" y="994991"/>
                  <a:pt x="98474" y="1026942"/>
                </a:cubicBezTo>
                <a:cubicBezTo>
                  <a:pt x="89096" y="1041010"/>
                  <a:pt x="76276" y="1053314"/>
                  <a:pt x="70339" y="1069145"/>
                </a:cubicBezTo>
                <a:cubicBezTo>
                  <a:pt x="30334" y="1175825"/>
                  <a:pt x="86123" y="1109631"/>
                  <a:pt x="28135" y="1167619"/>
                </a:cubicBezTo>
                <a:cubicBezTo>
                  <a:pt x="23446" y="1298917"/>
                  <a:pt x="19775" y="1430256"/>
                  <a:pt x="14068" y="1561514"/>
                </a:cubicBezTo>
                <a:cubicBezTo>
                  <a:pt x="10396" y="1645970"/>
                  <a:pt x="0" y="1730196"/>
                  <a:pt x="0" y="1814732"/>
                </a:cubicBezTo>
                <a:cubicBezTo>
                  <a:pt x="0" y="2030488"/>
                  <a:pt x="883" y="2246494"/>
                  <a:pt x="14068" y="2461846"/>
                </a:cubicBezTo>
                <a:cubicBezTo>
                  <a:pt x="15101" y="2478722"/>
                  <a:pt x="30248" y="2492094"/>
                  <a:pt x="42203" y="2504049"/>
                </a:cubicBezTo>
                <a:cubicBezTo>
                  <a:pt x="75586" y="2537433"/>
                  <a:pt x="168470" y="2566477"/>
                  <a:pt x="196948" y="2574388"/>
                </a:cubicBezTo>
                <a:cubicBezTo>
                  <a:pt x="243024" y="2587187"/>
                  <a:pt x="290733" y="2593145"/>
                  <a:pt x="337625" y="2602523"/>
                </a:cubicBezTo>
                <a:cubicBezTo>
                  <a:pt x="361071" y="2607212"/>
                  <a:pt x="384973" y="2610022"/>
                  <a:pt x="407963" y="2616591"/>
                </a:cubicBezTo>
                <a:lnTo>
                  <a:pt x="506437" y="2644726"/>
                </a:lnTo>
                <a:cubicBezTo>
                  <a:pt x="525090" y="2649813"/>
                  <a:pt x="544118" y="2653482"/>
                  <a:pt x="562708" y="2658794"/>
                </a:cubicBezTo>
                <a:cubicBezTo>
                  <a:pt x="703940" y="2699147"/>
                  <a:pt x="485322" y="2642966"/>
                  <a:pt x="661182" y="2686929"/>
                </a:cubicBezTo>
                <a:cubicBezTo>
                  <a:pt x="782131" y="2767563"/>
                  <a:pt x="629102" y="2670889"/>
                  <a:pt x="745588" y="2729132"/>
                </a:cubicBezTo>
                <a:cubicBezTo>
                  <a:pt x="777389" y="2745032"/>
                  <a:pt x="837428" y="2798014"/>
                  <a:pt x="858129" y="2813539"/>
                </a:cubicBezTo>
                <a:cubicBezTo>
                  <a:pt x="929119" y="2866781"/>
                  <a:pt x="874451" y="2815794"/>
                  <a:pt x="928468" y="2869809"/>
                </a:cubicBezTo>
                <a:cubicBezTo>
                  <a:pt x="937846" y="2888566"/>
                  <a:pt x="946199" y="2907872"/>
                  <a:pt x="956603" y="2926080"/>
                </a:cubicBezTo>
                <a:cubicBezTo>
                  <a:pt x="964991" y="2940760"/>
                  <a:pt x="977872" y="2952833"/>
                  <a:pt x="984739" y="2968283"/>
                </a:cubicBezTo>
                <a:cubicBezTo>
                  <a:pt x="996784" y="2995384"/>
                  <a:pt x="1005681" y="3023917"/>
                  <a:pt x="1012874" y="3052689"/>
                </a:cubicBezTo>
                <a:cubicBezTo>
                  <a:pt x="1017563" y="3071446"/>
                  <a:pt x="1019326" y="3091189"/>
                  <a:pt x="1026942" y="3108960"/>
                </a:cubicBezTo>
                <a:cubicBezTo>
                  <a:pt x="1033602" y="3124500"/>
                  <a:pt x="1045250" y="3137405"/>
                  <a:pt x="1055077" y="3151163"/>
                </a:cubicBezTo>
                <a:cubicBezTo>
                  <a:pt x="1102665" y="3217787"/>
                  <a:pt x="1081203" y="3196716"/>
                  <a:pt x="1139483" y="3235569"/>
                </a:cubicBezTo>
                <a:cubicBezTo>
                  <a:pt x="1160743" y="3320609"/>
                  <a:pt x="1147438" y="3273503"/>
                  <a:pt x="1181686" y="3376246"/>
                </a:cubicBezTo>
                <a:cubicBezTo>
                  <a:pt x="1186375" y="3390314"/>
                  <a:pt x="1185269" y="3407963"/>
                  <a:pt x="1195754" y="3418449"/>
                </a:cubicBezTo>
                <a:lnTo>
                  <a:pt x="1223889" y="3446585"/>
                </a:lnTo>
                <a:cubicBezTo>
                  <a:pt x="1228578" y="3460653"/>
                  <a:pt x="1234740" y="3474312"/>
                  <a:pt x="1237957" y="3488788"/>
                </a:cubicBezTo>
                <a:cubicBezTo>
                  <a:pt x="1242300" y="3508333"/>
                  <a:pt x="1249328" y="3587458"/>
                  <a:pt x="1266092" y="3615397"/>
                </a:cubicBezTo>
                <a:cubicBezTo>
                  <a:pt x="1272916" y="3626770"/>
                  <a:pt x="1284849" y="3634154"/>
                  <a:pt x="1294228" y="3643532"/>
                </a:cubicBezTo>
                <a:cubicBezTo>
                  <a:pt x="1319667" y="3745295"/>
                  <a:pt x="1308295" y="3680469"/>
                  <a:pt x="1308295" y="3840480"/>
                </a:cubicBezTo>
              </a:path>
            </a:pathLst>
          </a:custGeom>
          <a:noFill/>
          <a:ln w="25560">
            <a:solidFill>
              <a:srgbClr val="00b05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1" descr=""/>
          <p:cNvPicPr/>
          <p:nvPr/>
        </p:nvPicPr>
        <p:blipFill>
          <a:blip r:embed="rId5"/>
          <a:stretch/>
        </p:blipFill>
        <p:spPr>
          <a:xfrm>
            <a:off x="0" y="3429000"/>
            <a:ext cx="4960800" cy="914400"/>
          </a:xfrm>
          <a:prstGeom prst="rect">
            <a:avLst/>
          </a:prstGeom>
          <a:ln w="0">
            <a:noFill/>
          </a:ln>
        </p:spPr>
      </p:pic>
      <p:sp>
        <p:nvSpPr>
          <p:cNvPr id="192" name="Rectangle 3"/>
          <p:cNvSpPr/>
          <p:nvPr/>
        </p:nvSpPr>
        <p:spPr>
          <a:xfrm>
            <a:off x="0" y="83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ovéPole 43"/>
          <p:cNvSpPr/>
          <p:nvPr/>
        </p:nvSpPr>
        <p:spPr>
          <a:xfrm>
            <a:off x="228600" y="4267080"/>
            <a:ext cx="4876920" cy="24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Zvýšení I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↑ =&gt; U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Arial"/>
              </a:rPr>
              <a:t>R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a U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Arial"/>
              </a:rPr>
              <a:t>RC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↑ =&gt; I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↓ =&gt; =&gt; Tr. se přivírá =&gt; I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ochází ke stabilizac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ovéPole 1"/>
          <p:cNvSpPr/>
          <p:nvPr/>
        </p:nvSpPr>
        <p:spPr>
          <a:xfrm>
            <a:off x="304920" y="38088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OTÁZK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ovéPole 2"/>
          <p:cNvSpPr/>
          <p:nvPr/>
        </p:nvSpPr>
        <p:spPr>
          <a:xfrm>
            <a:off x="533520" y="1371600"/>
            <a:ext cx="861048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Proč musíme stabilizovat pracovní b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by nedošlo k samovolnému posunu např.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ahřáním tranzistor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Zkuste sami odvodit reakci obvodu na snížení proudu I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↓ =&gt; U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Arial"/>
              </a:rPr>
              <a:t>R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a U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Arial"/>
              </a:rPr>
              <a:t>RC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↓ =&gt; I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↑ =&gt; Tr. se přivírá =&gt; I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ovéPole 1"/>
          <p:cNvSpPr/>
          <p:nvPr/>
        </p:nvSpPr>
        <p:spPr>
          <a:xfrm>
            <a:off x="304920" y="38088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ZÁVĚ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ovéPole 2"/>
          <p:cNvSpPr/>
          <p:nvPr/>
        </p:nvSpPr>
        <p:spPr>
          <a:xfrm>
            <a:off x="457200" y="1447920"/>
            <a:ext cx="8305920" cy="41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abilizace je důležitá, aby nedocházelo k samovolné změně polohy pracovního bodu např. vlivem teplo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abilizace kolektorovým rezistorem spočívá 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 nastavení proudu báze I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přes kolektorový rezistor R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, tím pádem U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Arial"/>
              </a:rPr>
              <a:t>RB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závisí na velikosti proudu I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a obvod je tak schopen kompenzovat změny I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25T23:31:44Z</dcterms:created>
  <dc:creator>Erda</dc:creator>
  <dc:description/>
  <dc:language>en-US</dc:language>
  <cp:lastModifiedBy>Erda</cp:lastModifiedBy>
  <dcterms:modified xsi:type="dcterms:W3CDTF">2014-10-28T20:27:49Z</dcterms:modified>
  <cp:revision>3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