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CE57-20D9-486C-B20E-5BD4D393F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2623-C4B1-4C2B-AF74-41554339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856F-B774-4E34-AE06-33BFA48F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5324-B377-45D9-86E4-3DA9AFC52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09B8-7C64-4CEE-8D54-4CEC5337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5515-A476-49E3-B329-874E724A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FF7A-96A2-46CF-93C1-7B65B366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8B81-BA52-464C-995D-E666629C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9ED4-5C51-4BA1-81F4-9CEE5C97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FA9E-9803-4122-9D4C-A7F60BDE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4610-AA18-4415-A9B1-F9C55F48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B4F7-08AD-4F91-A200-98543925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3939-21B8-4A0E-B9A9-05CFC4D49F7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4" descr="OPVK_hor_zakladni_logolink_CMYK_cz.tif"/>
          <p:cNvPicPr/>
          <p:nvPr/>
        </p:nvPicPr>
        <p:blipFill>
          <a:blip r:embed="rId1"/>
          <a:stretch/>
        </p:blipFill>
        <p:spPr>
          <a:xfrm>
            <a:off x="533520" y="304920"/>
            <a:ext cx="802008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533520" y="2209680"/>
          <a:ext cx="8001000" cy="3735360"/>
        </p:xfrm>
        <a:graphic>
          <a:graphicData uri="http://schemas.openxmlformats.org/drawingml/2006/table">
            <a:tbl>
              <a:tblPr/>
              <a:tblGrid>
                <a:gridCol w="2535120"/>
                <a:gridCol w="5465880"/>
              </a:tblGrid>
              <a:tr h="4572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ŠKO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řední škola elektrotechnická, Ostrava, Na Jízdárně 30, p.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Z.1.07/1.5.00/34.09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ČÍSLO 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_32_INOVACE_5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NÁZEV 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zistory / Stabilizace pracovního bodu tranzistoru pomocí můstkového zapoj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. Radim Truchl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DATUM VYTVO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věten 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ročník studijního obor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VZDĚLÁVACÍ OBLAST/</a:t>
                      </a:r>
                      <a:br>
                        <a:rPr sz="1400"/>
                      </a:b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KLÍČOVÁ SL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KTRONIKA  - polovodič, tranzistor,  stabilizace, můst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Text Box 464"/>
          <p:cNvSpPr/>
          <p:nvPr/>
        </p:nvSpPr>
        <p:spPr>
          <a:xfrm>
            <a:off x="533520" y="6172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 prohlašuje, že řádně uvedl všechny použité zdroje.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není uvedeno jinak, použitý materiál je z vlastních zdrojů aut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MŮSTKOVÁ STABILIZ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Skupina 22"/>
          <p:cNvGrpSpPr/>
          <p:nvPr/>
        </p:nvGrpSpPr>
        <p:grpSpPr>
          <a:xfrm>
            <a:off x="5181480" y="2438280"/>
            <a:ext cx="3324240" cy="4133880"/>
            <a:chOff x="5181480" y="2438280"/>
            <a:chExt cx="3324240" cy="4133880"/>
          </a:xfrm>
        </p:grpSpPr>
        <p:pic>
          <p:nvPicPr>
            <p:cNvPr id="305" name="Picture 3" descr=""/>
            <p:cNvPicPr/>
            <p:nvPr/>
          </p:nvPicPr>
          <p:blipFill>
            <a:blip r:embed="rId1"/>
            <a:stretch/>
          </p:blipFill>
          <p:spPr>
            <a:xfrm>
              <a:off x="5410080" y="2438280"/>
              <a:ext cx="3095640" cy="413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TextovéPole 5"/>
            <p:cNvSpPr/>
            <p:nvPr/>
          </p:nvSpPr>
          <p:spPr>
            <a:xfrm>
              <a:off x="7010280" y="335268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ovéPole 6"/>
            <p:cNvSpPr/>
            <p:nvPr/>
          </p:nvSpPr>
          <p:spPr>
            <a:xfrm>
              <a:off x="7010280" y="548640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ovéPole 7"/>
            <p:cNvSpPr/>
            <p:nvPr/>
          </p:nvSpPr>
          <p:spPr>
            <a:xfrm>
              <a:off x="5181480" y="335268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ovéPole 8"/>
            <p:cNvSpPr/>
            <p:nvPr/>
          </p:nvSpPr>
          <p:spPr>
            <a:xfrm>
              <a:off x="5181480" y="541008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Elipsa 24"/>
            <p:cNvSpPr/>
            <p:nvPr/>
          </p:nvSpPr>
          <p:spPr>
            <a:xfrm rot="10800000">
              <a:off x="6866640" y="6208920"/>
              <a:ext cx="146160" cy="146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ovéPole 88"/>
            <p:cNvSpPr/>
            <p:nvPr/>
          </p:nvSpPr>
          <p:spPr>
            <a:xfrm>
              <a:off x="5257440" y="3962160"/>
              <a:ext cx="58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2" name="Přímá spojovací šipka 78"/>
            <p:cNvCxnSpPr/>
            <p:nvPr/>
          </p:nvCxnSpPr>
          <p:spPr>
            <a:xfrm>
              <a:off x="5696280" y="3962160"/>
              <a:ext cx="1080" cy="512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3" name="TextovéPole 88"/>
            <p:cNvSpPr/>
            <p:nvPr/>
          </p:nvSpPr>
          <p:spPr>
            <a:xfrm>
              <a:off x="5257440" y="4876560"/>
              <a:ext cx="58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B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4" name="Přímá spojovací šipka 78"/>
            <p:cNvCxnSpPr/>
            <p:nvPr/>
          </p:nvCxnSpPr>
          <p:spPr>
            <a:xfrm>
              <a:off x="5696280" y="4876560"/>
              <a:ext cx="1080" cy="512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5" name="TextovéPole 88"/>
            <p:cNvSpPr/>
            <p:nvPr/>
          </p:nvSpPr>
          <p:spPr>
            <a:xfrm>
              <a:off x="5867280" y="4190760"/>
              <a:ext cx="58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6" name="Přímá spojovací šipka 78"/>
            <p:cNvCxnSpPr/>
            <p:nvPr/>
          </p:nvCxnSpPr>
          <p:spPr>
            <a:xfrm>
              <a:off x="5866920" y="4647600"/>
              <a:ext cx="5338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7" name="TextovéPole 36"/>
            <p:cNvSpPr/>
            <p:nvPr/>
          </p:nvSpPr>
          <p:spPr>
            <a:xfrm>
              <a:off x="6095880" y="502920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ovéPole 33"/>
          <p:cNvSpPr/>
          <p:nvPr/>
        </p:nvSpPr>
        <p:spPr>
          <a:xfrm>
            <a:off x="7010280" y="5867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0,5 k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ovéPole 34"/>
          <p:cNvSpPr/>
          <p:nvPr/>
        </p:nvSpPr>
        <p:spPr>
          <a:xfrm>
            <a:off x="7086600" y="36576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 k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Přímá spojovací šipka 35"/>
          <p:cNvCxnSpPr/>
          <p:nvPr/>
        </p:nvCxnSpPr>
        <p:spPr>
          <a:xfrm>
            <a:off x="6248160" y="4876920"/>
            <a:ext cx="533880" cy="457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0" y="127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0"/>
          <p:cNvSpPr/>
          <p:nvPr/>
        </p:nvSpPr>
        <p:spPr>
          <a:xfrm>
            <a:off x="0" y="9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6"/>
          <p:cNvSpPr/>
          <p:nvPr/>
        </p:nvSpPr>
        <p:spPr>
          <a:xfrm>
            <a:off x="0" y="127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3" descr=""/>
          <p:cNvPicPr/>
          <p:nvPr/>
        </p:nvPicPr>
        <p:blipFill>
          <a:blip r:embed="rId2"/>
          <a:stretch/>
        </p:blipFill>
        <p:spPr>
          <a:xfrm>
            <a:off x="2114640" y="990720"/>
            <a:ext cx="4800600" cy="3618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3"/>
          <a:stretch/>
        </p:blipFill>
        <p:spPr>
          <a:xfrm>
            <a:off x="1981080" y="1447920"/>
            <a:ext cx="5105520" cy="3618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" descr=""/>
          <p:cNvPicPr/>
          <p:nvPr/>
        </p:nvPicPr>
        <p:blipFill>
          <a:blip r:embed="rId4"/>
          <a:stretch/>
        </p:blipFill>
        <p:spPr>
          <a:xfrm>
            <a:off x="1295280" y="1905120"/>
            <a:ext cx="6286680" cy="74268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ovéPole 57"/>
          <p:cNvSpPr/>
          <p:nvPr/>
        </p:nvSpPr>
        <p:spPr>
          <a:xfrm>
            <a:off x="4876920" y="5867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8,2 k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ovéPole 58"/>
          <p:cNvSpPr/>
          <p:nvPr/>
        </p:nvSpPr>
        <p:spPr>
          <a:xfrm>
            <a:off x="4800600" y="29718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5,6 k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ovéPole 51"/>
          <p:cNvSpPr/>
          <p:nvPr/>
        </p:nvSpPr>
        <p:spPr>
          <a:xfrm>
            <a:off x="0" y="28195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funguje stabiliz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ovéPole 53"/>
          <p:cNvSpPr/>
          <p:nvPr/>
        </p:nvSpPr>
        <p:spPr>
          <a:xfrm>
            <a:off x="7827840" y="2895480"/>
            <a:ext cx="131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Volný tvar 54"/>
          <p:cNvSpPr/>
          <p:nvPr/>
        </p:nvSpPr>
        <p:spPr>
          <a:xfrm>
            <a:off x="5532480" y="2573280"/>
            <a:ext cx="2671560" cy="3776760"/>
          </a:xfrm>
          <a:custGeom>
            <a:avLst/>
            <a:gdLst>
              <a:gd name="textAreaLeft" fmla="*/ 0 w 2671560"/>
              <a:gd name="textAreaRight" fmla="*/ 2671920 w 2671560"/>
              <a:gd name="textAreaTop" fmla="*/ 0 h 3776760"/>
              <a:gd name="textAreaBottom" fmla="*/ 3777120 h 3776760"/>
            </a:gdLst>
            <a:ahLst/>
            <a:rect l="textAreaLeft" t="textAreaTop" r="textAreaRight" b="textAreaBottom"/>
            <a:pathLst>
              <a:path w="2671524" h="3776721">
                <a:moveTo>
                  <a:pt x="2671524" y="17521"/>
                </a:moveTo>
                <a:cubicBezTo>
                  <a:pt x="2658824" y="21754"/>
                  <a:pt x="2646811" y="30221"/>
                  <a:pt x="2633424" y="30221"/>
                </a:cubicBezTo>
                <a:cubicBezTo>
                  <a:pt x="0" y="30221"/>
                  <a:pt x="2670904" y="0"/>
                  <a:pt x="525224" y="30221"/>
                </a:cubicBezTo>
                <a:cubicBezTo>
                  <a:pt x="495958" y="35099"/>
                  <a:pt x="442188" y="39989"/>
                  <a:pt x="410924" y="55621"/>
                </a:cubicBezTo>
                <a:cubicBezTo>
                  <a:pt x="397272" y="62447"/>
                  <a:pt x="386853" y="75008"/>
                  <a:pt x="372824" y="81021"/>
                </a:cubicBezTo>
                <a:cubicBezTo>
                  <a:pt x="356781" y="87897"/>
                  <a:pt x="338367" y="87592"/>
                  <a:pt x="322024" y="93721"/>
                </a:cubicBezTo>
                <a:cubicBezTo>
                  <a:pt x="304297" y="100368"/>
                  <a:pt x="288625" y="111663"/>
                  <a:pt x="271224" y="119121"/>
                </a:cubicBezTo>
                <a:cubicBezTo>
                  <a:pt x="258919" y="124394"/>
                  <a:pt x="245098" y="125834"/>
                  <a:pt x="233124" y="131821"/>
                </a:cubicBezTo>
                <a:cubicBezTo>
                  <a:pt x="204581" y="146092"/>
                  <a:pt x="176986" y="171246"/>
                  <a:pt x="156924" y="195321"/>
                </a:cubicBezTo>
                <a:cubicBezTo>
                  <a:pt x="147153" y="207047"/>
                  <a:pt x="138350" y="219769"/>
                  <a:pt x="131524" y="233421"/>
                </a:cubicBezTo>
                <a:cubicBezTo>
                  <a:pt x="116338" y="263793"/>
                  <a:pt x="104416" y="302046"/>
                  <a:pt x="93424" y="335021"/>
                </a:cubicBezTo>
                <a:cubicBezTo>
                  <a:pt x="97657" y="597488"/>
                  <a:pt x="98173" y="860041"/>
                  <a:pt x="106124" y="1122421"/>
                </a:cubicBezTo>
                <a:cubicBezTo>
                  <a:pt x="106653" y="1139867"/>
                  <a:pt x="116356" y="1155942"/>
                  <a:pt x="118824" y="1173221"/>
                </a:cubicBezTo>
                <a:cubicBezTo>
                  <a:pt x="124841" y="1215338"/>
                  <a:pt x="123684" y="1258405"/>
                  <a:pt x="131524" y="1300221"/>
                </a:cubicBezTo>
                <a:cubicBezTo>
                  <a:pt x="136458" y="1326536"/>
                  <a:pt x="149231" y="1350776"/>
                  <a:pt x="156924" y="1376421"/>
                </a:cubicBezTo>
                <a:cubicBezTo>
                  <a:pt x="179290" y="1450975"/>
                  <a:pt x="154726" y="1404874"/>
                  <a:pt x="195024" y="1465321"/>
                </a:cubicBezTo>
                <a:cubicBezTo>
                  <a:pt x="199257" y="1486488"/>
                  <a:pt x="204175" y="1507529"/>
                  <a:pt x="207724" y="1528821"/>
                </a:cubicBezTo>
                <a:cubicBezTo>
                  <a:pt x="212645" y="1558348"/>
                  <a:pt x="213164" y="1588681"/>
                  <a:pt x="220424" y="1617721"/>
                </a:cubicBezTo>
                <a:cubicBezTo>
                  <a:pt x="225953" y="1639838"/>
                  <a:pt x="237357" y="1660054"/>
                  <a:pt x="245824" y="1681221"/>
                </a:cubicBezTo>
                <a:cubicBezTo>
                  <a:pt x="250057" y="1706621"/>
                  <a:pt x="248066" y="1733890"/>
                  <a:pt x="258524" y="1757421"/>
                </a:cubicBezTo>
                <a:cubicBezTo>
                  <a:pt x="265818" y="1773834"/>
                  <a:pt x="285126" y="1781723"/>
                  <a:pt x="296624" y="1795521"/>
                </a:cubicBezTo>
                <a:cubicBezTo>
                  <a:pt x="306395" y="1807247"/>
                  <a:pt x="310105" y="1824086"/>
                  <a:pt x="322024" y="1833621"/>
                </a:cubicBezTo>
                <a:cubicBezTo>
                  <a:pt x="335041" y="1844035"/>
                  <a:pt x="420462" y="1858389"/>
                  <a:pt x="423624" y="1859021"/>
                </a:cubicBezTo>
                <a:cubicBezTo>
                  <a:pt x="440557" y="1871721"/>
                  <a:pt x="455492" y="1887655"/>
                  <a:pt x="474424" y="1897121"/>
                </a:cubicBezTo>
                <a:cubicBezTo>
                  <a:pt x="534096" y="1926957"/>
                  <a:pt x="574348" y="1924358"/>
                  <a:pt x="639524" y="1935221"/>
                </a:cubicBezTo>
                <a:cubicBezTo>
                  <a:pt x="660816" y="1938770"/>
                  <a:pt x="681857" y="1943688"/>
                  <a:pt x="703024" y="1947921"/>
                </a:cubicBezTo>
                <a:cubicBezTo>
                  <a:pt x="715724" y="1956388"/>
                  <a:pt x="727472" y="1966495"/>
                  <a:pt x="741124" y="1973321"/>
                </a:cubicBezTo>
                <a:cubicBezTo>
                  <a:pt x="772388" y="1988953"/>
                  <a:pt x="826158" y="1993843"/>
                  <a:pt x="855424" y="1998721"/>
                </a:cubicBezTo>
                <a:cubicBezTo>
                  <a:pt x="882961" y="2012490"/>
                  <a:pt x="913179" y="2030592"/>
                  <a:pt x="944324" y="2036821"/>
                </a:cubicBezTo>
                <a:cubicBezTo>
                  <a:pt x="973677" y="2042692"/>
                  <a:pt x="1003591" y="2045288"/>
                  <a:pt x="1033224" y="2049521"/>
                </a:cubicBezTo>
                <a:cubicBezTo>
                  <a:pt x="1045924" y="2053754"/>
                  <a:pt x="1060185" y="2054795"/>
                  <a:pt x="1071324" y="2062221"/>
                </a:cubicBezTo>
                <a:cubicBezTo>
                  <a:pt x="1119957" y="2094643"/>
                  <a:pt x="1099682" y="2099375"/>
                  <a:pt x="1134824" y="2138421"/>
                </a:cubicBezTo>
                <a:cubicBezTo>
                  <a:pt x="1278202" y="2297730"/>
                  <a:pt x="1170242" y="2174174"/>
                  <a:pt x="1274524" y="2265421"/>
                </a:cubicBezTo>
                <a:cubicBezTo>
                  <a:pt x="1292546" y="2281190"/>
                  <a:pt x="1308391" y="2299288"/>
                  <a:pt x="1325324" y="2316221"/>
                </a:cubicBezTo>
                <a:cubicBezTo>
                  <a:pt x="1329557" y="2328921"/>
                  <a:pt x="1331382" y="2342698"/>
                  <a:pt x="1338024" y="2354321"/>
                </a:cubicBezTo>
                <a:cubicBezTo>
                  <a:pt x="1383519" y="2433938"/>
                  <a:pt x="1369833" y="2373589"/>
                  <a:pt x="1388824" y="2443221"/>
                </a:cubicBezTo>
                <a:cubicBezTo>
                  <a:pt x="1398009" y="2476900"/>
                  <a:pt x="1394860" y="2515775"/>
                  <a:pt x="1414224" y="2544821"/>
                </a:cubicBezTo>
                <a:cubicBezTo>
                  <a:pt x="1437058" y="2579072"/>
                  <a:pt x="1443561" y="2581586"/>
                  <a:pt x="1452324" y="2621021"/>
                </a:cubicBezTo>
                <a:cubicBezTo>
                  <a:pt x="1474574" y="2721146"/>
                  <a:pt x="1455862" y="2703255"/>
                  <a:pt x="1490424" y="2824221"/>
                </a:cubicBezTo>
                <a:cubicBezTo>
                  <a:pt x="1495625" y="2842425"/>
                  <a:pt x="1507357" y="2858088"/>
                  <a:pt x="1515824" y="2875021"/>
                </a:cubicBezTo>
                <a:cubicBezTo>
                  <a:pt x="1520057" y="2900421"/>
                  <a:pt x="1523474" y="2925971"/>
                  <a:pt x="1528524" y="2951221"/>
                </a:cubicBezTo>
                <a:cubicBezTo>
                  <a:pt x="1531947" y="2968337"/>
                  <a:pt x="1538355" y="2984804"/>
                  <a:pt x="1541224" y="3002021"/>
                </a:cubicBezTo>
                <a:cubicBezTo>
                  <a:pt x="1546835" y="3035687"/>
                  <a:pt x="1548313" y="3069955"/>
                  <a:pt x="1553924" y="3103621"/>
                </a:cubicBezTo>
                <a:cubicBezTo>
                  <a:pt x="1561021" y="3146205"/>
                  <a:pt x="1573219" y="3187883"/>
                  <a:pt x="1579324" y="3230621"/>
                </a:cubicBezTo>
                <a:cubicBezTo>
                  <a:pt x="1583557" y="3260254"/>
                  <a:pt x="1586669" y="3290070"/>
                  <a:pt x="1592024" y="3319521"/>
                </a:cubicBezTo>
                <a:cubicBezTo>
                  <a:pt x="1598403" y="3354604"/>
                  <a:pt x="1606543" y="3375777"/>
                  <a:pt x="1617424" y="3408421"/>
                </a:cubicBezTo>
                <a:lnTo>
                  <a:pt x="1604724" y="3776721"/>
                </a:lnTo>
              </a:path>
            </a:pathLst>
          </a:custGeom>
          <a:noFill/>
          <a:ln w="25560">
            <a:solidFill>
              <a:srgbClr val="00b05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ovéPole 62"/>
          <p:cNvSpPr/>
          <p:nvPr/>
        </p:nvSpPr>
        <p:spPr>
          <a:xfrm>
            <a:off x="152280" y="3352680"/>
            <a:ext cx="441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B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cs-CZ" sz="2800" spc="-1" strike="noStrike" baseline="-25000">
                <a:solidFill>
                  <a:srgbClr val="ff0000"/>
                </a:solidFill>
                <a:latin typeface="Arial"/>
              </a:rPr>
              <a:t>C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cs-CZ" sz="2800" spc="-1" strike="noStrike" baseline="-25000">
                <a:solidFill>
                  <a:srgbClr val="ff0000"/>
                </a:solidFill>
                <a:latin typeface="Arial"/>
              </a:rPr>
              <a:t>RB1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ovéPole 43"/>
          <p:cNvSpPr/>
          <p:nvPr/>
        </p:nvSpPr>
        <p:spPr>
          <a:xfrm>
            <a:off x="228600" y="4267080"/>
            <a:ext cx="449568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výšení I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↑ =&gt;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R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↑ =&gt;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B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↓ =&gt;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&gt; Tr. se přivírá =&gt;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ází ke stabiliza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TÁZ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ovéPole 2"/>
          <p:cNvSpPr/>
          <p:nvPr/>
        </p:nvSpPr>
        <p:spPr>
          <a:xfrm>
            <a:off x="533520" y="1371600"/>
            <a:ext cx="830556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oč musíme stabilizovat pracovní b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by nedošlo k samovolnému posunu např.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řáním tranzisto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kuste sami odvodit reakci obvodu na snížení proudu I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↓ =&gt;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R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↓ =&gt;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B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↑ =&gt; Tr. se otvírá =&gt;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ovéPole 2"/>
          <p:cNvSpPr/>
          <p:nvPr/>
        </p:nvSpPr>
        <p:spPr>
          <a:xfrm>
            <a:off x="457200" y="1447920"/>
            <a:ext cx="8305920" cy="35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bilizace je důležitá, aby nedocházelo k samovolné změně polohy pracovního bodu např. vlivem teplo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bilizace odporovým můstkem spočívá v nastavení klidového proudu do báze pomocí tvrdého děliče, který je schopen kompenzovat změny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ovéPole 3"/>
          <p:cNvSpPr/>
          <p:nvPr/>
        </p:nvSpPr>
        <p:spPr>
          <a:xfrm>
            <a:off x="304920" y="38016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ZNAM POUŽIT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685800" y="1371600"/>
            <a:ext cx="8001000" cy="15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DĚK, Miloslav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lektronika I: [učebnice]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1. vyd. dotisk. České Budějovice: Kopp, 2006, 286 s. ISBN 80-7232-171-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ESL, Jan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lektroni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2., aktual. a rozšíř. vyd. Praha: BEN - technická literatura, 2004, 143 s. ISBN 80-730-0143-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304920" y="231480"/>
            <a:ext cx="853416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ANO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čební materiál je zaměřen na stabilizaci pracovního bodu tranzistoru pomocí odporového můst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04920" y="3363840"/>
            <a:ext cx="8305560" cy="24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METODICKÝ POK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ejdříve vyučující projde s žáky celou prezentaci, žáci si dělají záp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 sekci otázky žáci odpovídají na otázky, případně vybírají správnou odpověď z nabízených možností. Po kliknutí se objeví správná odpově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a konci prezentace je shrnutí nejdůležitějších pojm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STABILIZACE PRAC. BODU T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2"/>
          <p:cNvSpPr/>
          <p:nvPr/>
        </p:nvSpPr>
        <p:spPr>
          <a:xfrm>
            <a:off x="457200" y="1600200"/>
            <a:ext cx="8305920" cy="48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 správnou funkci tranzistoru je potřeba nastavený pracovní bod stabilizov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rozí nebezpečí, že vlivem provozu dojde k posunu pracovního bodu. Např. tranzistor se zahřeje, zmenší se jeho dynamický odpor a stoupne výstupní proud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to je potřeba zapojení pro nastavení pracovního bodu upravit tak, aby tuto změnu kompenzovalo. (Např. přivřelo tranzistor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MŮSTKOVÁ STABILIZ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ovéPole 2"/>
          <p:cNvSpPr/>
          <p:nvPr/>
        </p:nvSpPr>
        <p:spPr>
          <a:xfrm>
            <a:off x="457200" y="1219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asto se ke stabilizaci používá odporový můst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Skupina 22"/>
          <p:cNvGrpSpPr/>
          <p:nvPr/>
        </p:nvGrpSpPr>
        <p:grpSpPr>
          <a:xfrm>
            <a:off x="5181480" y="2438280"/>
            <a:ext cx="3324240" cy="4133880"/>
            <a:chOff x="5181480" y="2438280"/>
            <a:chExt cx="3324240" cy="4133880"/>
          </a:xfrm>
        </p:grpSpPr>
        <p:pic>
          <p:nvPicPr>
            <p:cNvPr id="51" name="Picture 3" descr=""/>
            <p:cNvPicPr/>
            <p:nvPr/>
          </p:nvPicPr>
          <p:blipFill>
            <a:blip r:embed="rId1"/>
            <a:stretch/>
          </p:blipFill>
          <p:spPr>
            <a:xfrm>
              <a:off x="5410080" y="2438280"/>
              <a:ext cx="3095640" cy="413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ovéPole 5"/>
            <p:cNvSpPr/>
            <p:nvPr/>
          </p:nvSpPr>
          <p:spPr>
            <a:xfrm>
              <a:off x="7010280" y="335268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ovéPole 6"/>
            <p:cNvSpPr/>
            <p:nvPr/>
          </p:nvSpPr>
          <p:spPr>
            <a:xfrm>
              <a:off x="7010280" y="548640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ovéPole 7"/>
            <p:cNvSpPr/>
            <p:nvPr/>
          </p:nvSpPr>
          <p:spPr>
            <a:xfrm>
              <a:off x="5181480" y="335268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ovéPole 8"/>
            <p:cNvSpPr/>
            <p:nvPr/>
          </p:nvSpPr>
          <p:spPr>
            <a:xfrm>
              <a:off x="5181480" y="541008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Elipsa 24"/>
            <p:cNvSpPr/>
            <p:nvPr/>
          </p:nvSpPr>
          <p:spPr>
            <a:xfrm rot="10800000">
              <a:off x="6866640" y="6208920"/>
              <a:ext cx="146160" cy="146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ovéPole 88"/>
            <p:cNvSpPr/>
            <p:nvPr/>
          </p:nvSpPr>
          <p:spPr>
            <a:xfrm>
              <a:off x="5257440" y="3962160"/>
              <a:ext cx="58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" name="Přímá spojovací šipka 78"/>
            <p:cNvCxnSpPr/>
            <p:nvPr/>
          </p:nvCxnSpPr>
          <p:spPr>
            <a:xfrm>
              <a:off x="5696280" y="3962160"/>
              <a:ext cx="1080" cy="512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9" name="TextovéPole 88"/>
            <p:cNvSpPr/>
            <p:nvPr/>
          </p:nvSpPr>
          <p:spPr>
            <a:xfrm>
              <a:off x="5257440" y="4876560"/>
              <a:ext cx="58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B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" name="Přímá spojovací šipka 78"/>
            <p:cNvCxnSpPr/>
            <p:nvPr/>
          </p:nvCxnSpPr>
          <p:spPr>
            <a:xfrm>
              <a:off x="5696280" y="4876560"/>
              <a:ext cx="1080" cy="512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1" name="TextovéPole 88"/>
            <p:cNvSpPr/>
            <p:nvPr/>
          </p:nvSpPr>
          <p:spPr>
            <a:xfrm>
              <a:off x="5867280" y="4190760"/>
              <a:ext cx="58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Přímá spojovací šipka 78"/>
            <p:cNvCxnSpPr/>
            <p:nvPr/>
          </p:nvCxnSpPr>
          <p:spPr>
            <a:xfrm>
              <a:off x="5866920" y="4647600"/>
              <a:ext cx="5338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63" name="TextovéPole 33"/>
          <p:cNvSpPr/>
          <p:nvPr/>
        </p:nvSpPr>
        <p:spPr>
          <a:xfrm>
            <a:off x="7010280" y="5867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0,5 k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ovéPole 34"/>
          <p:cNvSpPr/>
          <p:nvPr/>
        </p:nvSpPr>
        <p:spPr>
          <a:xfrm>
            <a:off x="7086600" y="36576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 k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Skupina 35"/>
          <p:cNvGrpSpPr/>
          <p:nvPr/>
        </p:nvGrpSpPr>
        <p:grpSpPr>
          <a:xfrm>
            <a:off x="228600" y="2685960"/>
            <a:ext cx="3352680" cy="4172040"/>
            <a:chOff x="228600" y="2685960"/>
            <a:chExt cx="3352680" cy="4172040"/>
          </a:xfrm>
        </p:grpSpPr>
        <p:grpSp>
          <p:nvGrpSpPr>
            <p:cNvPr id="66" name="Skupina 29"/>
            <p:cNvGrpSpPr/>
            <p:nvPr/>
          </p:nvGrpSpPr>
          <p:grpSpPr>
            <a:xfrm>
              <a:off x="228600" y="2685960"/>
              <a:ext cx="2657520" cy="4172040"/>
              <a:chOff x="228600" y="2685960"/>
              <a:chExt cx="2657520" cy="4172040"/>
            </a:xfrm>
          </p:grpSpPr>
          <p:pic>
            <p:nvPicPr>
              <p:cNvPr id="67" name="Pictur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228600" y="2685960"/>
                <a:ext cx="2657520" cy="417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TextovéPole 48"/>
              <p:cNvSpPr/>
              <p:nvPr/>
            </p:nvSpPr>
            <p:spPr>
              <a:xfrm>
                <a:off x="1981440" y="352404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ovéPole 49"/>
              <p:cNvSpPr/>
              <p:nvPr/>
            </p:nvSpPr>
            <p:spPr>
              <a:xfrm>
                <a:off x="1981440" y="542916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TextovéPole 50"/>
              <p:cNvSpPr/>
              <p:nvPr/>
            </p:nvSpPr>
            <p:spPr>
              <a:xfrm>
                <a:off x="228600" y="352404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TextovéPole 37"/>
            <p:cNvSpPr/>
            <p:nvPr/>
          </p:nvSpPr>
          <p:spPr>
            <a:xfrm>
              <a:off x="1981080" y="586764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0,5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ovéPole 38"/>
            <p:cNvSpPr/>
            <p:nvPr/>
          </p:nvSpPr>
          <p:spPr>
            <a:xfrm>
              <a:off x="2057400" y="388620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1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ovéPole 39"/>
            <p:cNvSpPr/>
            <p:nvPr/>
          </p:nvSpPr>
          <p:spPr>
            <a:xfrm>
              <a:off x="838080" y="350496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282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ovéPole 88"/>
            <p:cNvSpPr/>
            <p:nvPr/>
          </p:nvSpPr>
          <p:spPr>
            <a:xfrm>
              <a:off x="2057400" y="2895480"/>
              <a:ext cx="152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 4 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" name="Přímá spojovací šipka 78"/>
            <p:cNvCxnSpPr/>
            <p:nvPr/>
          </p:nvCxnSpPr>
          <p:spPr>
            <a:xfrm>
              <a:off x="1980720" y="2895480"/>
              <a:ext cx="1080" cy="512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6" name="TextovéPole 88"/>
            <p:cNvSpPr/>
            <p:nvPr/>
          </p:nvSpPr>
          <p:spPr>
            <a:xfrm>
              <a:off x="761760" y="4190760"/>
              <a:ext cx="585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" name="Přímá spojovací šipka 78"/>
            <p:cNvCxnSpPr/>
            <p:nvPr/>
          </p:nvCxnSpPr>
          <p:spPr>
            <a:xfrm>
              <a:off x="761400" y="4647960"/>
              <a:ext cx="5338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8" name="TextovéPole 88"/>
            <p:cNvSpPr/>
            <p:nvPr/>
          </p:nvSpPr>
          <p:spPr>
            <a:xfrm>
              <a:off x="609480" y="47242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33 μ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ovéPole 88"/>
            <p:cNvSpPr/>
            <p:nvPr/>
          </p:nvSpPr>
          <p:spPr>
            <a:xfrm>
              <a:off x="2057400" y="4876920"/>
              <a:ext cx="152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 4 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" name="Přímá spojovací šipka 78"/>
            <p:cNvCxnSpPr/>
            <p:nvPr/>
          </p:nvCxnSpPr>
          <p:spPr>
            <a:xfrm>
              <a:off x="1980720" y="4876920"/>
              <a:ext cx="1080" cy="512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1" name="TextovéPole 51"/>
          <p:cNvSpPr/>
          <p:nvPr/>
        </p:nvSpPr>
        <p:spPr>
          <a:xfrm>
            <a:off x="2819520" y="2666880"/>
            <a:ext cx="131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ovéPole 52"/>
          <p:cNvSpPr/>
          <p:nvPr/>
        </p:nvSpPr>
        <p:spPr>
          <a:xfrm>
            <a:off x="7827840" y="2895480"/>
            <a:ext cx="131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MŮSTKOVÁ STABILIZ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ovéPole 2"/>
          <p:cNvSpPr/>
          <p:nvPr/>
        </p:nvSpPr>
        <p:spPr>
          <a:xfrm>
            <a:off x="457200" y="1066680"/>
            <a:ext cx="83059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asto se ke stabilizaci používá odporový můst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rový dělič 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B1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B2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e volí jako tvrdý děli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 znamená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B2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e minimálně 10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Skupina 22"/>
          <p:cNvGrpSpPr/>
          <p:nvPr/>
        </p:nvGrpSpPr>
        <p:grpSpPr>
          <a:xfrm>
            <a:off x="5181480" y="2438280"/>
            <a:ext cx="3324240" cy="4133880"/>
            <a:chOff x="5181480" y="2438280"/>
            <a:chExt cx="3324240" cy="4133880"/>
          </a:xfrm>
        </p:grpSpPr>
        <p:pic>
          <p:nvPicPr>
            <p:cNvPr id="86" name="Picture 3" descr=""/>
            <p:cNvPicPr/>
            <p:nvPr/>
          </p:nvPicPr>
          <p:blipFill>
            <a:blip r:embed="rId1"/>
            <a:stretch/>
          </p:blipFill>
          <p:spPr>
            <a:xfrm>
              <a:off x="5410080" y="2438280"/>
              <a:ext cx="3095640" cy="413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ovéPole 5"/>
            <p:cNvSpPr/>
            <p:nvPr/>
          </p:nvSpPr>
          <p:spPr>
            <a:xfrm>
              <a:off x="7010280" y="335268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ovéPole 6"/>
            <p:cNvSpPr/>
            <p:nvPr/>
          </p:nvSpPr>
          <p:spPr>
            <a:xfrm>
              <a:off x="7010280" y="548640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ovéPole 7"/>
            <p:cNvSpPr/>
            <p:nvPr/>
          </p:nvSpPr>
          <p:spPr>
            <a:xfrm>
              <a:off x="5181480" y="335268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ovéPole 8"/>
            <p:cNvSpPr/>
            <p:nvPr/>
          </p:nvSpPr>
          <p:spPr>
            <a:xfrm>
              <a:off x="5181480" y="541008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Elipsa 24"/>
            <p:cNvSpPr/>
            <p:nvPr/>
          </p:nvSpPr>
          <p:spPr>
            <a:xfrm rot="10800000">
              <a:off x="6866640" y="6208920"/>
              <a:ext cx="146160" cy="146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ovéPole 88"/>
            <p:cNvSpPr/>
            <p:nvPr/>
          </p:nvSpPr>
          <p:spPr>
            <a:xfrm>
              <a:off x="5257440" y="3962160"/>
              <a:ext cx="58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Přímá spojovací šipka 78"/>
            <p:cNvCxnSpPr/>
            <p:nvPr/>
          </p:nvCxnSpPr>
          <p:spPr>
            <a:xfrm>
              <a:off x="5696280" y="3962160"/>
              <a:ext cx="1080" cy="512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" name="TextovéPole 88"/>
            <p:cNvSpPr/>
            <p:nvPr/>
          </p:nvSpPr>
          <p:spPr>
            <a:xfrm>
              <a:off x="5257440" y="4876560"/>
              <a:ext cx="58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B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" name="Přímá spojovací šipka 78"/>
            <p:cNvCxnSpPr/>
            <p:nvPr/>
          </p:nvCxnSpPr>
          <p:spPr>
            <a:xfrm>
              <a:off x="5696280" y="4876560"/>
              <a:ext cx="1080" cy="512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" name="TextovéPole 88"/>
            <p:cNvSpPr/>
            <p:nvPr/>
          </p:nvSpPr>
          <p:spPr>
            <a:xfrm>
              <a:off x="5867280" y="4190760"/>
              <a:ext cx="58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" name="Přímá spojovací šipka 78"/>
            <p:cNvCxnSpPr/>
            <p:nvPr/>
          </p:nvCxnSpPr>
          <p:spPr>
            <a:xfrm>
              <a:off x="5866920" y="4647600"/>
              <a:ext cx="5338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8" name="TextovéPole 36"/>
            <p:cNvSpPr/>
            <p:nvPr/>
          </p:nvSpPr>
          <p:spPr>
            <a:xfrm>
              <a:off x="6095880" y="502920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ovéPole 33"/>
          <p:cNvSpPr/>
          <p:nvPr/>
        </p:nvSpPr>
        <p:spPr>
          <a:xfrm>
            <a:off x="7010280" y="5867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0,5 k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34"/>
          <p:cNvSpPr/>
          <p:nvPr/>
        </p:nvSpPr>
        <p:spPr>
          <a:xfrm>
            <a:off x="7086600" y="36576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 k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Přímá spojovací šipka 35"/>
          <p:cNvCxnSpPr/>
          <p:nvPr/>
        </p:nvCxnSpPr>
        <p:spPr>
          <a:xfrm>
            <a:off x="6248160" y="4876920"/>
            <a:ext cx="533880" cy="457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02" name="Skupina 44"/>
          <p:cNvGrpSpPr/>
          <p:nvPr/>
        </p:nvGrpSpPr>
        <p:grpSpPr>
          <a:xfrm>
            <a:off x="228600" y="2685960"/>
            <a:ext cx="3352680" cy="4172040"/>
            <a:chOff x="228600" y="2685960"/>
            <a:chExt cx="3352680" cy="4172040"/>
          </a:xfrm>
        </p:grpSpPr>
        <p:grpSp>
          <p:nvGrpSpPr>
            <p:cNvPr id="103" name="Skupina 29"/>
            <p:cNvGrpSpPr/>
            <p:nvPr/>
          </p:nvGrpSpPr>
          <p:grpSpPr>
            <a:xfrm>
              <a:off x="228600" y="2685960"/>
              <a:ext cx="2657520" cy="4172040"/>
              <a:chOff x="228600" y="2685960"/>
              <a:chExt cx="2657520" cy="4172040"/>
            </a:xfrm>
          </p:grpSpPr>
          <p:pic>
            <p:nvPicPr>
              <p:cNvPr id="104" name="Pictur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228600" y="2685960"/>
                <a:ext cx="2657520" cy="417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ovéPole 26"/>
              <p:cNvSpPr/>
              <p:nvPr/>
            </p:nvSpPr>
            <p:spPr>
              <a:xfrm>
                <a:off x="1981440" y="352404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ovéPole 27"/>
              <p:cNvSpPr/>
              <p:nvPr/>
            </p:nvSpPr>
            <p:spPr>
              <a:xfrm>
                <a:off x="1981440" y="542916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ovéPole 28"/>
              <p:cNvSpPr/>
              <p:nvPr/>
            </p:nvSpPr>
            <p:spPr>
              <a:xfrm>
                <a:off x="228600" y="352404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TextovéPole 30"/>
            <p:cNvSpPr/>
            <p:nvPr/>
          </p:nvSpPr>
          <p:spPr>
            <a:xfrm>
              <a:off x="1981080" y="586764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0,5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ovéPole 31"/>
            <p:cNvSpPr/>
            <p:nvPr/>
          </p:nvSpPr>
          <p:spPr>
            <a:xfrm>
              <a:off x="2057400" y="388620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1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ovéPole 32"/>
            <p:cNvSpPr/>
            <p:nvPr/>
          </p:nvSpPr>
          <p:spPr>
            <a:xfrm>
              <a:off x="838080" y="350496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282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ovéPole 88"/>
            <p:cNvSpPr/>
            <p:nvPr/>
          </p:nvSpPr>
          <p:spPr>
            <a:xfrm>
              <a:off x="2057400" y="2895480"/>
              <a:ext cx="152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 4 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2" name="Přímá spojovací šipka 78"/>
            <p:cNvCxnSpPr/>
            <p:nvPr/>
          </p:nvCxnSpPr>
          <p:spPr>
            <a:xfrm>
              <a:off x="1980720" y="2895480"/>
              <a:ext cx="1080" cy="512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3" name="TextovéPole 88"/>
            <p:cNvSpPr/>
            <p:nvPr/>
          </p:nvSpPr>
          <p:spPr>
            <a:xfrm>
              <a:off x="761760" y="4190760"/>
              <a:ext cx="585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" name="Přímá spojovací šipka 78"/>
            <p:cNvCxnSpPr/>
            <p:nvPr/>
          </p:nvCxnSpPr>
          <p:spPr>
            <a:xfrm>
              <a:off x="761400" y="4647960"/>
              <a:ext cx="5338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TextovéPole 88"/>
            <p:cNvSpPr/>
            <p:nvPr/>
          </p:nvSpPr>
          <p:spPr>
            <a:xfrm>
              <a:off x="609480" y="47242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33 μ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ovéPole 88"/>
            <p:cNvSpPr/>
            <p:nvPr/>
          </p:nvSpPr>
          <p:spPr>
            <a:xfrm>
              <a:off x="2057400" y="4876920"/>
              <a:ext cx="152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 4 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Přímá spojovací šipka 78"/>
            <p:cNvCxnSpPr/>
            <p:nvPr/>
          </p:nvCxnSpPr>
          <p:spPr>
            <a:xfrm>
              <a:off x="1980720" y="4876920"/>
              <a:ext cx="1080" cy="512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18" name="TextovéPole 45"/>
          <p:cNvSpPr/>
          <p:nvPr/>
        </p:nvSpPr>
        <p:spPr>
          <a:xfrm>
            <a:off x="2819520" y="2666880"/>
            <a:ext cx="131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46"/>
          <p:cNvSpPr/>
          <p:nvPr/>
        </p:nvSpPr>
        <p:spPr>
          <a:xfrm>
            <a:off x="7827840" y="2895480"/>
            <a:ext cx="131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MŮSTKOVÁ STABILIZ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Skupina 22"/>
          <p:cNvGrpSpPr/>
          <p:nvPr/>
        </p:nvGrpSpPr>
        <p:grpSpPr>
          <a:xfrm>
            <a:off x="5181480" y="2438280"/>
            <a:ext cx="3324240" cy="4133880"/>
            <a:chOff x="5181480" y="2438280"/>
            <a:chExt cx="3324240" cy="4133880"/>
          </a:xfrm>
        </p:grpSpPr>
        <p:pic>
          <p:nvPicPr>
            <p:cNvPr id="122" name="Picture 3" descr=""/>
            <p:cNvPicPr/>
            <p:nvPr/>
          </p:nvPicPr>
          <p:blipFill>
            <a:blip r:embed="rId1"/>
            <a:stretch/>
          </p:blipFill>
          <p:spPr>
            <a:xfrm>
              <a:off x="5410080" y="2438280"/>
              <a:ext cx="3095640" cy="413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ovéPole 5"/>
            <p:cNvSpPr/>
            <p:nvPr/>
          </p:nvSpPr>
          <p:spPr>
            <a:xfrm>
              <a:off x="7010280" y="335268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ovéPole 6"/>
            <p:cNvSpPr/>
            <p:nvPr/>
          </p:nvSpPr>
          <p:spPr>
            <a:xfrm>
              <a:off x="7010280" y="548640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ovéPole 7"/>
            <p:cNvSpPr/>
            <p:nvPr/>
          </p:nvSpPr>
          <p:spPr>
            <a:xfrm>
              <a:off x="5181480" y="335268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ovéPole 8"/>
            <p:cNvSpPr/>
            <p:nvPr/>
          </p:nvSpPr>
          <p:spPr>
            <a:xfrm>
              <a:off x="5181480" y="541008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Elipsa 24"/>
            <p:cNvSpPr/>
            <p:nvPr/>
          </p:nvSpPr>
          <p:spPr>
            <a:xfrm rot="10800000">
              <a:off x="6866640" y="6208920"/>
              <a:ext cx="146160" cy="146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ovéPole 88"/>
            <p:cNvSpPr/>
            <p:nvPr/>
          </p:nvSpPr>
          <p:spPr>
            <a:xfrm>
              <a:off x="5257440" y="3962160"/>
              <a:ext cx="58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Přímá spojovací šipka 78"/>
            <p:cNvCxnSpPr/>
            <p:nvPr/>
          </p:nvCxnSpPr>
          <p:spPr>
            <a:xfrm>
              <a:off x="5696280" y="3962160"/>
              <a:ext cx="1080" cy="512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TextovéPole 88"/>
            <p:cNvSpPr/>
            <p:nvPr/>
          </p:nvSpPr>
          <p:spPr>
            <a:xfrm>
              <a:off x="5257440" y="4876560"/>
              <a:ext cx="58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B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" name="Přímá spojovací šipka 78"/>
            <p:cNvCxnSpPr/>
            <p:nvPr/>
          </p:nvCxnSpPr>
          <p:spPr>
            <a:xfrm>
              <a:off x="5696280" y="4876560"/>
              <a:ext cx="1080" cy="512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2" name="TextovéPole 88"/>
            <p:cNvSpPr/>
            <p:nvPr/>
          </p:nvSpPr>
          <p:spPr>
            <a:xfrm>
              <a:off x="5867280" y="4190760"/>
              <a:ext cx="58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3" name="Přímá spojovací šipka 78"/>
            <p:cNvCxnSpPr/>
            <p:nvPr/>
          </p:nvCxnSpPr>
          <p:spPr>
            <a:xfrm>
              <a:off x="5866920" y="4647600"/>
              <a:ext cx="5338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4" name="TextovéPole 36"/>
            <p:cNvSpPr/>
            <p:nvPr/>
          </p:nvSpPr>
          <p:spPr>
            <a:xfrm>
              <a:off x="6095880" y="502920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ovéPole 33"/>
          <p:cNvSpPr/>
          <p:nvPr/>
        </p:nvSpPr>
        <p:spPr>
          <a:xfrm>
            <a:off x="7010280" y="5867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0,5 k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ovéPole 34"/>
          <p:cNvSpPr/>
          <p:nvPr/>
        </p:nvSpPr>
        <p:spPr>
          <a:xfrm>
            <a:off x="7086600" y="36576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 k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Přímá spojovací šipka 35"/>
          <p:cNvCxnSpPr/>
          <p:nvPr/>
        </p:nvCxnSpPr>
        <p:spPr>
          <a:xfrm>
            <a:off x="6248160" y="4876920"/>
            <a:ext cx="533880" cy="457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38" name="Skupina 44"/>
          <p:cNvGrpSpPr/>
          <p:nvPr/>
        </p:nvGrpSpPr>
        <p:grpSpPr>
          <a:xfrm>
            <a:off x="228600" y="2685960"/>
            <a:ext cx="3352680" cy="4172040"/>
            <a:chOff x="228600" y="2685960"/>
            <a:chExt cx="3352680" cy="4172040"/>
          </a:xfrm>
        </p:grpSpPr>
        <p:grpSp>
          <p:nvGrpSpPr>
            <p:cNvPr id="139" name="Skupina 29"/>
            <p:cNvGrpSpPr/>
            <p:nvPr/>
          </p:nvGrpSpPr>
          <p:grpSpPr>
            <a:xfrm>
              <a:off x="228600" y="2685960"/>
              <a:ext cx="2657520" cy="4172040"/>
              <a:chOff x="228600" y="2685960"/>
              <a:chExt cx="2657520" cy="4172040"/>
            </a:xfrm>
          </p:grpSpPr>
          <p:pic>
            <p:nvPicPr>
              <p:cNvPr id="140" name="Pictur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228600" y="2685960"/>
                <a:ext cx="2657520" cy="417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TextovéPole 26"/>
              <p:cNvSpPr/>
              <p:nvPr/>
            </p:nvSpPr>
            <p:spPr>
              <a:xfrm>
                <a:off x="1981440" y="352404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ovéPole 27"/>
              <p:cNvSpPr/>
              <p:nvPr/>
            </p:nvSpPr>
            <p:spPr>
              <a:xfrm>
                <a:off x="1981440" y="542916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TextovéPole 28"/>
              <p:cNvSpPr/>
              <p:nvPr/>
            </p:nvSpPr>
            <p:spPr>
              <a:xfrm>
                <a:off x="228600" y="352404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TextovéPole 30"/>
            <p:cNvSpPr/>
            <p:nvPr/>
          </p:nvSpPr>
          <p:spPr>
            <a:xfrm>
              <a:off x="1981080" y="586764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0,5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ovéPole 31"/>
            <p:cNvSpPr/>
            <p:nvPr/>
          </p:nvSpPr>
          <p:spPr>
            <a:xfrm>
              <a:off x="2057400" y="388620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1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ovéPole 32"/>
            <p:cNvSpPr/>
            <p:nvPr/>
          </p:nvSpPr>
          <p:spPr>
            <a:xfrm>
              <a:off x="838080" y="350496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282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ovéPole 88"/>
            <p:cNvSpPr/>
            <p:nvPr/>
          </p:nvSpPr>
          <p:spPr>
            <a:xfrm>
              <a:off x="2057400" y="2895480"/>
              <a:ext cx="152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 4 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8" name="Přímá spojovací šipka 78"/>
            <p:cNvCxnSpPr/>
            <p:nvPr/>
          </p:nvCxnSpPr>
          <p:spPr>
            <a:xfrm>
              <a:off x="1980720" y="2895480"/>
              <a:ext cx="1080" cy="512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9" name="TextovéPole 88"/>
            <p:cNvSpPr/>
            <p:nvPr/>
          </p:nvSpPr>
          <p:spPr>
            <a:xfrm>
              <a:off x="761760" y="4190760"/>
              <a:ext cx="585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" name="Přímá spojovací šipka 78"/>
            <p:cNvCxnSpPr/>
            <p:nvPr/>
          </p:nvCxnSpPr>
          <p:spPr>
            <a:xfrm>
              <a:off x="761400" y="4647960"/>
              <a:ext cx="5338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TextovéPole 88"/>
            <p:cNvSpPr/>
            <p:nvPr/>
          </p:nvSpPr>
          <p:spPr>
            <a:xfrm>
              <a:off x="609480" y="47242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33 μ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ovéPole 88"/>
            <p:cNvSpPr/>
            <p:nvPr/>
          </p:nvSpPr>
          <p:spPr>
            <a:xfrm>
              <a:off x="2057400" y="4876920"/>
              <a:ext cx="152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 4 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" name="Přímá spojovací šipka 78"/>
            <p:cNvCxnSpPr/>
            <p:nvPr/>
          </p:nvCxnSpPr>
          <p:spPr>
            <a:xfrm>
              <a:off x="1980720" y="4876920"/>
              <a:ext cx="1080" cy="512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0" y="127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0" y="723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4"/>
          <p:cNvSpPr/>
          <p:nvPr/>
        </p:nvSpPr>
        <p:spPr>
          <a:xfrm>
            <a:off x="0" y="2276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0"/>
          <p:cNvSpPr/>
          <p:nvPr/>
        </p:nvSpPr>
        <p:spPr>
          <a:xfrm>
            <a:off x="0" y="9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3" descr=""/>
          <p:cNvPicPr/>
          <p:nvPr/>
        </p:nvPicPr>
        <p:blipFill>
          <a:blip r:embed="rId3"/>
          <a:stretch/>
        </p:blipFill>
        <p:spPr>
          <a:xfrm>
            <a:off x="2847960" y="914400"/>
            <a:ext cx="4286160" cy="361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2" descr=""/>
          <p:cNvPicPr/>
          <p:nvPr/>
        </p:nvPicPr>
        <p:blipFill>
          <a:blip r:embed="rId4"/>
          <a:stretch/>
        </p:blipFill>
        <p:spPr>
          <a:xfrm>
            <a:off x="485640" y="1409760"/>
            <a:ext cx="8172720" cy="361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1" descr=""/>
          <p:cNvPicPr/>
          <p:nvPr/>
        </p:nvPicPr>
        <p:blipFill>
          <a:blip r:embed="rId5"/>
          <a:stretch/>
        </p:blipFill>
        <p:spPr>
          <a:xfrm>
            <a:off x="1905120" y="1905120"/>
            <a:ext cx="6172200" cy="742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5"/>
          <p:cNvSpPr/>
          <p:nvPr/>
        </p:nvSpPr>
        <p:spPr>
          <a:xfrm>
            <a:off x="0" y="638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6"/>
          <p:cNvSpPr/>
          <p:nvPr/>
        </p:nvSpPr>
        <p:spPr>
          <a:xfrm>
            <a:off x="0" y="127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ovéPole 63"/>
          <p:cNvSpPr/>
          <p:nvPr/>
        </p:nvSpPr>
        <p:spPr>
          <a:xfrm>
            <a:off x="4876920" y="5867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8,2 k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ovéPole 64"/>
          <p:cNvSpPr/>
          <p:nvPr/>
        </p:nvSpPr>
        <p:spPr>
          <a:xfrm>
            <a:off x="2819520" y="2666880"/>
            <a:ext cx="131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ovéPole 65"/>
          <p:cNvSpPr/>
          <p:nvPr/>
        </p:nvSpPr>
        <p:spPr>
          <a:xfrm>
            <a:off x="7827840" y="2895480"/>
            <a:ext cx="131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MŮSTKOVÁ STABILIZ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Skupina 22"/>
          <p:cNvGrpSpPr/>
          <p:nvPr/>
        </p:nvGrpSpPr>
        <p:grpSpPr>
          <a:xfrm>
            <a:off x="5181480" y="2438280"/>
            <a:ext cx="3324240" cy="4133880"/>
            <a:chOff x="5181480" y="2438280"/>
            <a:chExt cx="3324240" cy="4133880"/>
          </a:xfrm>
        </p:grpSpPr>
        <p:pic>
          <p:nvPicPr>
            <p:cNvPr id="174" name="Picture 3" descr=""/>
            <p:cNvPicPr/>
            <p:nvPr/>
          </p:nvPicPr>
          <p:blipFill>
            <a:blip r:embed="rId1"/>
            <a:stretch/>
          </p:blipFill>
          <p:spPr>
            <a:xfrm>
              <a:off x="5410080" y="2438280"/>
              <a:ext cx="3095640" cy="413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ovéPole 5"/>
            <p:cNvSpPr/>
            <p:nvPr/>
          </p:nvSpPr>
          <p:spPr>
            <a:xfrm>
              <a:off x="7010280" y="335268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ovéPole 6"/>
            <p:cNvSpPr/>
            <p:nvPr/>
          </p:nvSpPr>
          <p:spPr>
            <a:xfrm>
              <a:off x="7010280" y="548640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ovéPole 7"/>
            <p:cNvSpPr/>
            <p:nvPr/>
          </p:nvSpPr>
          <p:spPr>
            <a:xfrm>
              <a:off x="5181480" y="335268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ovéPole 8"/>
            <p:cNvSpPr/>
            <p:nvPr/>
          </p:nvSpPr>
          <p:spPr>
            <a:xfrm>
              <a:off x="5181480" y="541008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Elipsa 24"/>
            <p:cNvSpPr/>
            <p:nvPr/>
          </p:nvSpPr>
          <p:spPr>
            <a:xfrm rot="10800000">
              <a:off x="6866640" y="6208920"/>
              <a:ext cx="146160" cy="146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ovéPole 88"/>
            <p:cNvSpPr/>
            <p:nvPr/>
          </p:nvSpPr>
          <p:spPr>
            <a:xfrm>
              <a:off x="5257440" y="3962160"/>
              <a:ext cx="58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" name="Přímá spojovací šipka 78"/>
            <p:cNvCxnSpPr/>
            <p:nvPr/>
          </p:nvCxnSpPr>
          <p:spPr>
            <a:xfrm>
              <a:off x="5696280" y="3962160"/>
              <a:ext cx="1080" cy="512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2" name="TextovéPole 88"/>
            <p:cNvSpPr/>
            <p:nvPr/>
          </p:nvSpPr>
          <p:spPr>
            <a:xfrm>
              <a:off x="5257440" y="4876560"/>
              <a:ext cx="58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B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3" name="Přímá spojovací šipka 78"/>
            <p:cNvCxnSpPr/>
            <p:nvPr/>
          </p:nvCxnSpPr>
          <p:spPr>
            <a:xfrm>
              <a:off x="5696280" y="4876560"/>
              <a:ext cx="1080" cy="512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4" name="TextovéPole 88"/>
            <p:cNvSpPr/>
            <p:nvPr/>
          </p:nvSpPr>
          <p:spPr>
            <a:xfrm>
              <a:off x="5867280" y="4190760"/>
              <a:ext cx="58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5" name="Přímá spojovací šipka 78"/>
            <p:cNvCxnSpPr/>
            <p:nvPr/>
          </p:nvCxnSpPr>
          <p:spPr>
            <a:xfrm>
              <a:off x="5866920" y="4647600"/>
              <a:ext cx="5338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6" name="TextovéPole 36"/>
            <p:cNvSpPr/>
            <p:nvPr/>
          </p:nvSpPr>
          <p:spPr>
            <a:xfrm>
              <a:off x="6095880" y="502920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ovéPole 33"/>
          <p:cNvSpPr/>
          <p:nvPr/>
        </p:nvSpPr>
        <p:spPr>
          <a:xfrm>
            <a:off x="7010280" y="5867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0,5 k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ovéPole 34"/>
          <p:cNvSpPr/>
          <p:nvPr/>
        </p:nvSpPr>
        <p:spPr>
          <a:xfrm>
            <a:off x="7086600" y="36576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 k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Přímá spojovací šipka 35"/>
          <p:cNvCxnSpPr/>
          <p:nvPr/>
        </p:nvCxnSpPr>
        <p:spPr>
          <a:xfrm>
            <a:off x="6248160" y="4876920"/>
            <a:ext cx="533880" cy="457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90" name="Skupina 44"/>
          <p:cNvGrpSpPr/>
          <p:nvPr/>
        </p:nvGrpSpPr>
        <p:grpSpPr>
          <a:xfrm>
            <a:off x="228600" y="2685960"/>
            <a:ext cx="3352680" cy="4172040"/>
            <a:chOff x="228600" y="2685960"/>
            <a:chExt cx="3352680" cy="4172040"/>
          </a:xfrm>
        </p:grpSpPr>
        <p:grpSp>
          <p:nvGrpSpPr>
            <p:cNvPr id="191" name="Skupina 29"/>
            <p:cNvGrpSpPr/>
            <p:nvPr/>
          </p:nvGrpSpPr>
          <p:grpSpPr>
            <a:xfrm>
              <a:off x="228600" y="2685960"/>
              <a:ext cx="2657520" cy="4172040"/>
              <a:chOff x="228600" y="2685960"/>
              <a:chExt cx="2657520" cy="4172040"/>
            </a:xfrm>
          </p:grpSpPr>
          <p:pic>
            <p:nvPicPr>
              <p:cNvPr id="192" name="Pictur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228600" y="2685960"/>
                <a:ext cx="2657520" cy="417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TextovéPole 26"/>
              <p:cNvSpPr/>
              <p:nvPr/>
            </p:nvSpPr>
            <p:spPr>
              <a:xfrm>
                <a:off x="1981440" y="352404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ovéPole 27"/>
              <p:cNvSpPr/>
              <p:nvPr/>
            </p:nvSpPr>
            <p:spPr>
              <a:xfrm>
                <a:off x="1981440" y="542916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ovéPole 28"/>
              <p:cNvSpPr/>
              <p:nvPr/>
            </p:nvSpPr>
            <p:spPr>
              <a:xfrm>
                <a:off x="228600" y="352404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TextovéPole 30"/>
            <p:cNvSpPr/>
            <p:nvPr/>
          </p:nvSpPr>
          <p:spPr>
            <a:xfrm>
              <a:off x="1981080" y="586764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0,5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ovéPole 31"/>
            <p:cNvSpPr/>
            <p:nvPr/>
          </p:nvSpPr>
          <p:spPr>
            <a:xfrm>
              <a:off x="2057400" y="388620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1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ovéPole 32"/>
            <p:cNvSpPr/>
            <p:nvPr/>
          </p:nvSpPr>
          <p:spPr>
            <a:xfrm>
              <a:off x="838080" y="350496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282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ovéPole 88"/>
            <p:cNvSpPr/>
            <p:nvPr/>
          </p:nvSpPr>
          <p:spPr>
            <a:xfrm>
              <a:off x="2057400" y="2895480"/>
              <a:ext cx="152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 4 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0" name="Přímá spojovací šipka 78"/>
            <p:cNvCxnSpPr/>
            <p:nvPr/>
          </p:nvCxnSpPr>
          <p:spPr>
            <a:xfrm>
              <a:off x="1980720" y="2895480"/>
              <a:ext cx="1080" cy="512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1" name="TextovéPole 88"/>
            <p:cNvSpPr/>
            <p:nvPr/>
          </p:nvSpPr>
          <p:spPr>
            <a:xfrm>
              <a:off x="761760" y="4190760"/>
              <a:ext cx="585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Přímá spojovací šipka 78"/>
            <p:cNvCxnSpPr/>
            <p:nvPr/>
          </p:nvCxnSpPr>
          <p:spPr>
            <a:xfrm>
              <a:off x="761400" y="4647960"/>
              <a:ext cx="5338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3" name="TextovéPole 88"/>
            <p:cNvSpPr/>
            <p:nvPr/>
          </p:nvSpPr>
          <p:spPr>
            <a:xfrm>
              <a:off x="609480" y="47242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33 μ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ovéPole 88"/>
            <p:cNvSpPr/>
            <p:nvPr/>
          </p:nvSpPr>
          <p:spPr>
            <a:xfrm>
              <a:off x="2057400" y="4876920"/>
              <a:ext cx="152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 4 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Přímá spojovací šipka 78"/>
            <p:cNvCxnSpPr/>
            <p:nvPr/>
          </p:nvCxnSpPr>
          <p:spPr>
            <a:xfrm>
              <a:off x="1980720" y="4876920"/>
              <a:ext cx="1080" cy="512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0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0" y="127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0"/>
          <p:cNvSpPr/>
          <p:nvPr/>
        </p:nvSpPr>
        <p:spPr>
          <a:xfrm>
            <a:off x="0" y="9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6"/>
          <p:cNvSpPr/>
          <p:nvPr/>
        </p:nvSpPr>
        <p:spPr>
          <a:xfrm>
            <a:off x="0" y="127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3"/>
          <a:stretch/>
        </p:blipFill>
        <p:spPr>
          <a:xfrm>
            <a:off x="2114640" y="990720"/>
            <a:ext cx="4800600" cy="361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4"/>
          <a:stretch/>
        </p:blipFill>
        <p:spPr>
          <a:xfrm>
            <a:off x="1981080" y="1447920"/>
            <a:ext cx="5105520" cy="361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" descr=""/>
          <p:cNvPicPr/>
          <p:nvPr/>
        </p:nvPicPr>
        <p:blipFill>
          <a:blip r:embed="rId5"/>
          <a:stretch/>
        </p:blipFill>
        <p:spPr>
          <a:xfrm>
            <a:off x="1295280" y="1905120"/>
            <a:ext cx="6286680" cy="7426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ovéPole 57"/>
          <p:cNvSpPr/>
          <p:nvPr/>
        </p:nvSpPr>
        <p:spPr>
          <a:xfrm>
            <a:off x="4876920" y="5867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8,2 k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ovéPole 58"/>
          <p:cNvSpPr/>
          <p:nvPr/>
        </p:nvSpPr>
        <p:spPr>
          <a:xfrm>
            <a:off x="4800600" y="29718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5,6 k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ovéPole 59"/>
          <p:cNvSpPr/>
          <p:nvPr/>
        </p:nvSpPr>
        <p:spPr>
          <a:xfrm>
            <a:off x="2819520" y="2666880"/>
            <a:ext cx="131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ovéPole 60"/>
          <p:cNvSpPr/>
          <p:nvPr/>
        </p:nvSpPr>
        <p:spPr>
          <a:xfrm>
            <a:off x="7827840" y="2895480"/>
            <a:ext cx="131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MŮSTKOVÁ STABILIZ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Skupina 22"/>
          <p:cNvGrpSpPr/>
          <p:nvPr/>
        </p:nvGrpSpPr>
        <p:grpSpPr>
          <a:xfrm>
            <a:off x="5181480" y="2438280"/>
            <a:ext cx="3324240" cy="4133880"/>
            <a:chOff x="5181480" y="2438280"/>
            <a:chExt cx="3324240" cy="4133880"/>
          </a:xfrm>
        </p:grpSpPr>
        <p:pic>
          <p:nvPicPr>
            <p:cNvPr id="226" name="Picture 3" descr=""/>
            <p:cNvPicPr/>
            <p:nvPr/>
          </p:nvPicPr>
          <p:blipFill>
            <a:blip r:embed="rId1"/>
            <a:stretch/>
          </p:blipFill>
          <p:spPr>
            <a:xfrm>
              <a:off x="5410080" y="2438280"/>
              <a:ext cx="3095640" cy="413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ovéPole 5"/>
            <p:cNvSpPr/>
            <p:nvPr/>
          </p:nvSpPr>
          <p:spPr>
            <a:xfrm>
              <a:off x="7010280" y="335268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ovéPole 6"/>
            <p:cNvSpPr/>
            <p:nvPr/>
          </p:nvSpPr>
          <p:spPr>
            <a:xfrm>
              <a:off x="7010280" y="548640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ovéPole 7"/>
            <p:cNvSpPr/>
            <p:nvPr/>
          </p:nvSpPr>
          <p:spPr>
            <a:xfrm>
              <a:off x="5181480" y="335268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ovéPole 8"/>
            <p:cNvSpPr/>
            <p:nvPr/>
          </p:nvSpPr>
          <p:spPr>
            <a:xfrm>
              <a:off x="5181480" y="541008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Elipsa 24"/>
            <p:cNvSpPr/>
            <p:nvPr/>
          </p:nvSpPr>
          <p:spPr>
            <a:xfrm rot="10800000">
              <a:off x="6866640" y="6208920"/>
              <a:ext cx="146160" cy="146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ovéPole 88"/>
            <p:cNvSpPr/>
            <p:nvPr/>
          </p:nvSpPr>
          <p:spPr>
            <a:xfrm>
              <a:off x="5257440" y="3962160"/>
              <a:ext cx="58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3" name="Přímá spojovací šipka 78"/>
            <p:cNvCxnSpPr/>
            <p:nvPr/>
          </p:nvCxnSpPr>
          <p:spPr>
            <a:xfrm>
              <a:off x="5696280" y="3962160"/>
              <a:ext cx="1080" cy="512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4" name="TextovéPole 88"/>
            <p:cNvSpPr/>
            <p:nvPr/>
          </p:nvSpPr>
          <p:spPr>
            <a:xfrm>
              <a:off x="5257440" y="4876560"/>
              <a:ext cx="58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B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5" name="Přímá spojovací šipka 78"/>
            <p:cNvCxnSpPr/>
            <p:nvPr/>
          </p:nvCxnSpPr>
          <p:spPr>
            <a:xfrm>
              <a:off x="5696280" y="4876560"/>
              <a:ext cx="1080" cy="512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6" name="TextovéPole 88"/>
            <p:cNvSpPr/>
            <p:nvPr/>
          </p:nvSpPr>
          <p:spPr>
            <a:xfrm>
              <a:off x="5867280" y="4190760"/>
              <a:ext cx="58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7" name="Přímá spojovací šipka 78"/>
            <p:cNvCxnSpPr/>
            <p:nvPr/>
          </p:nvCxnSpPr>
          <p:spPr>
            <a:xfrm>
              <a:off x="5866920" y="4647600"/>
              <a:ext cx="5338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8" name="TextovéPole 36"/>
            <p:cNvSpPr/>
            <p:nvPr/>
          </p:nvSpPr>
          <p:spPr>
            <a:xfrm>
              <a:off x="6095880" y="502920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ovéPole 33"/>
          <p:cNvSpPr/>
          <p:nvPr/>
        </p:nvSpPr>
        <p:spPr>
          <a:xfrm>
            <a:off x="7010280" y="5867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0,5 k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ovéPole 34"/>
          <p:cNvSpPr/>
          <p:nvPr/>
        </p:nvSpPr>
        <p:spPr>
          <a:xfrm>
            <a:off x="7086600" y="36576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 k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Přímá spojovací šipka 35"/>
          <p:cNvCxnSpPr/>
          <p:nvPr/>
        </p:nvCxnSpPr>
        <p:spPr>
          <a:xfrm>
            <a:off x="6248160" y="4876920"/>
            <a:ext cx="533880" cy="457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0" y="127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0"/>
          <p:cNvSpPr/>
          <p:nvPr/>
        </p:nvSpPr>
        <p:spPr>
          <a:xfrm>
            <a:off x="0" y="9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6"/>
          <p:cNvSpPr/>
          <p:nvPr/>
        </p:nvSpPr>
        <p:spPr>
          <a:xfrm>
            <a:off x="0" y="127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2114640" y="990720"/>
            <a:ext cx="4800600" cy="3618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"/>
          <p:cNvPicPr/>
          <p:nvPr/>
        </p:nvPicPr>
        <p:blipFill>
          <a:blip r:embed="rId3"/>
          <a:stretch/>
        </p:blipFill>
        <p:spPr>
          <a:xfrm>
            <a:off x="1981080" y="1447920"/>
            <a:ext cx="5105520" cy="361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" descr=""/>
          <p:cNvPicPr/>
          <p:nvPr/>
        </p:nvPicPr>
        <p:blipFill>
          <a:blip r:embed="rId4"/>
          <a:stretch/>
        </p:blipFill>
        <p:spPr>
          <a:xfrm>
            <a:off x="1295280" y="1905120"/>
            <a:ext cx="6286680" cy="74268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ovéPole 57"/>
          <p:cNvSpPr/>
          <p:nvPr/>
        </p:nvSpPr>
        <p:spPr>
          <a:xfrm>
            <a:off x="4876920" y="5867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8,2 k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ovéPole 58"/>
          <p:cNvSpPr/>
          <p:nvPr/>
        </p:nvSpPr>
        <p:spPr>
          <a:xfrm>
            <a:off x="4800600" y="29718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5,6 k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ovéPole 51"/>
          <p:cNvSpPr/>
          <p:nvPr/>
        </p:nvSpPr>
        <p:spPr>
          <a:xfrm>
            <a:off x="0" y="28195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funguje stabiliz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ovéPole 52"/>
          <p:cNvSpPr/>
          <p:nvPr/>
        </p:nvSpPr>
        <p:spPr>
          <a:xfrm>
            <a:off x="0" y="3429000"/>
            <a:ext cx="4952880" cy="36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usíme brát v úvah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e tranzistor je řízen také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B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yž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B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↓ =&gt; tr. se přivře;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yž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B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↑ =&gt; tr. se otevř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e 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B1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B2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představují tvrdý dělič napětí a tudíž nedochází ke změnám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RB1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RB2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ovéPole 53"/>
          <p:cNvSpPr/>
          <p:nvPr/>
        </p:nvSpPr>
        <p:spPr>
          <a:xfrm>
            <a:off x="7827840" y="2895480"/>
            <a:ext cx="131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MŮSTKOVÁ STABILIZ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Skupina 22"/>
          <p:cNvGrpSpPr/>
          <p:nvPr/>
        </p:nvGrpSpPr>
        <p:grpSpPr>
          <a:xfrm>
            <a:off x="5181480" y="2438280"/>
            <a:ext cx="3324240" cy="4133880"/>
            <a:chOff x="5181480" y="2438280"/>
            <a:chExt cx="3324240" cy="4133880"/>
          </a:xfrm>
        </p:grpSpPr>
        <p:pic>
          <p:nvPicPr>
            <p:cNvPr id="263" name="Picture 3" descr=""/>
            <p:cNvPicPr/>
            <p:nvPr/>
          </p:nvPicPr>
          <p:blipFill>
            <a:blip r:embed="rId1"/>
            <a:stretch/>
          </p:blipFill>
          <p:spPr>
            <a:xfrm>
              <a:off x="5410080" y="2438280"/>
              <a:ext cx="3095640" cy="413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ovéPole 5"/>
            <p:cNvSpPr/>
            <p:nvPr/>
          </p:nvSpPr>
          <p:spPr>
            <a:xfrm>
              <a:off x="7010280" y="335268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ovéPole 6"/>
            <p:cNvSpPr/>
            <p:nvPr/>
          </p:nvSpPr>
          <p:spPr>
            <a:xfrm>
              <a:off x="7010280" y="548640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ovéPole 7"/>
            <p:cNvSpPr/>
            <p:nvPr/>
          </p:nvSpPr>
          <p:spPr>
            <a:xfrm>
              <a:off x="5181480" y="335268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ovéPole 8"/>
            <p:cNvSpPr/>
            <p:nvPr/>
          </p:nvSpPr>
          <p:spPr>
            <a:xfrm>
              <a:off x="5181480" y="541008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Elipsa 24"/>
            <p:cNvSpPr/>
            <p:nvPr/>
          </p:nvSpPr>
          <p:spPr>
            <a:xfrm rot="10800000">
              <a:off x="6866640" y="6208920"/>
              <a:ext cx="146160" cy="146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ovéPole 88"/>
            <p:cNvSpPr/>
            <p:nvPr/>
          </p:nvSpPr>
          <p:spPr>
            <a:xfrm>
              <a:off x="5257440" y="3962160"/>
              <a:ext cx="58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0" name="Přímá spojovací šipka 78"/>
            <p:cNvCxnSpPr/>
            <p:nvPr/>
          </p:nvCxnSpPr>
          <p:spPr>
            <a:xfrm>
              <a:off x="5696280" y="3962160"/>
              <a:ext cx="1080" cy="512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1" name="TextovéPole 88"/>
            <p:cNvSpPr/>
            <p:nvPr/>
          </p:nvSpPr>
          <p:spPr>
            <a:xfrm>
              <a:off x="5257440" y="4876560"/>
              <a:ext cx="58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B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2" name="Přímá spojovací šipka 78"/>
            <p:cNvCxnSpPr/>
            <p:nvPr/>
          </p:nvCxnSpPr>
          <p:spPr>
            <a:xfrm>
              <a:off x="5696280" y="4876560"/>
              <a:ext cx="1080" cy="512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3" name="TextovéPole 88"/>
            <p:cNvSpPr/>
            <p:nvPr/>
          </p:nvSpPr>
          <p:spPr>
            <a:xfrm>
              <a:off x="5867280" y="4190760"/>
              <a:ext cx="58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4" name="Přímá spojovací šipka 78"/>
            <p:cNvCxnSpPr/>
            <p:nvPr/>
          </p:nvCxnSpPr>
          <p:spPr>
            <a:xfrm>
              <a:off x="5866920" y="4647600"/>
              <a:ext cx="5338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5" name="TextovéPole 36"/>
            <p:cNvSpPr/>
            <p:nvPr/>
          </p:nvSpPr>
          <p:spPr>
            <a:xfrm>
              <a:off x="6095880" y="502920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ovéPole 33"/>
          <p:cNvSpPr/>
          <p:nvPr/>
        </p:nvSpPr>
        <p:spPr>
          <a:xfrm>
            <a:off x="7010280" y="5867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0,5 k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ovéPole 34"/>
          <p:cNvSpPr/>
          <p:nvPr/>
        </p:nvSpPr>
        <p:spPr>
          <a:xfrm>
            <a:off x="7086600" y="36576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 k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Přímá spojovací šipka 35"/>
          <p:cNvCxnSpPr/>
          <p:nvPr/>
        </p:nvCxnSpPr>
        <p:spPr>
          <a:xfrm>
            <a:off x="6248160" y="4876920"/>
            <a:ext cx="533880" cy="457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0" y="127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0"/>
          <p:cNvSpPr/>
          <p:nvPr/>
        </p:nvSpPr>
        <p:spPr>
          <a:xfrm>
            <a:off x="0" y="9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6"/>
          <p:cNvSpPr/>
          <p:nvPr/>
        </p:nvSpPr>
        <p:spPr>
          <a:xfrm>
            <a:off x="0" y="127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2"/>
          <a:stretch/>
        </p:blipFill>
        <p:spPr>
          <a:xfrm>
            <a:off x="2114640" y="990720"/>
            <a:ext cx="4800600" cy="3618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" descr=""/>
          <p:cNvPicPr/>
          <p:nvPr/>
        </p:nvPicPr>
        <p:blipFill>
          <a:blip r:embed="rId3"/>
          <a:stretch/>
        </p:blipFill>
        <p:spPr>
          <a:xfrm>
            <a:off x="1981080" y="1447920"/>
            <a:ext cx="5105520" cy="3618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" descr=""/>
          <p:cNvPicPr/>
          <p:nvPr/>
        </p:nvPicPr>
        <p:blipFill>
          <a:blip r:embed="rId4"/>
          <a:stretch/>
        </p:blipFill>
        <p:spPr>
          <a:xfrm>
            <a:off x="1295280" y="1905120"/>
            <a:ext cx="6286680" cy="74268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ovéPole 57"/>
          <p:cNvSpPr/>
          <p:nvPr/>
        </p:nvSpPr>
        <p:spPr>
          <a:xfrm>
            <a:off x="4876920" y="5867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8,2 k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ovéPole 58"/>
          <p:cNvSpPr/>
          <p:nvPr/>
        </p:nvSpPr>
        <p:spPr>
          <a:xfrm>
            <a:off x="4800600" y="29718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5,6 k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ovéPole 51"/>
          <p:cNvSpPr/>
          <p:nvPr/>
        </p:nvSpPr>
        <p:spPr>
          <a:xfrm>
            <a:off x="0" y="28195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funguje stabiliz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ovéPole 52"/>
          <p:cNvSpPr/>
          <p:nvPr/>
        </p:nvSpPr>
        <p:spPr>
          <a:xfrm>
            <a:off x="0" y="3429000"/>
            <a:ext cx="51814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píšeme rovnici napěťové smyč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RB1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+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B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+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ovéPole 53"/>
          <p:cNvSpPr/>
          <p:nvPr/>
        </p:nvSpPr>
        <p:spPr>
          <a:xfrm>
            <a:off x="7827840" y="2895480"/>
            <a:ext cx="131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Volný tvar 54"/>
          <p:cNvSpPr/>
          <p:nvPr/>
        </p:nvSpPr>
        <p:spPr>
          <a:xfrm>
            <a:off x="5532480" y="2573280"/>
            <a:ext cx="2671560" cy="3776760"/>
          </a:xfrm>
          <a:custGeom>
            <a:avLst/>
            <a:gdLst>
              <a:gd name="textAreaLeft" fmla="*/ 0 w 2671560"/>
              <a:gd name="textAreaRight" fmla="*/ 2671920 w 2671560"/>
              <a:gd name="textAreaTop" fmla="*/ 0 h 3776760"/>
              <a:gd name="textAreaBottom" fmla="*/ 3777120 h 3776760"/>
            </a:gdLst>
            <a:ahLst/>
            <a:rect l="textAreaLeft" t="textAreaTop" r="textAreaRight" b="textAreaBottom"/>
            <a:pathLst>
              <a:path w="2671524" h="3776721">
                <a:moveTo>
                  <a:pt x="2671524" y="17521"/>
                </a:moveTo>
                <a:cubicBezTo>
                  <a:pt x="2658824" y="21754"/>
                  <a:pt x="2646811" y="30221"/>
                  <a:pt x="2633424" y="30221"/>
                </a:cubicBezTo>
                <a:cubicBezTo>
                  <a:pt x="0" y="30221"/>
                  <a:pt x="2670904" y="0"/>
                  <a:pt x="525224" y="30221"/>
                </a:cubicBezTo>
                <a:cubicBezTo>
                  <a:pt x="495958" y="35099"/>
                  <a:pt x="442188" y="39989"/>
                  <a:pt x="410924" y="55621"/>
                </a:cubicBezTo>
                <a:cubicBezTo>
                  <a:pt x="397272" y="62447"/>
                  <a:pt x="386853" y="75008"/>
                  <a:pt x="372824" y="81021"/>
                </a:cubicBezTo>
                <a:cubicBezTo>
                  <a:pt x="356781" y="87897"/>
                  <a:pt x="338367" y="87592"/>
                  <a:pt x="322024" y="93721"/>
                </a:cubicBezTo>
                <a:cubicBezTo>
                  <a:pt x="304297" y="100368"/>
                  <a:pt x="288625" y="111663"/>
                  <a:pt x="271224" y="119121"/>
                </a:cubicBezTo>
                <a:cubicBezTo>
                  <a:pt x="258919" y="124394"/>
                  <a:pt x="245098" y="125834"/>
                  <a:pt x="233124" y="131821"/>
                </a:cubicBezTo>
                <a:cubicBezTo>
                  <a:pt x="204581" y="146092"/>
                  <a:pt x="176986" y="171246"/>
                  <a:pt x="156924" y="195321"/>
                </a:cubicBezTo>
                <a:cubicBezTo>
                  <a:pt x="147153" y="207047"/>
                  <a:pt x="138350" y="219769"/>
                  <a:pt x="131524" y="233421"/>
                </a:cubicBezTo>
                <a:cubicBezTo>
                  <a:pt x="116338" y="263793"/>
                  <a:pt x="104416" y="302046"/>
                  <a:pt x="93424" y="335021"/>
                </a:cubicBezTo>
                <a:cubicBezTo>
                  <a:pt x="97657" y="597488"/>
                  <a:pt x="98173" y="860041"/>
                  <a:pt x="106124" y="1122421"/>
                </a:cubicBezTo>
                <a:cubicBezTo>
                  <a:pt x="106653" y="1139867"/>
                  <a:pt x="116356" y="1155942"/>
                  <a:pt x="118824" y="1173221"/>
                </a:cubicBezTo>
                <a:cubicBezTo>
                  <a:pt x="124841" y="1215338"/>
                  <a:pt x="123684" y="1258405"/>
                  <a:pt x="131524" y="1300221"/>
                </a:cubicBezTo>
                <a:cubicBezTo>
                  <a:pt x="136458" y="1326536"/>
                  <a:pt x="149231" y="1350776"/>
                  <a:pt x="156924" y="1376421"/>
                </a:cubicBezTo>
                <a:cubicBezTo>
                  <a:pt x="179290" y="1450975"/>
                  <a:pt x="154726" y="1404874"/>
                  <a:pt x="195024" y="1465321"/>
                </a:cubicBezTo>
                <a:cubicBezTo>
                  <a:pt x="199257" y="1486488"/>
                  <a:pt x="204175" y="1507529"/>
                  <a:pt x="207724" y="1528821"/>
                </a:cubicBezTo>
                <a:cubicBezTo>
                  <a:pt x="212645" y="1558348"/>
                  <a:pt x="213164" y="1588681"/>
                  <a:pt x="220424" y="1617721"/>
                </a:cubicBezTo>
                <a:cubicBezTo>
                  <a:pt x="225953" y="1639838"/>
                  <a:pt x="237357" y="1660054"/>
                  <a:pt x="245824" y="1681221"/>
                </a:cubicBezTo>
                <a:cubicBezTo>
                  <a:pt x="250057" y="1706621"/>
                  <a:pt x="248066" y="1733890"/>
                  <a:pt x="258524" y="1757421"/>
                </a:cubicBezTo>
                <a:cubicBezTo>
                  <a:pt x="265818" y="1773834"/>
                  <a:pt x="285126" y="1781723"/>
                  <a:pt x="296624" y="1795521"/>
                </a:cubicBezTo>
                <a:cubicBezTo>
                  <a:pt x="306395" y="1807247"/>
                  <a:pt x="310105" y="1824086"/>
                  <a:pt x="322024" y="1833621"/>
                </a:cubicBezTo>
                <a:cubicBezTo>
                  <a:pt x="335041" y="1844035"/>
                  <a:pt x="420462" y="1858389"/>
                  <a:pt x="423624" y="1859021"/>
                </a:cubicBezTo>
                <a:cubicBezTo>
                  <a:pt x="440557" y="1871721"/>
                  <a:pt x="455492" y="1887655"/>
                  <a:pt x="474424" y="1897121"/>
                </a:cubicBezTo>
                <a:cubicBezTo>
                  <a:pt x="534096" y="1926957"/>
                  <a:pt x="574348" y="1924358"/>
                  <a:pt x="639524" y="1935221"/>
                </a:cubicBezTo>
                <a:cubicBezTo>
                  <a:pt x="660816" y="1938770"/>
                  <a:pt x="681857" y="1943688"/>
                  <a:pt x="703024" y="1947921"/>
                </a:cubicBezTo>
                <a:cubicBezTo>
                  <a:pt x="715724" y="1956388"/>
                  <a:pt x="727472" y="1966495"/>
                  <a:pt x="741124" y="1973321"/>
                </a:cubicBezTo>
                <a:cubicBezTo>
                  <a:pt x="772388" y="1988953"/>
                  <a:pt x="826158" y="1993843"/>
                  <a:pt x="855424" y="1998721"/>
                </a:cubicBezTo>
                <a:cubicBezTo>
                  <a:pt x="882961" y="2012490"/>
                  <a:pt x="913179" y="2030592"/>
                  <a:pt x="944324" y="2036821"/>
                </a:cubicBezTo>
                <a:cubicBezTo>
                  <a:pt x="973677" y="2042692"/>
                  <a:pt x="1003591" y="2045288"/>
                  <a:pt x="1033224" y="2049521"/>
                </a:cubicBezTo>
                <a:cubicBezTo>
                  <a:pt x="1045924" y="2053754"/>
                  <a:pt x="1060185" y="2054795"/>
                  <a:pt x="1071324" y="2062221"/>
                </a:cubicBezTo>
                <a:cubicBezTo>
                  <a:pt x="1119957" y="2094643"/>
                  <a:pt x="1099682" y="2099375"/>
                  <a:pt x="1134824" y="2138421"/>
                </a:cubicBezTo>
                <a:cubicBezTo>
                  <a:pt x="1278202" y="2297730"/>
                  <a:pt x="1170242" y="2174174"/>
                  <a:pt x="1274524" y="2265421"/>
                </a:cubicBezTo>
                <a:cubicBezTo>
                  <a:pt x="1292546" y="2281190"/>
                  <a:pt x="1308391" y="2299288"/>
                  <a:pt x="1325324" y="2316221"/>
                </a:cubicBezTo>
                <a:cubicBezTo>
                  <a:pt x="1329557" y="2328921"/>
                  <a:pt x="1331382" y="2342698"/>
                  <a:pt x="1338024" y="2354321"/>
                </a:cubicBezTo>
                <a:cubicBezTo>
                  <a:pt x="1383519" y="2433938"/>
                  <a:pt x="1369833" y="2373589"/>
                  <a:pt x="1388824" y="2443221"/>
                </a:cubicBezTo>
                <a:cubicBezTo>
                  <a:pt x="1398009" y="2476900"/>
                  <a:pt x="1394860" y="2515775"/>
                  <a:pt x="1414224" y="2544821"/>
                </a:cubicBezTo>
                <a:cubicBezTo>
                  <a:pt x="1437058" y="2579072"/>
                  <a:pt x="1443561" y="2581586"/>
                  <a:pt x="1452324" y="2621021"/>
                </a:cubicBezTo>
                <a:cubicBezTo>
                  <a:pt x="1474574" y="2721146"/>
                  <a:pt x="1455862" y="2703255"/>
                  <a:pt x="1490424" y="2824221"/>
                </a:cubicBezTo>
                <a:cubicBezTo>
                  <a:pt x="1495625" y="2842425"/>
                  <a:pt x="1507357" y="2858088"/>
                  <a:pt x="1515824" y="2875021"/>
                </a:cubicBezTo>
                <a:cubicBezTo>
                  <a:pt x="1520057" y="2900421"/>
                  <a:pt x="1523474" y="2925971"/>
                  <a:pt x="1528524" y="2951221"/>
                </a:cubicBezTo>
                <a:cubicBezTo>
                  <a:pt x="1531947" y="2968337"/>
                  <a:pt x="1538355" y="2984804"/>
                  <a:pt x="1541224" y="3002021"/>
                </a:cubicBezTo>
                <a:cubicBezTo>
                  <a:pt x="1546835" y="3035687"/>
                  <a:pt x="1548313" y="3069955"/>
                  <a:pt x="1553924" y="3103621"/>
                </a:cubicBezTo>
                <a:cubicBezTo>
                  <a:pt x="1561021" y="3146205"/>
                  <a:pt x="1573219" y="3187883"/>
                  <a:pt x="1579324" y="3230621"/>
                </a:cubicBezTo>
                <a:cubicBezTo>
                  <a:pt x="1583557" y="3260254"/>
                  <a:pt x="1586669" y="3290070"/>
                  <a:pt x="1592024" y="3319521"/>
                </a:cubicBezTo>
                <a:cubicBezTo>
                  <a:pt x="1598403" y="3354604"/>
                  <a:pt x="1606543" y="3375777"/>
                  <a:pt x="1617424" y="3408421"/>
                </a:cubicBezTo>
                <a:lnTo>
                  <a:pt x="1604724" y="3776721"/>
                </a:lnTo>
              </a:path>
            </a:pathLst>
          </a:custGeom>
          <a:noFill/>
          <a:ln w="25560">
            <a:solidFill>
              <a:srgbClr val="00b05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ovéPole 55"/>
          <p:cNvSpPr/>
          <p:nvPr/>
        </p:nvSpPr>
        <p:spPr>
          <a:xfrm>
            <a:off x="152280" y="47242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sta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0" name="Přímá spojovací šipka 59"/>
          <p:cNvCxnSpPr>
            <a:stCxn id="299" idx="0"/>
          </p:cNvCxnSpPr>
          <p:nvPr/>
        </p:nvCxnSpPr>
        <p:spPr>
          <a:xfrm flipH="1" flipV="1">
            <a:off x="609120" y="4343040"/>
            <a:ext cx="496080" cy="38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1" name="Přímá spojovací šipka 61"/>
          <p:cNvCxnSpPr>
            <a:stCxn id="299" idx="0"/>
          </p:cNvCxnSpPr>
          <p:nvPr/>
        </p:nvCxnSpPr>
        <p:spPr>
          <a:xfrm flipV="1">
            <a:off x="1104480" y="4343040"/>
            <a:ext cx="343800" cy="38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2" name="TextovéPole 62"/>
          <p:cNvSpPr/>
          <p:nvPr/>
        </p:nvSpPr>
        <p:spPr>
          <a:xfrm>
            <a:off x="152280" y="5410080"/>
            <a:ext cx="441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B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cs-CZ" sz="2800" spc="-1" strike="noStrike" baseline="-25000">
                <a:solidFill>
                  <a:srgbClr val="ff0000"/>
                </a:solidFill>
                <a:latin typeface="Arial"/>
              </a:rPr>
              <a:t>C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cs-CZ" sz="2800" spc="-1" strike="noStrike" baseline="-25000">
                <a:solidFill>
                  <a:srgbClr val="ff0000"/>
                </a:solidFill>
                <a:latin typeface="Arial"/>
              </a:rPr>
              <a:t>RB1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5T23:31:44Z</dcterms:created>
  <dc:creator>Erda</dc:creator>
  <dc:description/>
  <dc:language>en-US</dc:language>
  <cp:lastModifiedBy>Erda</cp:lastModifiedBy>
  <dcterms:modified xsi:type="dcterms:W3CDTF">2014-10-28T20:29:35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